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0908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024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2E7B-ABA5-4DE9-A623-91A893CEB63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444D-844C-486F-8A70-863F1D9FDC9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D645-B21C-46C9-846D-FE3BBA64BF7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4A52-0CF0-46ED-BFB5-4CA2F5328DE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2587-A939-495E-BF88-216CD139B18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E1764-8D70-431F-A109-67E761E26BA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BE98-6210-4A71-A177-5471159EC91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E2D8-0692-42B4-BB52-DD091455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CB18-DA14-4B79-B5A3-BAD7DE01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A60-0998-47C4-9AA1-CB0D225E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23BD-CCEB-479D-BAF2-38A284E4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F6C9-07B1-4FCB-AAC6-D53370F85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4984-70DD-471F-BD54-3E4973D7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6052-68B1-4C6F-8C4C-666CC400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DE2C-097E-4BFF-A78D-6C21EC775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2656-ACFF-49BE-9939-FAFF785D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CB39-F5F8-49B7-9239-D21080F0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49C87-0F60-41BA-A00F-8E292A96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1BEF-13F2-4D87-9770-62A62770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01D6-AF52-414B-B4C8-B15CCC048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5FB05-47B1-4955-A92A-553602EF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07DE-DE37-42B1-9917-4D76B7B86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75FCA-6427-4431-8980-3C0AD254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85CD3-C1B5-48D4-B5EE-F6D8874FD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5C21-7D3B-44D9-AC88-6541E84C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7D3-8C88-4916-A66C-3D929B1C6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CDA-AC44-4B2B-903A-CF17889A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F84C-9A7E-489A-B539-AF7063B7F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B5D6-FBC6-437F-A5BE-D95160AA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CE3D-4E5F-4A30-93E4-2894FA61C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0F86-75B7-48F8-9660-C0134BA9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99675-BAFF-48FC-A5D9-EE1B0A57F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8E0A-5EC6-42E9-ABA7-882D8A298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3366"/>
                </a:solidFill>
                <a:latin typeface="Times New Roman"/>
              </a:rPr>
              <a:t>Assess Performa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nage Peopl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etting the climate for the int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tage 1: Create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t at 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lking fre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the purpose of the interview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 discussion about the employe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 performance and pla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ine the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2: The body of the intervie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job performance against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ould have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ctu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credit and praise wher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inforce what wen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ckle any problem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cify, in terms of quantity, quality, cost, time and safety, the targets which were not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 did it go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erve your judgment. Seek the employe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 diagnosi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structive criticism and note positive ideas for follow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done to impr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positive guidance/coaching/counselling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gree on targets for the next review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member to listen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appraisee should be doing most of the t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3: Final summ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a positive round-up of the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firm the main points covered and the action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ew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down agreed joint action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ppraisee should leave feeling confident that you have appreciated strong points and contributions made to the de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genuine praise and constructive criticism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void cli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4: Follow-up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Keep any promises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Show a continuing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Keep up the two-way communication with regular informal apprai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mmendations in light of recent court hearing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ating must be job related- and developed through valid job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be given information in advance abou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ble to obser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s must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cussed op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appeal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 to th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360 degree feedback-covers all the ang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ers an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to write a quick memo to staff explaining what will be happening in the interview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66"/>
                </a:solidFill>
                <a:latin typeface="Times New Roman"/>
              </a:rPr>
              <a:t>Advantages to Staff and the organisation from the appraisal intervie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to employees/ m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eer planning training and development need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et for grie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on recruit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urce of info for wag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ns of maintaining perform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3366"/>
                </a:solidFill>
                <a:latin typeface="Times New Roman"/>
              </a:rPr>
              <a:t>Problems in performance appraisals</a:t>
            </a: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ensive behaviour by ap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criteria for 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ss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preparation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al vs informal system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, pat on the back or KITA, annual or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written notes an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mon rater error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 with analyz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human error, bias, seeing what you want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tyle of appraisal contributes or overcomes rater err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tive rankings, graphic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ced choice essay style appraisals. All lead to rat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haviourally anchored rating scales are good for large numbers of similar staff eg bank te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lly developed goal based overcome bias and su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e positive side of a person- halo effect inflates the percei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endency- - more towards the centre rather than adopt an extreme position of unsatisfactory- What is the effec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ency/ strictness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wants to be seen as having great employees- tolerates below standard performance or not reaching required standard- worries about employees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 on most rec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/ prejudice- distortion of appraisal, judging on what is considered typical for particular groups eg accountants have no personality, blonds, Irish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- ha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one anything about the problems or Upsetting the apple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c statements always,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organizational commitment to apprais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How can some of these problems be overcom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standards and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knowledge about job requirements and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 sets standard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 recording incidents -good and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communicatio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609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25:18Z</dcterms:created>
  <dc:creator>Stephen Ford</dc:creator>
  <dc:description/>
  <dc:language>en-US</dc:language>
  <cp:lastModifiedBy>Steve Ford</cp:lastModifiedBy>
  <dcterms:modified xsi:type="dcterms:W3CDTF">2010-03-01T22:21:14Z</dcterms:modified>
  <cp:revision>4</cp:revision>
  <dc:subject/>
  <dc:title>Assess Performance</dc:title>
</cp:coreProperties>
</file>