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3400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832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00240" y="0"/>
            <a:ext cx="2981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04436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910908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0024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4973-5B2C-49A2-8FFB-1415A4C9A64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917E-1535-4507-8187-622C51F2A79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D842-025D-4770-AF54-ED1D9D12312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0BE6-F33F-4D53-8444-CC10129E128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CC94-2BA8-43D3-BB89-E486426FC73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0F13-7BAE-48A9-A4C1-94FE67F7377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9A4E-5C90-46D5-9D2D-1857152F3EE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89D-7AB7-4D3D-8917-FA6D0A59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606-1716-4B84-A749-752401BC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B3E-16EB-4E53-AC6C-8FE62523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90E-8132-4A15-BC3B-EFC25B4A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8FF9-F12B-4394-B11A-80E6D5E5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7290-73F1-4A1C-B539-D4256870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B6F6-1364-4BF9-AC9A-CE223D9E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4D2F-DF8B-497E-A358-FBE4DD06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424E-19CC-4130-A89F-9A203353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8303-09AF-4237-8E4B-431E94C4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44CD-C14F-4E8C-8EAF-3F539CA4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1D8-017F-4E2C-B67E-7D0CF743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501B-0EC5-4CB2-A077-3252E762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005F-5EF4-44CC-AD8B-60E6E146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4090-A9F4-4C8A-AF26-91B8C78C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1977-C662-468C-A414-8708EC51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7E11-8AB5-4F6F-A6D8-D544824E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942-C29D-442A-824E-DD20A63E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3FB-1808-465C-8681-2B397446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A0D-0877-4368-8D69-0621355F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F9A-0774-46BF-9D7C-45BB5034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79C-9E7C-44F1-A4D9-8EA0C43A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4D8-9948-4CDB-99CD-74154CCB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19E-E0B6-4EEA-BC4A-C7E95FE0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0A47-C138-4EE5-A1CD-E97B64D52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510A-9CF2-438F-B253-950039855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3366"/>
                </a:solidFill>
                <a:latin typeface="Times New Roman"/>
              </a:rPr>
              <a:t>Assess Performanc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anage People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Setting the climate for the int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Stage 1: Create the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ut at 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ax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alking fre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the purpose of the interview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a discussion about the employee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 performance and plans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utline the int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2: The body of the interview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job performance against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ould have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actually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credit and praise where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inforce what went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ackle any problem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cify, in terms of quantity, quality, cost, time and safety, the targets which were not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y did it go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serve your judgment. Seek the employee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 diagnosi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courage constructive criticism and note positive ideas for follow-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can be done to impr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positive guidance/coaching/counselling if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gree on targets for the next review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Remember to listen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the appraisee should be doing most of the tal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3: Final summar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ke a positive round-up of the discu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firm the main points covered and the action ag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view pri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rite down agreed joint action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ppraisee should leave feeling confident that you have appreciated strong points and contributions made to the de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genuine praise and constructive criticism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void cli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4: Follow-up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Keep any promises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Show a continuing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Keep up the two-way communication with regular informal apprai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ommendations in light of recent court hearing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ating must be job related- and developed through valid job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s to be given information in advance abou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ble to observe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ors must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discussed ope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n appeals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 procedu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 it to the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360 degree feedback-covers all the angl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mmediate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ers and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rec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direc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n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rn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l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to write a quick memo to staff explaining what will be happening in the interview proc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3366"/>
                </a:solidFill>
                <a:latin typeface="Times New Roman"/>
              </a:rPr>
              <a:t>Advantages to Staff and the organisation from the appraisal interview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7324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edback to employees/ m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reer planning training and development need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utlet for grie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edback on recruitment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ource of info for wage 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ns of maintaining performanc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3366"/>
                </a:solidFill>
                <a:latin typeface="Times New Roman"/>
              </a:rPr>
              <a:t>Problems in performance appraisals</a:t>
            </a: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eral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fensive behaviour by appra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ing criteria for performanc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sonal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ss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preparation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ormal vs informal system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, pat on the back or KITA, annual or mon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written notes and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mmon rater error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problems with analyz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f human error, bias, seeing what you want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Style of appraisal contributes or overcomes rater err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aritive rankings, graphic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ced choice essay style appraisals. All lead to rater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ehaviourally anchored rating scales are good for large numbers of similar staff eg bank tell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mally developed goal based overcome bias and subj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e positive side of a person- halo effect inflates the percei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n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tendency- - more towards the centre rather than adopt an extreme position of unsatisfactory- What is the effect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ency/ strictness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 wants to be seen as having great employees- tolerates below standard performance or not reaching required standard- worries about employees pay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ges on most recen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/ prejudice- distortion of appraisal, judging on what is considered typical for particular groups eg accountants have no personality, blonds, Irish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- hav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one anything about the problems or Upsetting the applec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ic statements always, 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organizational commitment to appraisal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How can some of these problems be overcome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standards and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knowledge about job requirements and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 sets standard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es recording incidents -good and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 of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st communication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523880" y="60948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21:25:18Z</dcterms:created>
  <dc:creator>Stephen Ford</dc:creator>
  <dc:description/>
  <dc:language>en-US</dc:language>
  <cp:lastModifiedBy>Steve Ford</cp:lastModifiedBy>
  <dcterms:modified xsi:type="dcterms:W3CDTF">2010-03-01T22:21:14Z</dcterms:modified>
  <cp:revision>4</cp:revision>
  <dc:subject/>
  <dc:title>Assess Performance</dc:title>
</cp:coreProperties>
</file>