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832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00240" y="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4436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910908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0024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0E97D-580B-437D-8996-110264F44387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6FE6-2B68-45F9-8822-74AABA2EA99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4261-5A94-4C43-8639-896EECAE2D6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3A50-3B21-4E33-BD3D-339A5366F76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D5D6A-40E4-4C8C-BD22-A9D7547A46DA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0D5DD-6675-4233-969F-68F557D3D5D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6897-87BD-4372-BD32-00BC72F7FD4E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4F52-5C76-4626-81C9-21BC260D2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71CB-4DD8-471F-888F-0C53D814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394A-BCE3-42D3-83E9-816FF5C0E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0A0C-D81E-4AD3-86A1-5669BC14D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051A4-E129-4132-87F1-948F85E81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6A296-72C5-455F-9DF8-AB5C4F2CB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BD6EB-7BCB-4B34-8333-F90424E5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F1C2-27D0-47E6-B721-4D867902C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5573B-DE83-449A-8513-AEAC95242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F8703-5DCA-4DAF-B0EC-6647A3CD2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210A6-EE24-4490-BCB5-ECF7AB32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3EA4-C000-4CE7-B256-4E579615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1BAF-0EE1-4D15-9A9B-71F7F67B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949E-2342-41A4-B4FE-A8A8EAA6D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92DF9-A62E-4633-843C-ED9FD0481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41562-C18E-4F9F-9927-3FDBE9EDF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BC81E-CB48-4F25-81D2-8CDF546F7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57B8-A2E5-42CC-84D3-7B950111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D38A-3B1A-4B4D-91A4-E8FE13E7F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1782-3C2C-4861-806F-69DE8D03D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F5E4-6E00-4DCF-B352-97EE87498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F118-1377-4F54-AC26-79FF71145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DF7-DA8F-4B18-A6E1-55BFF5D4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016D-8A6D-46B2-9DD3-CF2617704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9A51C-CCB8-4B69-8B7B-27774969FB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0210-3E8B-4108-8294-3073DF385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3366"/>
                </a:solidFill>
                <a:latin typeface="Times New Roman"/>
              </a:rPr>
              <a:t>Assess Performanc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anage People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etting the climate for the int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tage 1: Create the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ut at 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x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lking fre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the purpose of the interview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 discussion about the employe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 performance and plans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ine the int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2: The body of the interview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job performance against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ould have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actually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credit and praise where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inforce what went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ackle any problem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cify, in terms of quantity, quality, cost, time and safety, the targets which were not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y did it go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erve your judgment. Seek the employe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 diagnosi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courage constructive criticism and note positive ideas for follow-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can be done to impr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positive guidance/coaching/counselling 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gree on targets for the next review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Remember to listen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the appraisee should be doing most of the tal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3: Final summ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ke a positive round-up of the discu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firm the main points covered and the action 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view pri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rite down agreed joint action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ppraisee should leave feeling confident that you have appreciated strong points and contributions made to the de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genuine praise and constructive criticism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void cli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4: Follow-up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Keep any promises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Show a continuing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Keep up the two-way communication with regular informal apprai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ommendations in light of recent court hearing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ating must be job related- and developed through valid job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to be given information in advance abou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ble to observe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s must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discussed ope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n appeals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 proced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 it to the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360 degree feedback-covers all the angl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mmediate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ers and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to write a quick memo to staff explaining what will be happening in the interview pro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3366"/>
                </a:solidFill>
                <a:latin typeface="Times New Roman"/>
              </a:rPr>
              <a:t>Advantages to Staff and the organisation from the appraisal interview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7324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to employees/ m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reer planning training and development need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et for grie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on recruitment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urce of info for wag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ns of maintaining performanc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3366"/>
                </a:solidFill>
                <a:latin typeface="Times New Roman"/>
              </a:rPr>
              <a:t>Problems in performance appraisals</a:t>
            </a: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l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fensive behaviour by appra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ing criteria for performanc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onal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ss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preparation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ormal vs informal system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, pat on the back or KITA, annual or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written notes and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mmon rater error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problems with analyz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f human error, bias, seeing what you want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tyle of appraisal contributes or overcomes rater err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aritive rankings, graphic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ced choice essay style appraisals. All lead to rater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haviourally anchored rating scales are good for large numbers of similar staff eg bank tell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lly developed goal based overcome bias and subj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e positive side of a person- halo effect inflates the percei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n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tendency- - more towards the centre rather than adopt an extreme position of unsatisfactory- What is the effect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ency/ strictness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 wants to be seen as having great employees- tolerates below standard performance or not reaching required standard- worries about employees pay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ges on most recen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/ prejudice- distortion of appraisal, judging on what is considered typical for particular groups eg accountants have no personality, blonds, Irish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- hav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one anything about the problems or Upsetting the applec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ic statements always,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organizational commitment to appraisal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How can some of these problems be overcome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standards and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knowledge about job requirements and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 sets standard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 recording incidents -good and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 of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st communication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523880" y="6094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1:25:18Z</dcterms:created>
  <dc:creator>Stephen Ford</dc:creator>
  <dc:description/>
  <dc:language>en-US</dc:language>
  <cp:lastModifiedBy>Steve Ford</cp:lastModifiedBy>
  <dcterms:modified xsi:type="dcterms:W3CDTF">2010-03-01T22:21:14Z</dcterms:modified>
  <cp:revision>4</cp:revision>
  <dc:subject/>
  <dc:title>Assess Performance</dc:title>
</cp:coreProperties>
</file>