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83400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832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900240" y="0"/>
            <a:ext cx="2981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044360" y="719280"/>
            <a:ext cx="47941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0" y="9109080"/>
            <a:ext cx="29829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90024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F7A3-3B80-4FCA-9968-D0E042099FF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ADC5-16B0-458C-9412-C3843BAE51C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74A1-EED3-49B3-929E-797B66708AD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7BC6-1CE1-4699-A6ED-220A574235C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8B61-D1D3-44E0-B468-04D4EF792F32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5E40-722A-4DAD-A795-0481F396616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92AF-4F8C-4744-8C3A-C09DCCEA157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C066-5AD2-43CF-A16E-54FE76EB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BF28-35AA-4EEC-9227-1902CE29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86AB-E560-46DF-AEEA-3533C6E6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AD48-21A5-485E-9012-83095BAC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A972-CF91-483F-BE92-56880178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7EAA-3B13-4A90-B28F-C3F4B46A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D5B6-90B5-4925-B4DC-42D2D5C9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9882-291A-423F-B2B9-448B20C2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43CA-55E4-4D41-9044-23C103C4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BA62-98A5-4918-996C-F536E0C2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6502-238A-456D-9AD5-CAB1E69A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85E2-FC64-4B64-BDC2-B916F790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23F6-51D6-4519-8F49-DE756C8B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890D-E8F5-4E17-BEAC-3C4C46A6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2C22-A138-4158-B3F4-34258AA0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1A87-9187-4663-83EE-50BA1CC8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6925-A4FE-4CD9-B373-4F55A80C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E835-5735-471C-92DF-E192E15D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A310-6DBC-4D48-BB48-6FF178A3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4CCA-3A8D-48C5-93C1-18AF7674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6ED1-BEA9-4AFC-921D-9676CED4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7D72-55F0-40B5-8DAC-FAB14889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B8A-106F-4BE2-8AF8-51F20962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BA9C-B6E0-4F34-851E-8A3CEC55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2920" y="-4680"/>
                <a:ext cx="987480" cy="683532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1480" y="1694880"/>
                <a:ext cx="98748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3280" y="1285920"/>
                <a:ext cx="98748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3280" y="149400"/>
                <a:ext cx="98748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1480" y="987120"/>
                <a:ext cx="98748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3280" y="681120"/>
                <a:ext cx="987480" cy="4316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3640" y="372600"/>
                <a:ext cx="100008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760" y="3938040"/>
                <a:ext cx="987480" cy="4996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3200" y="3534840"/>
                <a:ext cx="98748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3560" y="2395800"/>
                <a:ext cx="987480" cy="304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3200" y="3231360"/>
                <a:ext cx="987480" cy="3484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3200" y="2929320"/>
                <a:ext cx="98748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920" y="2617920"/>
                <a:ext cx="100008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9800"/>
                <a:ext cx="9871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480"/>
                <a:ext cx="987480" cy="503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200"/>
                <a:ext cx="98748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000"/>
                <a:ext cx="9871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1760"/>
                <a:ext cx="1000080" cy="375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6319-DD77-4697-89B4-4FB910973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20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084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6280" y="2775600"/>
                <a:ext cx="990360" cy="404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248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5160" y="2775240"/>
                <a:ext cx="99036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100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2882-741E-4B6B-8FEC-D1BFE6668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29492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3366"/>
                </a:solidFill>
                <a:latin typeface="Times New Roman"/>
              </a:rPr>
              <a:t>Assess Performance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Manage People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Setting the climate for the int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Stage 1: Create the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ut at e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lax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alking fre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view the purpose of the interview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a discussion about the employee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 performance and plans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utline the inter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3366"/>
                </a:solidFill>
                <a:latin typeface="Arial"/>
                <a:ea typeface="Arial"/>
              </a:rPr>
              <a:t>Stage 2: The body of the interview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view job performance against targ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should have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actually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ive credit and praise where 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inforce what went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ackle any problem a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went w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cify, in terms of quantity, quality, cost, time and safety, the targets which were not m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y did it go w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serve your judgment. Seek the employee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 diagnosis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ncourage constructive criticism and note positive ideas for follow-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can be done to impro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ive positive guidance/coaching/counselling if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gree on targets for the next review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Remember to listen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the appraisee should be doing most of the tal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3366"/>
                </a:solidFill>
                <a:latin typeface="Arial"/>
                <a:ea typeface="Arial"/>
              </a:rPr>
              <a:t>Stage 3: Final summar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ke a positive round-up of the discu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nfirm the main points covered and the action agr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view pri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rite down agreed joint action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appraisee should leave feeling confident that you have appreciated strong points and contributions made to the depar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 genuine praise and constructive criticism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void clich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3366"/>
                </a:solidFill>
                <a:latin typeface="Arial"/>
                <a:ea typeface="Arial"/>
              </a:rPr>
              <a:t>Stage 4: Follow-up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.Keep any promises you hav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.Show a continuing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3.Keep up the two-way communication with regular informal apprai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commendations in light of recent court hearing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rating must be job related- and developed through valid job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s to be given information in advance about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able to observe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ors must be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discussed ope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n appeals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a procedu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 it to the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360 degree feedback-covers all the angle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mmediate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eers and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irect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direct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ternal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ternal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lf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udents to write a quick memo to staff explaining what will be happening in the interview proc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3366"/>
                </a:solidFill>
                <a:latin typeface="Times New Roman"/>
              </a:rPr>
              <a:t>Advantages to Staff and the organisation from the appraisal interview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7324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eedback to employees/ m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reer planning training and development needs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utlet for griev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eedback on recruitment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ource of info for wage 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eans of maintaining performance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3366"/>
                </a:solidFill>
                <a:latin typeface="Times New Roman"/>
              </a:rPr>
              <a:t>Problems in performance appraisals</a:t>
            </a: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eneral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fensive behaviour by appra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ing criteria for performanc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ersonal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ss of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 preparation for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naging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ormal vs informal system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, pat on the back or KITA, annual or mont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written notes and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mmon rater error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problems with analyzing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of human error, bias, seeing what you want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Style of appraisal contributes or overcomes rater erro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aritive rankings, graphic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ced choice essay style appraisals. All lead to rater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ehaviourally anchored rating scales are good for large numbers of similar staff eg bank tell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mally developed goal based overcome bias and subj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o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ly on the positive side of a person- halo effect inflates the perceiv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ns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tendency- - more towards the centre rather than adopt an extreme position of unsatisfactory- What is the effect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isfac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iency/ strictness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r wants to be seen as having great employees- tolerates below standard performance or not reaching required standard- worries about employees pay 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ges on most recent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as/ prejudice- distortion of appraisal, judging on what is considered typical for particular groups eg accountants have no personality, blonds, Irish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r- hav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done anything about the problems or Upsetting the applec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ic statements always, n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organizational commitment to appraisal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How can some of these problems be overcome?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standards and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knowledge about job requirements and 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 sets standards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ies recording incidents -good and 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 of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est communication before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523880" y="60948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21:25:18Z</dcterms:created>
  <dc:creator>Stephen Ford</dc:creator>
  <dc:description/>
  <dc:language>en-US</dc:language>
  <cp:lastModifiedBy>Steve Ford</cp:lastModifiedBy>
  <dcterms:modified xsi:type="dcterms:W3CDTF">2010-03-01T22:21:14Z</dcterms:modified>
  <cp:revision>4</cp:revision>
  <dc:subject/>
  <dc:title>Assess Performance</dc:title>
</cp:coreProperties>
</file>