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83400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8832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3900240" y="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Img"/>
          </p:nvPr>
        </p:nvSpPr>
        <p:spPr>
          <a:xfrm>
            <a:off x="1044360" y="719280"/>
            <a:ext cx="4794120" cy="35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960" rIns="9396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8"/>
          </p:nvPr>
        </p:nvSpPr>
        <p:spPr>
          <a:xfrm>
            <a:off x="0" y="9109080"/>
            <a:ext cx="29829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 type="sldNum" idx="9"/>
          </p:nvPr>
        </p:nvSpPr>
        <p:spPr>
          <a:xfrm>
            <a:off x="390024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790B5-3E46-437A-A8C5-AF3F5BD2CEC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622AF-A09E-48A7-BA68-4D6814F0ACE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E0A2-0BE7-4679-AB5A-2376D01E80E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A98E2-E7FA-4E0E-94DE-F8766FF93C70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6DC0-C395-40FA-B296-29D971B070A6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88D4-6058-4FCB-B4BE-0AD0B7861F5B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900600" y="9109080"/>
            <a:ext cx="2981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7160" bIns="471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D143-8A00-4E54-BCB1-1146DEC644AD}" type="slidenum"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04472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7640" y="4554360"/>
            <a:ext cx="5046480" cy="43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1325-AC7F-4D15-9F57-3CA0E38F0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F0AC-D81A-46B7-90DF-DF62FCBC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2DD3-2913-4735-AF94-9A1CFA283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B542-5089-4FF2-AAC4-807684238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7AE09-818D-4736-B558-CFAB561A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D1C16-A7EC-40C9-8207-AF328CB1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BB903-DFF6-4AA5-882A-89BC566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5C8E2-22C9-4940-A829-310A2C40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56BD-9674-4C83-A28C-C90280EF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91F1-2500-4167-BC99-EB5B9EF85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0F77B-3B3C-4604-8168-072EB63BC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4C1-83A7-480C-8A2B-2766B953C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75E4C-FA4F-4C88-8AC6-BF72E23D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7F888-8C27-4E4B-818B-D068D0D9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FC80-A3E7-4A13-B817-0CF428CC7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31D50-8001-4D9E-9D11-9D334994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FF582-C277-42CB-A086-D657A15E3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30C6-78E9-47DE-B69D-25017AA19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035B-E377-40E0-A9B9-ACB644DD5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E83B-17B5-42AE-89AA-BF176AA8D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9D5F-D8D1-4C61-BD87-D210A10D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5A8-6B6C-49C4-98B0-D78FF2B9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25D0-A5BA-486E-8603-E26E5A15D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72274-9718-4645-B578-72567FB38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F8648-9498-4749-A0D8-02CAB4C4D8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prstGeom prst="pie">
                <a:avLst/>
              </a:pr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prstGeom prst="pie">
                <a:avLst/>
              </a:pr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prstGeom prst="pie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prstGeom prst="pie">
                <a:avLst/>
              </a:pr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prstGeom prst="pie">
                <a:avLst/>
              </a:pr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prstGeom prst="pie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A769B-0D30-4FDC-BE89-86785A92E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73240" y="1294920"/>
            <a:ext cx="7772400" cy="118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7200" spc="-1" strike="noStrike">
                <a:solidFill>
                  <a:srgbClr val="003366"/>
                </a:solidFill>
                <a:latin typeface="Times New Roman"/>
              </a:rPr>
              <a:t>Assess Performanc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667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00"/>
                </a:solidFill>
                <a:latin typeface="Arial"/>
              </a:rPr>
              <a:t>Manage People Perform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etting the climate for the interview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3200" spc="-1" strike="noStrike">
                <a:solidFill>
                  <a:srgbClr val="000000"/>
                </a:solidFill>
                <a:latin typeface="Arial"/>
                <a:ea typeface="Arial"/>
              </a:rPr>
              <a:t>Stage 1: Create the clim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ut at eas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laxe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alking free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the purpose of the interview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a discussion about the employee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 performance and plans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ine the int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2: The body of the interview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view job performance against targ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should have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What actually happen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credit and praise where d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Reinforce what went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30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ackle any problem are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pecify, in terms of quantity, quality, cost, time and safety, the targets which were not m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y did it go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serve your judgment. Seek the employee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s diagnosis fir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Encourage constructive criticism and note positive ideas for follow-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hat can be done to impr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Give positive guidance/coaching/counselling if necessa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Agree on targets for the next review perio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Arial"/>
              </a:rPr>
              <a:t>Remember to listen 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 the appraisee should be doing most of the tal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3: Final summary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ke a positive round-up of the discus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onfirm the main points covered and the action agre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Review priori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Write down agreed joint action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The appraisee should leave feeling confident that you have appreciated strong points and contributions made to the depart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Use genuine praise and constructive criticism </a:t>
            </a: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avoid clich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4400" spc="-1" strike="noStrike">
                <a:solidFill>
                  <a:srgbClr val="003366"/>
                </a:solidFill>
                <a:latin typeface="Arial"/>
                <a:ea typeface="Arial"/>
              </a:rPr>
              <a:t>Stage 4: Follow-up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1.Keep any promises you have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2.Show a continuing intere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3.Keep up the two-way communication with regular informal apprais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Recommendations in light of recent court hearing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ance rating must be job related- and developed through valid job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ees to be given information in advance about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be able to observe behavi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ervisors must be train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aisal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e discussed open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n appeals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a procedur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llow it to the le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360 degree feedback-covers all the angles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mmediate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Peers and collea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direct rep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In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External custo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elf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tudents to write a quick memo to staff explaining what will be happening in the interview proces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3366"/>
                </a:solidFill>
                <a:latin typeface="Times New Roman"/>
              </a:rPr>
              <a:t>Advantages to Staff and the organisation from the appraisal interview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173240" y="1642680"/>
            <a:ext cx="777240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to employees/ mg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areer planning training and development needs ident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Outlet for griev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eedback on recruitment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Source of info for wage r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Means of maintaining performance stand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4400" spc="-1" strike="noStrike">
                <a:solidFill>
                  <a:srgbClr val="003366"/>
                </a:solidFill>
                <a:latin typeface="Times New Roman"/>
              </a:rPr>
              <a:t>Problems in performance appraisals</a:t>
            </a: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General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Defensive behaviour by appra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Changing criteria for performance e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Personal b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Loss of cred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No preparation for the fu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Managing confl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Formal vs informal systems</a:t>
            </a: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l, pat on the back or KITA, annual or month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written notes and int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Common rater errors</a:t>
            </a: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problems with analyzing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of human error, bias, seeing what you want to 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Style of appraisal contributes or overcomes rater error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Comparitive rankings, graphic sc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ced choice essay style appraisals. All lead to rater err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Behaviourally anchored rating scales are good for large numbers of similar staff eg bank tell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Formally developed goal based overcome bias and subje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o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ly on the positive side of a person- halo effect inflates the perceiv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ns ef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 tendency- - more towards the centre rather than adopt an extreme position of unsatisfactory- What is the effect o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tisfacto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iency/ strictness b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wants to be seen as having great employees- tolerates below standard performance or not reaching required standard- worries about employees pay r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nt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dges on most recent perform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as/ prejudice- distortion of appraisal, judging on what is considered typical for particular groups eg accountants have no personality, blonds, Irish et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ar- hav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done anything about the problems or Upsetting the applec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egoric statements always, ne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ck of organizational commitment to appraisal sys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3366"/>
                </a:solidFill>
                <a:latin typeface="Times New Roman"/>
              </a:rPr>
              <a:t>How can some of these problems be overcome?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standards and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knowledge about job requirements and 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R sets standards 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ries recording incidents -good and b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wareness of b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communication before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523880" y="609480"/>
            <a:ext cx="6934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21:25:18Z</dcterms:created>
  <dc:creator>Stephen Ford</dc:creator>
  <dc:description/>
  <dc:language>en-US</dc:language>
  <cp:lastModifiedBy>Steve Ford</cp:lastModifiedBy>
  <dcterms:modified xsi:type="dcterms:W3CDTF">2010-03-01T22:21:14Z</dcterms:modified>
  <cp:revision>4</cp:revision>
  <dc:subject/>
  <dc:title>Assess Performance</dc:title>
</cp:coreProperties>
</file>