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5221-90EB-4BB0-B649-F119256B6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70D6-FBA2-40A9-AC77-391C6594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FF67-7547-4ED1-84BF-889951274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59C-93D4-49AA-966A-69C4F491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88BB-124B-40EE-98CF-63C0191E8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0979-EFCF-499D-AD62-A0E5CC286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8AE4-3639-4113-B996-352F2C18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4CFC-E448-48B4-A7D5-03B3433D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C41E-FB95-4EC4-992D-EDF954CF8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52FB-6783-4977-A8B9-C558AA68E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788A-3942-41E7-9531-BBD1AE51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6B76-1EBC-49D0-A3B5-3C01F1C63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4B1C7-3DEC-4A4D-943B-F01CB45F12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psc.gov.au/publications06/workforce%20planningquestions.htm" TargetMode="External"/><Relationship Id="rId2" Type="http://schemas.openxmlformats.org/officeDocument/2006/relationships/hyperlink" Target="http://www.apsc.gov.au/publications06/workforce%20planningquestion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ltation with managers on workfor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urrent and anticipated workload iss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want more or less of in your work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capa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ing needs 12 months, 3,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kill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in critical jo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Development time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up evidence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work requirements chang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es the work still need to be do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the work being done aligned to organisational strateg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will work flow into each part of the organisa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we structured the right wa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there changes planned to the location of work? (eg virtual offices, relocations, telework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taff shortages in particular areas of wor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mployees have the required skills and capabili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knowledge transferred and how long does it take to develop ‘critical skill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kills are no longer required, or will no longer be required in the futu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‘gap’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gap between demand and suppl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ndertake a risk assessment of critical workforce issues and/or skills gaps in order to focus workforce planning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necessary changes to the nature or composition of the workforce to meet the targeted (desired)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sess where org’n needs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psc.gov.au/publications06/workforce planningquestions.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Accessed 7/9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factors are both external and internal and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:Political, legislative, compliance, economic, labour market, social, policy, technology, environment, educational, recruitment competition, comparative pay rates, service expectations, sector/industry-wid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nal: mission/vision, culture and values, current business drivers, business challenges, structure, resources, knowledge management, new productss/service demands,performance indicators, customer feedba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vailable organisational informati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the data with relevant manage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wo or three possible scena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ikelihood and impact of each scenario occurrin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desired futu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derstanding of scenarios to feed into workforce planning efforts and strateg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-check and amend scenarios as necessary and modify relevant workforce plann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road environmental factors that may impact on the current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likely future conditions or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key roles and job categories (e.g. positions, classifications, skills and professions) for business su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critical factors impacting on capacity/capability of the future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line experts and key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isk of ‘doing noth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emands are likely on the business in next 5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jobs for business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current work aligned with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ld improvements be made to structure of organisation or your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ly-side fact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access critical staffing information (eg recruitment, retention, attri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rend data for key roles and job categories (e.g. positions, classifications, skills and profess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urrent levels of capability (including cult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what your workforce looks like(eg retirements, age, turnover 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bilities make your key jobs critical? (technical/generic/leader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evels of cap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tch between capability and current business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mand-side fa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urrent and anticipated workload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consider current and future occupational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iority capabilities now and into the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2:56:46Z</dcterms:created>
  <dc:creator>Stephen Ford</dc:creator>
  <dc:description/>
  <dc:language>en-US</dc:language>
  <cp:lastModifiedBy>Stephen Ford</cp:lastModifiedBy>
  <dcterms:modified xsi:type="dcterms:W3CDTF">2009-04-26T23:07:34Z</dcterms:modified>
  <cp:revision>1</cp:revision>
  <dc:subject/>
  <dc:title>Consultation with managers on workforce planning</dc:title>
</cp:coreProperties>
</file>