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8F4-7911-4A2B-9E02-2AF8EACE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8F6-46F4-4B09-A9FB-D0ABDAE6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B1D-F560-49E5-BAA4-6878994E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E73-590F-4BC4-98D0-A7741555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6C4-3EFC-47E4-874C-C813C12A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D4D-D81E-4EFB-9F09-3799E275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E23-6C5C-4541-84EA-F4D2F5E4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C62-78F8-4F94-970A-04446B9C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A95A-EEDC-47CD-A9B0-E7E889AA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5C7-94D8-45FE-938C-E48527DD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93B-F8F0-4D10-86DB-A163D480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38E-E616-474A-8647-5ADD545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16DC-BAB1-42B8-B8F6-5A4525AA3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psc.gov.au/publications06/workforce%20planningquestions.htm" TargetMode="External"/><Relationship Id="rId2" Type="http://schemas.openxmlformats.org/officeDocument/2006/relationships/hyperlink" Target="http://www.apsc.gov.au/publications06/workforce%20planningquestions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ltation with managers on workforce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and sid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current and anticipated workload iss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want more or less of in your workfo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capabi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ing needs 12 months, 3, 5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 shor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skil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skills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 in critical job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 Development time li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 poi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 up evidence for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ave work requirements chang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oes the work still need to be don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s the work being done aligned to organisational strateg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will work flow into each part of the organisatio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re we structured the right wa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re there changes planned to the location of work? (eg virtual offices, relocations, telework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staff shortages in particular areas of wor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employees have the required skills and capabilitie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s knowledge transferred and how long does it take to develop ‘critical skills’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kills are no longer required, or will no longer be required in the futur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the ‘gap’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dentify the gap between demand and supply fac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Undertake a risk assessment of critical workforce issues and/or skills gaps in order to focus workforce planning eff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dentify the necessary changes to the nature or composition of the workforce to meet the targeted (desired)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ssess where org’n needs time to 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AU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apsc.gov.au/publications06/workforce planningquestions.</a:t>
            </a:r>
            <a:r>
              <a:rPr b="0" lang="en-A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m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Accessed 7/9/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ng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al factors are both external and internal and includ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:Political, legislative, compliance, economic, labour market, social, policy, technology, environment, educational, recruitment competition, comparative pay rates, service expectations, sector/industry-wide tr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ternal: mission/vision, culture and values, current business drivers, business challenges, structure, resources, knowledge management, new productss/service demands,performance indicators, customer feedbac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available organisational informatio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 the data with relevant manager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wo or three possible scenari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the likelihood and impact of each scenario occurring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desired futur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derstanding of scenarios to feed into workforce planning efforts and strategy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ty-check and amend scenarios as necessary and modify relevant workforce planning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road environmental factors that may impact on the current work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likely future conditions or scen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key roles and job categories (e.g. positions, classifications, skills and professions) for business su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the critical factors impacting on capacity/capability of the future work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 line experts and key sta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risk of ‘doing nothing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o 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at demands are likely on the business in next 5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y jobs for business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s current work aligned with strate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uld improvements be made to structure of organisation or your un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ply-side factor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access critical staffing information (eg recruitment, retention, attritio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e trend data for key roles and job categories (e.g. positions, classifications, skills and profession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current levels of capability (including cultu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y sid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what your workforce looks like(eg retirements, age, turnover ra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pabilities make your key jobs critical? (technical/generic/leadersh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levels of capabi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match between capability and current business requir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mand-side fa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current and anticipated workload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consider current and future occupational short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priority capabilities now and into the fu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22:56:46Z</dcterms:created>
  <dc:creator>Stephen Ford</dc:creator>
  <dc:description/>
  <dc:language>en-US</dc:language>
  <cp:lastModifiedBy>Stephen Ford</cp:lastModifiedBy>
  <dcterms:modified xsi:type="dcterms:W3CDTF">2009-04-26T23:07:34Z</dcterms:modified>
  <cp:revision>1</cp:revision>
  <dc:subject/>
  <dc:title>Consultation with managers on workforce planning</dc:title>
</cp:coreProperties>
</file>