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92076-8660-4792-800A-D4BB689B6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B224-1EA6-4FAE-B568-08D522B98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30B5-9D1C-411A-8A4C-AD108A599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87C6-3A66-47D4-A96C-6EE024360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3D63-E0E5-4AF2-B28F-9A5E4968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BB229-9663-475A-80D5-800E20F5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A23F-3CF1-4F7E-BB9A-8B5D3241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9B6A-612D-4005-9502-28B5E4DF5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C652-B27C-43C3-8B94-3C0BBD214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C75E-E8D0-43AA-AFD5-EC2B6BA1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8998-B1E0-482F-BBFB-4859C26D9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CCC6-C7F0-4D40-B219-6FCC0C206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60127-D32C-4CD3-8E3D-F64F89AFF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apsc.gov.au/publications06/workforce%20planningquestions.htm" TargetMode="External"/><Relationship Id="rId2" Type="http://schemas.openxmlformats.org/officeDocument/2006/relationships/hyperlink" Target="http://www.apsc.gov.au/publications06/workforce%20planningquestions.htm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ultation with managers on workforce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and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are current and anticipated workload issu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do you want more or less of in your workfor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ority capabiliti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ing needs 12 months, 3, 5 y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shorta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ndant skill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skills requir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 in critical job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ff Development time lin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sure poi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 up evidence for a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ave work requirements chang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Does the work still need to be don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s the work being done aligned to organisational strateg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How will work flow into each part of the organisation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we structured the right way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re there changes planned to the location of work? (eg virtual offices, relocations, telework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there staff shortages in particular areas of work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employees have the required skills and capabilitie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is knowledge transferred and how long does it take to develop ‘critical skills’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skills are no longer required, or will no longer be required in the future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hat is the ‘gap’?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gap between demand and supply facto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Undertake a risk assessment of critical workforce issues and/or skills gaps in order to focus workforce planning effo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Identify the necessary changes to the nature or composition of the workforce to meet the targeted (desired) futu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Assess where org’n needs time to resp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.apsc.gov.au/publications06/workforce planningquestions.</a:t>
            </a:r>
            <a:r>
              <a:rPr b="0" lang="en-A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m</a:t>
            </a: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 Accessed 7/9/0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ng environ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vironmental factors are both external and internal and includ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ternal:Political, legislative, compliance, economic, labour market, social, policy, technology, environment, educational, recruitment competition, comparative pay rates, service expectations, sector/industry-wide tren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nternal: mission/vision, culture and values, current business drivers, business challenges, structure, resources, knowledge management, new productss/service demands,performance indicators, customer feedback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enario Plan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available organisational information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kshop the data with relevant manager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two or three possible scenarios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ss the likelihood and impact of each scenario occurring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desired future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understanding of scenarios to feed into workforce planning efforts and strategy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lity-check and amend scenarios as necessary and modify relevant workforce planning strate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guish broad environmental factors that may impact on the current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the likely future conditions or scen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dentify key roles and job categories (e.g. positions, classifications, skills and professions) for business succ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olate the critical factors impacting on capacity/capability of the future workfor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ult line experts and key staf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 the risk of ‘doing nothing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o as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What demands are likely on the business in next 5 year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Key jobs for business succes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Is current work aligned with strateg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imes New Roman"/>
              </a:rPr>
              <a:t>Could improvements be made to structure of organisation or your uni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upply-side factors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access critical staffing information (eg recruitment, retention, attrition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yse trend data for key roles and job categories (e.g. positions, classifications, skills and profession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current levels of capability (including cultur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ly side ques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what your workforce looks like(eg retirements, age, turnover ra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apabilities make your key jobs critical? (technical/generic/leadersh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rrent levels of capabilit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 match between capability and current business requirement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Demand-side factor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luate current and anticipated workload issu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and consider current and future occupational shorta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dentify priority capabilities now and into the futu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6T22:56:46Z</dcterms:created>
  <dc:creator>Stephen Ford</dc:creator>
  <dc:description/>
  <dc:language>en-US</dc:language>
  <cp:lastModifiedBy>Stephen Ford</cp:lastModifiedBy>
  <dcterms:modified xsi:type="dcterms:W3CDTF">2009-04-26T23:07:34Z</dcterms:modified>
  <cp:revision>1</cp:revision>
  <dc:subject/>
  <dc:title>Consultation with managers on workforce planning</dc:title>
</cp:coreProperties>
</file>