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F8FE-A98D-489F-B427-8B43BD9F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FD1-5B22-4AB5-B33F-30794BF5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73D-1264-44BC-9957-99F07C73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DF29-F566-454B-9B23-2FAA0274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B55-5D54-4FE3-9CA2-D81BCD3D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6A5-3552-4C39-8574-A4BFF876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37B1-FFDD-45A3-B9B9-6D7CFA50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062-01DE-4682-8FE8-BA9ECA26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F64-F06C-492C-8A7F-D757DF28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4C9-76C0-4935-A3CD-5C5B35AE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E29-76EB-487B-9528-61C818A4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FF1-CE0E-4C71-BF59-CFB74C02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D182-9787-487D-88DE-21E3F4B1B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psc.gov.au/publications06/workforce%20planningquestions.htm" TargetMode="External"/><Relationship Id="rId2" Type="http://schemas.openxmlformats.org/officeDocument/2006/relationships/hyperlink" Target="http://www.apsc.gov.au/publications06/workforce%20planningquestions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ltation with managers on workforce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and sid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current and anticipated workload iss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want more or less of in your workfor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capabil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ing needs 12 months, 3, 5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ff shor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skil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skills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 in critical job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ff Development time li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ure poi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 up evidence for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ave work requirements chang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Does the work still need to be don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s the work being done aligned to organisational strateg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ow will work flow into each part of the organisatio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re we structured the right wa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re there changes planned to the location of work? (eg virtual offices, relocations, telework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staff shortages in particular areas of wor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employees have the required skills and capabilitie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s knowledge transferred and how long does it take to develop ‘critical skills’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kills are no longer required, or will no longer be required in the futur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the ‘gap’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dentify the gap between demand and supply fac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Undertake a risk assessment of critical workforce issues and/or skills gaps in order to focus workforce planning eff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dentify the necessary changes to the nature or composition of the workforce to meet the targeted (desired) fu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ssess where org’n needs time to 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AU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apsc.gov.au/publications06/workforce planningquestions.</a:t>
            </a:r>
            <a:r>
              <a:rPr b="0" lang="en-A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m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Accessed 7/9/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ng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al factors are both external and internal and includ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:Political, legislative, compliance, economic, labour market, social, policy, technology, environment, educational, recruitment competition, comparative pay rates, service expectations, sector/industry-wide tr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ternal: mission/vision, culture and values, current business drivers, business challenges, structure, resources, knowledge management, new productss/service demands,performance indicators, customer feedbac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available organisational information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 the data with relevant manager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wo or three possible scenario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the likelihood and impact of each scenario occurring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desired futur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derstanding of scenarios to feed into workforce planning efforts and strategy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ty-check and amend scenarios as necessary and modify relevant workforce planning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broad environmental factors that may impact on the current workfor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likely future conditions or scen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key roles and job categories (e.g. positions, classifications, skills and professions) for business su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the critical factors impacting on capacity/capability of the future workfor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 line experts and key sta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risk of ‘doing nothing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o 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at demands are likely on the business in next 5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ey jobs for business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s current work aligned with strate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uld improvements be made to structure of organisation or your un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ply-side factor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nd access critical staffing information (eg recruitment, retention, attritio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e trend data for key roles and job categories (e.g. positions, classifications, skills and profession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current levels of capability (including cultu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y sid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know what your workforce looks like(eg retirements, age, turnover ra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pabilities make your key jobs critical? (technical/generic/leadersh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levels of capabi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match between capability and current business requir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mand-side fac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current and anticipated workload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nd consider current and future occupational short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priority capabilities now and into the fu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22:56:46Z</dcterms:created>
  <dc:creator>Stephen Ford</dc:creator>
  <dc:description/>
  <dc:language>en-US</dc:language>
  <cp:lastModifiedBy>Stephen Ford</cp:lastModifiedBy>
  <dcterms:modified xsi:type="dcterms:W3CDTF">2009-04-26T23:07:34Z</dcterms:modified>
  <cp:revision>1</cp:revision>
  <dc:subject/>
  <dc:title>Consultation with managers on workforce planning</dc:title>
</cp:coreProperties>
</file>