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FC0DD-59BF-478D-B2D5-F2AF80D3D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8AE3DC-7126-4D0F-AAED-EDEE30375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140FD-ADE7-4491-A20A-B849F405E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D217E-3D55-4075-8C1F-DEE8FD36C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B9B735-3322-4E04-BE28-4FBFC29D4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A1BE2-22E3-47DA-82A8-D1BBFF8249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A7E31-8DDB-44FE-AB92-B812419E9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730E26-437D-4E3C-9135-21DEC6875D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A8862B-5DAE-4348-9415-DE652FD72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A231D-D4CB-47F4-AF1E-92CD73F86F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A1CB2-ECCB-4C0A-8FCF-02DF84202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56B2A-E6B8-4B02-97D4-7CB7EAD7C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B06D7-7A9A-4AD2-8920-B12CA3D0AE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9CA47-D4B7-4203-846A-4253B1331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5DE0D-3604-4AA9-A87E-8CE607C94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2E129E-8E3B-461F-A280-DC25DC8A35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B08E2-5FC0-4057-A4BB-90F76C1160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6EA9F-919D-4B3C-BB13-A1E2CE3D3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01367-4452-4995-B653-EF6148400B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E5200A-6319-42BF-9349-8E99DDC2D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6AF1B-331B-44FB-AADF-7CA0E7F9F4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07FF2-06FC-4DB5-B338-CDFB9F846C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0ABBB-E044-4ABC-A695-BA7CCD0DBE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15592-0D8F-40FB-BEEB-CB8D9D40F6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B06FF-81E7-45F7-9104-1E41F2B59A9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7CF97-9D97-496C-A00E-FC055D330DCB}"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cite_note-12"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Implementing initiatives to support workforce planning objective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Workforce Planning </a:t>
            </a:r>
            <a:endParaRPr b="0" lang="en-US" sz="2800" spc="-1" strike="noStrike">
              <a:solidFill>
                <a:srgbClr val="006666"/>
              </a:solidFill>
              <a:latin typeface="Arial"/>
            </a:endParaRPr>
          </a:p>
        </p:txBody>
      </p:sp>
      <p:sp>
        <p:nvSpPr>
          <p:cNvPr id="4" name="PlaceHolder 3"/>
          <p:cNvSpPr>
            <a:spLocks noGrp="1"/>
          </p:cNvSpPr>
          <p:nvPr>
            <p:ph type="sldNum" idx="6"/>
          </p:nvPr>
        </p:nvSpPr>
        <p:spPr/>
        <p:txBody>
          <a:bodyPr/>
          <a:p>
            <a:fld id="{F7BC8A04-3C73-4620-8292-EA1326CCAC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ingent workforce management (CWM)</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a:rPr>
              <a:t>A </a:t>
            </a:r>
            <a:r>
              <a:rPr b="1" lang="en" sz="2800" spc="-1" strike="noStrike">
                <a:solidFill>
                  <a:srgbClr val="003366"/>
                </a:solidFill>
                <a:latin typeface="Arial"/>
              </a:rPr>
              <a:t>contingent workforce</a:t>
            </a:r>
            <a:r>
              <a:rPr b="0" lang="en" sz="2800" spc="-1" strike="noStrike">
                <a:solidFill>
                  <a:srgbClr val="003366"/>
                </a:solidFill>
                <a:latin typeface="Arial"/>
              </a:rPr>
              <a:t> is a provisional group of workers who work for an organization on a non-permanent basis, also known as freelancers, independent professionals, temporary contract workers, independent contractors or consultant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3366"/>
                </a:solidFill>
                <a:latin typeface="Arial"/>
              </a:rPr>
              <a:t>(Reference Wikipedia)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301A958A-81B0-4D30-908B-0E2C9D8069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600" spc="-1" strike="noStrike">
                <a:solidFill>
                  <a:srgbClr val="006666"/>
                </a:solidFill>
                <a:latin typeface="Arial"/>
              </a:rPr>
              <a:t>Contingent Workforce Management (CWM)</a:t>
            </a:r>
            <a:r>
              <a:rPr b="1" lang="en" sz="3600" spc="-1" strike="noStrike">
                <a:solidFill>
                  <a:srgbClr val="006666"/>
                </a:solidFill>
                <a:latin typeface="Arial"/>
              </a:rPr>
              <a:t> is </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3366"/>
                </a:solidFill>
                <a:latin typeface="Arial Unicode MS"/>
                <a:ea typeface="Arial Unicode MS"/>
              </a:rPr>
              <a:t>the strategic approach to managing an organization's </a:t>
            </a:r>
            <a:r>
              <a:rPr b="1" lang="en" sz="2800" spc="-1" strike="noStrike">
                <a:solidFill>
                  <a:srgbClr val="003366"/>
                </a:solidFill>
                <a:latin typeface="Arial Unicode MS"/>
                <a:ea typeface="Arial Unicode MS"/>
              </a:rPr>
              <a:t>contingent workforce</a:t>
            </a:r>
            <a:r>
              <a:rPr b="0" lang="en" sz="2800" spc="-1" strike="noStrike">
                <a:solidFill>
                  <a:srgbClr val="003366"/>
                </a:solidFill>
                <a:latin typeface="Arial Unicode MS"/>
                <a:ea typeface="Arial Unicode MS"/>
              </a:rPr>
              <a:t> in a way that it reduces the company's cost in the management of contingent employees and mitigates the company's risk in employing them.</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E02BFD6-6F73-442A-8CDC-3D7BBA047F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3600" spc="-1" strike="noStrike">
                <a:solidFill>
                  <a:srgbClr val="006666"/>
                </a:solidFill>
                <a:latin typeface="Arial Unicode MS"/>
                <a:ea typeface="Arial Unicode MS"/>
              </a:rPr>
              <a:t>Trends</a:t>
            </a:r>
            <a:br>
              <a:rPr sz="3600"/>
            </a:br>
            <a:endParaRPr b="1" lang="en-US" sz="3600" spc="-1" strike="noStrike">
              <a:solidFill>
                <a:srgbClr val="006666"/>
              </a:solidFill>
              <a:latin typeface="Arial"/>
            </a:endParaRPr>
          </a:p>
        </p:txBody>
      </p:sp>
      <p:sp>
        <p:nvSpPr>
          <p:cNvPr id="117" name="PlaceHolder 2"/>
          <p:cNvSpPr>
            <a:spLocks noGrp="1"/>
          </p:cNvSpPr>
          <p:nvPr>
            <p:ph/>
          </p:nvPr>
        </p:nvSpPr>
        <p:spPr>
          <a:xfrm>
            <a:off x="539640" y="2209680"/>
            <a:ext cx="7772400" cy="46483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3366"/>
                </a:solidFill>
                <a:latin typeface="Arial"/>
              </a:rPr>
              <a:t>According to the US Bureau of Labor Statistics the </a:t>
            </a:r>
            <a:r>
              <a:rPr b="1" lang="en" sz="2400" spc="-1" strike="noStrike">
                <a:solidFill>
                  <a:srgbClr val="003366"/>
                </a:solidFill>
                <a:latin typeface="Arial"/>
              </a:rPr>
              <a:t>nontraditional workforce</a:t>
            </a:r>
            <a:r>
              <a:rPr b="0" lang="en" sz="2400" spc="-1" strike="noStrike">
                <a:solidFill>
                  <a:srgbClr val="003366"/>
                </a:solidFill>
                <a:latin typeface="Arial"/>
              </a:rPr>
              <a:t> includes "multiple job holders, contingent and part-time workers, and people in alternative work arrangements."These workers currently represent a substantial portion of the U.S. workforce, and "nearly four out of five employers, in establishments of all sizes and industries, use some form of nontraditional staffing." "People in alternative work arrangements" includes independent contractors, employees of contract companies, workers who are on call, and temporary worker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B1B466E-EC0B-4427-AC53-79B9909954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a:t>
            </a:r>
            <a:endParaRPr b="1" lang="en-US" sz="3600" spc="-1" strike="noStrike">
              <a:solidFill>
                <a:srgbClr val="006666"/>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Globilisation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apid growth of industr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Increased outsourc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Need for agility and cost saving/ changes to employment level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pecialist project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sponsive to chang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On demand access to professionals and experts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duced retirement and redundancy costs</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74B36BD2-3E89-406D-BBA9-0F3C379B83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447920" y="1440000"/>
            <a:ext cx="5562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600" spc="-1" strike="noStrike">
                <a:solidFill>
                  <a:srgbClr val="003366"/>
                </a:solidFill>
                <a:latin typeface="Arial Unicode MS"/>
                <a:ea typeface="Arial Unicode MS"/>
              </a:rPr>
              <a:t>Advantages and Disadvantages of using Contingent Workers</a:t>
            </a:r>
            <a:endParaRPr b="0" lang="en-US" sz="16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Times New Roman"/>
            </a:endParaRPr>
          </a:p>
        </p:txBody>
      </p:sp>
      <p:grpSp>
        <p:nvGrpSpPr>
          <p:cNvPr id="121" name=""/>
          <p:cNvGrpSpPr/>
          <p:nvPr/>
        </p:nvGrpSpPr>
        <p:grpSpPr>
          <a:xfrm>
            <a:off x="1476360" y="2492280"/>
            <a:ext cx="5610240" cy="3285720"/>
            <a:chOff x="1476360" y="2492280"/>
            <a:chExt cx="5610240" cy="3285720"/>
          </a:xfrm>
        </p:grpSpPr>
        <p:grpSp>
          <p:nvGrpSpPr>
            <p:cNvPr id="122" name=""/>
            <p:cNvGrpSpPr/>
            <p:nvPr/>
          </p:nvGrpSpPr>
          <p:grpSpPr>
            <a:xfrm>
              <a:off x="1478880" y="2495520"/>
              <a:ext cx="5604480" cy="3278520"/>
              <a:chOff x="1478880" y="2495520"/>
              <a:chExt cx="5604480" cy="3278520"/>
            </a:xfrm>
          </p:grpSpPr>
          <p:grpSp>
            <p:nvGrpSpPr>
              <p:cNvPr id="123" name=""/>
              <p:cNvGrpSpPr/>
              <p:nvPr/>
            </p:nvGrpSpPr>
            <p:grpSpPr>
              <a:xfrm>
                <a:off x="1478880" y="2495520"/>
                <a:ext cx="2948040" cy="640080"/>
                <a:chOff x="1478880" y="2495520"/>
                <a:chExt cx="2948040" cy="640080"/>
              </a:xfrm>
            </p:grpSpPr>
            <p:sp>
              <p:nvSpPr>
                <p:cNvPr id="124" name=""/>
                <p:cNvSpPr/>
                <p:nvPr/>
              </p:nvSpPr>
              <p:spPr>
                <a:xfrm>
                  <a:off x="1486080" y="2505240"/>
                  <a:ext cx="2932920" cy="62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Unicode MS"/>
                      <a:ea typeface="Arial Unicode MS"/>
                    </a:rPr>
                    <a:t>Advantages </a:t>
                  </a:r>
                  <a:r>
                    <a:rPr b="0" lang="en-US" sz="1200" spc="-1" strike="noStrike" u="sng" baseline="30000">
                      <a:solidFill>
                        <a:srgbClr val="666699"/>
                      </a:solidFill>
                      <a:uFillTx/>
                      <a:latin typeface="Arial Unicode MS"/>
                      <a:ea typeface="Arial Unicode MS"/>
                      <a:hlinkClick r:id="rId1"/>
                    </a:rPr>
                    <a:t>[13]</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25" name=""/>
                <p:cNvSpPr/>
                <p:nvPr/>
              </p:nvSpPr>
              <p:spPr>
                <a:xfrm>
                  <a:off x="1478880" y="249552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26" name=""/>
              <p:cNvGrpSpPr/>
              <p:nvPr/>
            </p:nvGrpSpPr>
            <p:grpSpPr>
              <a:xfrm>
                <a:off x="4426920" y="2495520"/>
                <a:ext cx="2656440" cy="640080"/>
                <a:chOff x="4426920" y="2495520"/>
                <a:chExt cx="2656440" cy="640080"/>
              </a:xfrm>
            </p:grpSpPr>
            <p:sp>
              <p:nvSpPr>
                <p:cNvPr id="127" name=""/>
                <p:cNvSpPr/>
                <p:nvPr/>
              </p:nvSpPr>
              <p:spPr>
                <a:xfrm>
                  <a:off x="4434120" y="2505240"/>
                  <a:ext cx="2641320" cy="621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Unicode MS"/>
                      <a:ea typeface="Arial Unicode MS"/>
                    </a:rPr>
                    <a:t>Disadvantages</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28" name=""/>
                <p:cNvSpPr/>
                <p:nvPr/>
              </p:nvSpPr>
              <p:spPr>
                <a:xfrm>
                  <a:off x="4426920" y="249552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29" name=""/>
              <p:cNvGrpSpPr/>
              <p:nvPr/>
            </p:nvGrpSpPr>
            <p:grpSpPr>
              <a:xfrm>
                <a:off x="1478880" y="3155040"/>
                <a:ext cx="2948040" cy="640080"/>
                <a:chOff x="1478880" y="3155040"/>
                <a:chExt cx="2948040" cy="640080"/>
              </a:xfrm>
            </p:grpSpPr>
            <p:sp>
              <p:nvSpPr>
                <p:cNvPr id="130" name=""/>
                <p:cNvSpPr/>
                <p:nvPr/>
              </p:nvSpPr>
              <p:spPr>
                <a:xfrm>
                  <a:off x="1486080" y="316476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Flexibility in type and amount of labour resource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1" name=""/>
                <p:cNvSpPr/>
                <p:nvPr/>
              </p:nvSpPr>
              <p:spPr>
                <a:xfrm>
                  <a:off x="1478880" y="315504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2" name=""/>
              <p:cNvGrpSpPr/>
              <p:nvPr/>
            </p:nvGrpSpPr>
            <p:grpSpPr>
              <a:xfrm>
                <a:off x="4426920" y="3155040"/>
                <a:ext cx="2656440" cy="640080"/>
                <a:chOff x="4426920" y="3155040"/>
                <a:chExt cx="2656440" cy="640080"/>
              </a:xfrm>
            </p:grpSpPr>
            <p:sp>
              <p:nvSpPr>
                <p:cNvPr id="133" name=""/>
                <p:cNvSpPr/>
                <p:nvPr/>
              </p:nvSpPr>
              <p:spPr>
                <a:xfrm>
                  <a:off x="4434120" y="316476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Loyalty to employer or company</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4" name=""/>
                <p:cNvSpPr/>
                <p:nvPr/>
              </p:nvSpPr>
              <p:spPr>
                <a:xfrm>
                  <a:off x="4426920" y="315504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5" name=""/>
              <p:cNvGrpSpPr/>
              <p:nvPr/>
            </p:nvGrpSpPr>
            <p:grpSpPr>
              <a:xfrm>
                <a:off x="1478880" y="3814560"/>
                <a:ext cx="2948040" cy="640080"/>
                <a:chOff x="1478880" y="3814560"/>
                <a:chExt cx="2948040" cy="640080"/>
              </a:xfrm>
            </p:grpSpPr>
            <p:sp>
              <p:nvSpPr>
                <p:cNvPr id="136" name=""/>
                <p:cNvSpPr/>
                <p:nvPr/>
              </p:nvSpPr>
              <p:spPr>
                <a:xfrm>
                  <a:off x="1486080" y="382428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Save costs in benefits and tax</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37" name=""/>
                <p:cNvSpPr/>
                <p:nvPr/>
              </p:nvSpPr>
              <p:spPr>
                <a:xfrm>
                  <a:off x="1478880" y="381456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38" name=""/>
              <p:cNvGrpSpPr/>
              <p:nvPr/>
            </p:nvGrpSpPr>
            <p:grpSpPr>
              <a:xfrm>
                <a:off x="4426920" y="3814560"/>
                <a:ext cx="2656440" cy="640080"/>
                <a:chOff x="4426920" y="3814560"/>
                <a:chExt cx="2656440" cy="640080"/>
              </a:xfrm>
            </p:grpSpPr>
            <p:sp>
              <p:nvSpPr>
                <p:cNvPr id="139" name=""/>
                <p:cNvSpPr/>
                <p:nvPr/>
              </p:nvSpPr>
              <p:spPr>
                <a:xfrm>
                  <a:off x="4434120" y="382428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Disturbs organizations core morale and culture</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0" name=""/>
                <p:cNvSpPr/>
                <p:nvPr/>
              </p:nvSpPr>
              <p:spPr>
                <a:xfrm>
                  <a:off x="4426920" y="381456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1" name=""/>
              <p:cNvGrpSpPr/>
              <p:nvPr/>
            </p:nvGrpSpPr>
            <p:grpSpPr>
              <a:xfrm>
                <a:off x="1478880" y="4474440"/>
                <a:ext cx="2948040" cy="640080"/>
                <a:chOff x="1478880" y="4474440"/>
                <a:chExt cx="2948040" cy="640080"/>
              </a:xfrm>
            </p:grpSpPr>
            <p:sp>
              <p:nvSpPr>
                <p:cNvPr id="142" name=""/>
                <p:cNvSpPr/>
                <p:nvPr/>
              </p:nvSpPr>
              <p:spPr>
                <a:xfrm>
                  <a:off x="1486080" y="448416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Immediate access to expertise not present internally</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3" name=""/>
                <p:cNvSpPr/>
                <p:nvPr/>
              </p:nvSpPr>
              <p:spPr>
                <a:xfrm>
                  <a:off x="1478880" y="447444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4" name=""/>
              <p:cNvGrpSpPr/>
              <p:nvPr/>
            </p:nvGrpSpPr>
            <p:grpSpPr>
              <a:xfrm>
                <a:off x="4426920" y="4474440"/>
                <a:ext cx="2656440" cy="640080"/>
                <a:chOff x="4426920" y="4474440"/>
                <a:chExt cx="2656440" cy="640080"/>
              </a:xfrm>
            </p:grpSpPr>
            <p:sp>
              <p:nvSpPr>
                <p:cNvPr id="145" name=""/>
                <p:cNvSpPr/>
                <p:nvPr/>
              </p:nvSpPr>
              <p:spPr>
                <a:xfrm>
                  <a:off x="4434120" y="448416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Training cost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6" name=""/>
                <p:cNvSpPr/>
                <p:nvPr/>
              </p:nvSpPr>
              <p:spPr>
                <a:xfrm>
                  <a:off x="4426920" y="447444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47" name=""/>
              <p:cNvGrpSpPr/>
              <p:nvPr/>
            </p:nvGrpSpPr>
            <p:grpSpPr>
              <a:xfrm>
                <a:off x="1478880" y="5133960"/>
                <a:ext cx="2948040" cy="640080"/>
                <a:chOff x="1478880" y="5133960"/>
                <a:chExt cx="2948040" cy="640080"/>
              </a:xfrm>
            </p:grpSpPr>
            <p:sp>
              <p:nvSpPr>
                <p:cNvPr id="148" name=""/>
                <p:cNvSpPr/>
                <p:nvPr/>
              </p:nvSpPr>
              <p:spPr>
                <a:xfrm>
                  <a:off x="1486080" y="5143680"/>
                  <a:ext cx="29329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Savings in long-term compensation costs</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49" name=""/>
                <p:cNvSpPr/>
                <p:nvPr/>
              </p:nvSpPr>
              <p:spPr>
                <a:xfrm>
                  <a:off x="1478880" y="5133960"/>
                  <a:ext cx="29480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150" name=""/>
              <p:cNvGrpSpPr/>
              <p:nvPr/>
            </p:nvGrpSpPr>
            <p:grpSpPr>
              <a:xfrm>
                <a:off x="4426920" y="5133960"/>
                <a:ext cx="2656440" cy="640080"/>
                <a:chOff x="4426920" y="5133960"/>
                <a:chExt cx="2656440" cy="640080"/>
              </a:xfrm>
            </p:grpSpPr>
            <p:sp>
              <p:nvSpPr>
                <p:cNvPr id="151" name=""/>
                <p:cNvSpPr/>
                <p:nvPr/>
              </p:nvSpPr>
              <p:spPr>
                <a:xfrm>
                  <a:off x="4434120" y="5143680"/>
                  <a:ext cx="264132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Arial Unicode MS"/>
                      <a:ea typeface="Arial Unicode MS"/>
                    </a:rPr>
                    <a:t> </a:t>
                  </a:r>
                  <a:endParaRPr b="0" lang="en-US" sz="12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
              <p:nvSpPr>
                <p:cNvPr id="152" name=""/>
                <p:cNvSpPr/>
                <p:nvPr/>
              </p:nvSpPr>
              <p:spPr>
                <a:xfrm>
                  <a:off x="4426920" y="5133960"/>
                  <a:ext cx="2656440" cy="640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153" name=""/>
            <p:cNvSpPr/>
            <p:nvPr/>
          </p:nvSpPr>
          <p:spPr>
            <a:xfrm>
              <a:off x="1476360" y="2492280"/>
              <a:ext cx="5610240" cy="3285720"/>
            </a:xfrm>
            <a:prstGeom prst="rect">
              <a:avLst/>
            </a:prstGeom>
            <a:noFill/>
            <a:ln w="792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
        <p:nvSpPr>
          <p:cNvPr id="2" name="PlaceHolder 1"/>
          <p:cNvSpPr>
            <a:spLocks noGrp="1"/>
          </p:cNvSpPr>
          <p:nvPr>
            <p:ph type="sldNum" idx="3"/>
          </p:nvPr>
        </p:nvSpPr>
        <p:spPr/>
        <p:txBody>
          <a:bodyPr/>
          <a:p>
            <a:fld id="{BD11626B-6DA7-4690-BD2D-2A1BC8D7B6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hen economy strong demand for contingent labour is stro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lows workers to access expertise without the need for hiring and to get the advantages of this expertis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A3EE4B3-0B0A-4E2A-ADF1-D78320B684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e individuals like this form of employment due to increased mobility it offers and the ease of changing jobs. Easy to pick up work due to intern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ome retirees may seek re-entry to workforce as consultants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x advantages and flexibility of freelancing/self employment  are appeal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F6F8597-7C57-4837-9A88-41EC28C156F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ccession planning</a:t>
            </a:r>
            <a:endParaRPr b="1" lang="en-US" sz="3600" spc="-1" strike="noStrike">
              <a:solidFill>
                <a:srgbClr val="006666"/>
              </a:solidFill>
              <a:latin typeface="Arial"/>
            </a:endParaRPr>
          </a:p>
        </p:txBody>
      </p:sp>
      <p:sp>
        <p:nvSpPr>
          <p:cNvPr id="15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handou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ad case study on emergency succession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20C52AAF-5678-43CB-8723-D670AFCABF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ccession planning (cont)</a:t>
            </a:r>
            <a:endParaRPr b="1" lang="en-US" sz="3600" spc="-1" strike="noStrike">
              <a:solidFill>
                <a:srgbClr val="006666"/>
              </a:solidFill>
              <a:latin typeface="Arial"/>
            </a:endParaRPr>
          </a:p>
        </p:txBody>
      </p:sp>
      <p:sp>
        <p:nvSpPr>
          <p:cNvPr id="1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cess of identifying, developing and preparing suitable employees through mentoring, training and job rotation to replace key players such as CEO.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ust as important is the loss of key persons where there is no internal replacement and no available staff</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CD2569B-262F-4A2E-85BE-E7053AE001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taining staff</a:t>
            </a:r>
            <a:endParaRPr b="1" lang="en-US" sz="3600" spc="-1" strike="noStrike">
              <a:solidFill>
                <a:srgbClr val="006666"/>
              </a:solidFill>
              <a:latin typeface="Arial"/>
            </a:endParaRPr>
          </a:p>
        </p:txBody>
      </p:sp>
      <p:sp>
        <p:nvSpPr>
          <p:cNvPr id="16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e handout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F66DFBA-3162-43A2-A1C5-5DA0492D15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opic areas include:</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ccession plann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tention strategi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tracting skilled labour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iversity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mployer of choice opt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alues/ effects of workplace cultur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alent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tingency planning</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cquisitions and merger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26C0A321-140F-46DD-9473-8649B43BFD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aps in workforce needs </a:t>
            </a:r>
            <a:endParaRPr b="1" lang="en-US" sz="3600" spc="-1" strike="noStrike">
              <a:solidFill>
                <a:srgbClr val="006666"/>
              </a:solidFill>
              <a:latin typeface="Arial"/>
            </a:endParaRPr>
          </a:p>
        </p:txBody>
      </p:sp>
      <p:sp>
        <p:nvSpPr>
          <p:cNvPr id="16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st practice includes risk assessment of risks associated with gaps eg need for emergency succession planning of a crucial employee or other skills I your risk profi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en risk management strategies developed and monitored and potential directions for action are planned.</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C342BDD-1E29-44A3-AA03-57366303F70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761760" y="9903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y formulation</a:t>
            </a:r>
            <a:endParaRPr b="1" lang="en-US" sz="3600" spc="-1" strike="noStrike">
              <a:solidFill>
                <a:srgbClr val="006666"/>
              </a:solidFill>
              <a:latin typeface="Arial"/>
            </a:endParaRPr>
          </a:p>
        </p:txBody>
      </p:sp>
      <p:sp>
        <p:nvSpPr>
          <p:cNvPr id="16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tential strategies may includ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7230539-B256-4B33-9C40-454965183D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1.improving attraction and recruitment strategies </a:t>
            </a:r>
            <a:endParaRPr b="1" lang="en-US" sz="3600" spc="-1" strike="noStrike">
              <a:solidFill>
                <a:srgbClr val="006666"/>
              </a:solidFill>
              <a:latin typeface="Arial"/>
            </a:endParaRPr>
          </a:p>
        </p:txBody>
      </p:sp>
      <p:sp>
        <p:nvSpPr>
          <p:cNvPr id="16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mployment branding initiati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recruitment and selection methods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90933F7-5F78-44AE-989F-492A1A40238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2.Improving labour supply</a:t>
            </a:r>
            <a:br>
              <a:rPr sz="3600"/>
            </a:br>
            <a:endParaRPr b="1" lang="en-US" sz="3600" spc="-1" strike="noStrike">
              <a:solidFill>
                <a:srgbClr val="006666"/>
              </a:solidFill>
              <a:latin typeface="Arial"/>
            </a:endParaRPr>
          </a:p>
        </p:txBody>
      </p:sp>
      <p:sp>
        <p:nvSpPr>
          <p:cNvPr id="17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reasing attractiveness of study for selected cour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killed migration to fill gap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ing partnerships with other organisation to access a different labour pool.</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A12452F2-8682-4B43-B16C-13553EE484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3. Increasing investment in development of existing workforce</a:t>
            </a:r>
            <a:endParaRPr b="1" lang="en-US" sz="3600" spc="-1" strike="noStrike">
              <a:solidFill>
                <a:srgbClr val="006666"/>
              </a:solidFill>
              <a:latin typeface="Arial"/>
            </a:endParaRPr>
          </a:p>
        </p:txBody>
      </p:sp>
      <p:sp>
        <p:nvSpPr>
          <p:cNvPr id="17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 Return on investment for learning and develop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nderstanding critical skills and directing priorit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capability in succession planning/manage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ing knowledge manage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reating room for lear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23FB2E4-5F98-4280-9B4A-82EE27CC5D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4.improving employment agility</a:t>
            </a:r>
            <a:endParaRPr b="1" lang="en-US" sz="3600" spc="-1" strike="noStrike">
              <a:solidFill>
                <a:srgbClr val="006666"/>
              </a:solidFill>
              <a:latin typeface="Arial"/>
            </a:endParaRPr>
          </a:p>
        </p:txBody>
      </p:sp>
      <p:sp>
        <p:nvSpPr>
          <p:cNvPr id="17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tter management of contract workfor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designing roles to increase supply from alternative sour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troduce flexible work option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5A1E90A-A7B1-4347-AD31-1A099AF187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5. Improving workforce capability</a:t>
            </a:r>
            <a:endParaRPr b="1" lang="en-US" sz="3600" spc="-1" strike="noStrike">
              <a:solidFill>
                <a:srgbClr val="006666"/>
              </a:solidFill>
              <a:latin typeface="Arial"/>
            </a:endParaRPr>
          </a:p>
        </p:txBody>
      </p:sp>
      <p:sp>
        <p:nvSpPr>
          <p:cNvPr id="17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mproving the connection between strategic policy  and workforce planning consideration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dentifying best practice workforce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4277A44D-F901-46BF-AB56-351344EAAD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6. Improving participation, retention and culture</a:t>
            </a:r>
            <a:endParaRPr b="1" lang="en-US" sz="3600" spc="-1" strike="noStrike">
              <a:solidFill>
                <a:srgbClr val="006666"/>
              </a:solidFill>
              <a:latin typeface="Arial"/>
            </a:endParaRPr>
          </a:p>
        </p:txBody>
      </p:sp>
      <p:sp>
        <p:nvSpPr>
          <p:cNvPr id="17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moving barriers and disincentives to increased particip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work life balance and flexible work practi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better health  outcomes to ensure maximum participation in the workforce.</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3A74E4D-FA78-4836-9088-B74FED788811}"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is lesson looks at </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lent manag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ntingency labou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uccession planning</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D8F18EE-5397-466F-B330-85A76907115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10680"/>
            <a:ext cx="7772400" cy="1739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2800" spc="-1" strike="noStrike">
                <a:solidFill>
                  <a:srgbClr val="000000"/>
                </a:solidFill>
                <a:latin typeface="Verdana"/>
                <a:ea typeface="Arial Unicode MS"/>
              </a:rPr>
              <a:t>Many challenging workforce issues confront HR, including:</a:t>
            </a:r>
            <a:br>
              <a:rPr sz="2800"/>
            </a:br>
            <a:endParaRPr b="1" lang="en-US" sz="28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Heightened competition for skilled worker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Impending retirement of the baby boomer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Low levels of employee engagement.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cknowledgement of the high cost of turnover.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rduous demands of managing global workforces. </a:t>
            </a:r>
            <a:endParaRPr b="0" lang="en-US" sz="2400" spc="-1" strike="noStrike">
              <a:solidFill>
                <a:srgbClr val="003366"/>
              </a:solidFill>
              <a:latin typeface="Arial"/>
            </a:endParaRPr>
          </a:p>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Importance of succession planning. </a:t>
            </a:r>
            <a:endParaRPr b="0" lang="en-US" sz="24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Offshoring and outsourcing trends.</a:t>
            </a:r>
            <a:r>
              <a:rPr b="0" lang="en" sz="2800" spc="-1" strike="noStrike">
                <a:solidFill>
                  <a:srgbClr val="000000"/>
                </a:solidFill>
                <a:latin typeface="Verdana"/>
                <a:ea typeface="Arial Unicode MS"/>
              </a:rPr>
              <a:t> </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9C2203D-27F6-4FD4-8F3C-C91BD72194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lent management</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Talent management is a strategy.</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ea typeface="Arial Unicode MS"/>
              </a:rPr>
              <a:t>Leading companies invest in talent management to select the best person for each job because they know success is powered by the total talent quality of their workforce.</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3E1A642-25B9-49B3-A49E-2F48FD0CE9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rPr>
              <a:t>HR is  evolving from policy creation, cost reduction, process efficiency, and risk </a:t>
            </a:r>
            <a:r>
              <a:rPr b="0" lang="en" sz="2800" spc="-1" strike="noStrike">
                <a:solidFill>
                  <a:srgbClr val="000000"/>
                </a:solidFill>
                <a:latin typeface="Verdana"/>
                <a:ea typeface="Arial Unicode MS"/>
              </a:rPr>
              <a:t>management to driving a new talent mindset in the organisation. </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0994834B-1A96-46FD-BE46-20F135A9D2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3600" spc="-1" strike="noStrike">
                <a:solidFill>
                  <a:srgbClr val="000000"/>
                </a:solidFill>
                <a:latin typeface="Verdana"/>
              </a:rPr>
              <a:t>Talent management may be defined as </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Verdana"/>
                <a:ea typeface="Arial Unicode MS"/>
              </a:rPr>
              <a:t>the implementation of integrated strategies or systems designed to improve processes for recruiting, developing and retaining people with the required skills and aptitude to meet current and future organizational needs. </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A7103D8-AC13-40F0-A8D5-38FB72F792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09"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Anecdotally, talent management is often defined as performance management, incentive compensation, or talent acquisition. Talent management is also often confused with leadership development. Although leadership development is a crucial function of your organization, focusing on it exclusively is a legacy of last century. Our modern service and knowledge economies in the talent age require a broad and holistic view. A high performance business depends on a wide range of talent.</a:t>
            </a:r>
            <a:endParaRPr b="0" lang="en-US" sz="2400" spc="-1" strike="noStrike">
              <a:solidFill>
                <a:srgbClr val="003366"/>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68E6D1B9-78AB-4C9C-A2C9-B482BA37A9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ea typeface="Arial Unicode MS"/>
              </a:rPr>
              <a:t>Taleo’s graphical representation emphasizes the mandate of talent management to respond to business goals and consequently be the driver of business performance. Talent management is depicted as a circular—not a linear—set of activities.</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400" spc="-1" strike="noStrike">
                <a:solidFill>
                  <a:srgbClr val="000000"/>
                </a:solidFill>
                <a:latin typeface="Verdana"/>
              </a:rPr>
              <a:t>http://www.taleo.com/research/articles/strategic/what-talent-management-121.html</a:t>
            </a:r>
            <a:br>
              <a:rPr sz="2400"/>
            </a:br>
            <a:r>
              <a:rPr b="0" lang="en" sz="2400" spc="-1" strike="noStrike">
                <a:solidFill>
                  <a:srgbClr val="000000"/>
                </a:solidFill>
                <a:latin typeface="Verdana"/>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125030A4-FAF6-4A07-BF1C-16CAA70006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00:40:51Z</dcterms:created>
  <dc:creator>Stephen Ford</dc:creator>
  <dc:description/>
  <dc:language>en-US</dc:language>
  <cp:lastModifiedBy>rford</cp:lastModifiedBy>
  <dcterms:modified xsi:type="dcterms:W3CDTF">2008-10-30T06:08:40Z</dcterms:modified>
  <cp:revision>6</cp:revision>
  <dc:subject/>
  <dc:title>Implementing initiatives to support workforce planning objectives</dc:title>
</cp:coreProperties>
</file>