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132B0-F24F-4DA6-BA4F-5279B1282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EEB99-FFE6-48D9-91A8-8C13CF385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7647E-EEE1-4ABE-88BC-7FEEA9BA1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526A7-861D-4C09-8149-AB7C69B4A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1BC4E-B08D-435E-A9BC-61ED96266C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852BF-B442-481F-B6C5-A3EEC88A2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A3C54-9AD3-4971-81D3-3179CBEBA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5604C-9CDD-441F-94D0-E4FE7C67F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ABED8-0CC4-49FA-855A-234031FD3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6AE7F-D13C-4E4F-8661-86979C1A7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4C11B-F056-49EB-8A34-135B73CA6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8F45E-6913-4C30-9AC6-3991FCB8D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430FD-DD58-4DE8-9AB6-957E749D7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4CE9F-D3C4-44F5-98E8-FD7749EE8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031A0-D990-41D8-8C1C-1F3DE6160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C0840B-C4D2-43E6-9145-3E2D72B97A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47ED9C-0C9E-4184-9F2F-302D29EE54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F3E28-FDE6-456D-9382-57598E9D9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AAB69-9960-4666-977F-D892BBF89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61E48-7927-4785-8938-8F515E8DB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7FC17-12D7-464B-8F97-A208D5CA9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254C1-47C4-4BC1-9B9F-0ACC6E951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5D12F-0BE1-4397-A283-8247AE11D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78C1A-B073-4668-B76C-9C49B42CB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58A0-15F0-4622-870E-2B6CE4CA23A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8ADA-AB71-4F61-A315-4753A1157C1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cite_note-12"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mplementing initiatives to support workforce planning objective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Workforce Planning </a:t>
            </a:r>
            <a:endParaRPr b="0" lang="en-US" sz="2800" spc="-1" strike="noStrike">
              <a:solidFill>
                <a:srgbClr val="006666"/>
              </a:solidFill>
              <a:latin typeface="Arial"/>
            </a:endParaRPr>
          </a:p>
        </p:txBody>
      </p:sp>
      <p:sp>
        <p:nvSpPr>
          <p:cNvPr id="4" name="PlaceHolder 3"/>
          <p:cNvSpPr>
            <a:spLocks noGrp="1"/>
          </p:cNvSpPr>
          <p:nvPr>
            <p:ph type="sldNum" idx="6"/>
          </p:nvPr>
        </p:nvSpPr>
        <p:spPr/>
        <p:txBody>
          <a:bodyPr/>
          <a:p>
            <a:fld id="{F64CEB8A-79D2-45B9-8BC3-712694825B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t workforce management (CWM)</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66"/>
                </a:solidFill>
                <a:latin typeface="Arial"/>
              </a:rPr>
              <a:t>A </a:t>
            </a:r>
            <a:r>
              <a:rPr b="1" lang="en" sz="2800" spc="-1" strike="noStrike">
                <a:solidFill>
                  <a:srgbClr val="003366"/>
                </a:solidFill>
                <a:latin typeface="Arial"/>
              </a:rPr>
              <a:t>contingent workforce</a:t>
            </a:r>
            <a:r>
              <a:rPr b="0" lang="en" sz="2800" spc="-1" strike="noStrike">
                <a:solidFill>
                  <a:srgbClr val="003366"/>
                </a:solidFill>
                <a:latin typeface="Arial"/>
              </a:rPr>
              <a:t> is a provisional group of workers who work for an organization on a non-permanent basis, also known as freelancers, independent professionals, temporary contract workers, independent contractors or consultan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Reference Wikipedia)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AA5DBFB-A9BE-43A5-AFCB-32709CA778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600" spc="-1" strike="noStrike">
                <a:solidFill>
                  <a:srgbClr val="006666"/>
                </a:solidFill>
                <a:latin typeface="Arial"/>
              </a:rPr>
              <a:t>Contingent Workforce Management (CWM)</a:t>
            </a:r>
            <a:r>
              <a:rPr b="1" lang="en" sz="3600" spc="-1" strike="noStrike">
                <a:solidFill>
                  <a:srgbClr val="006666"/>
                </a:solidFill>
                <a:latin typeface="Arial"/>
              </a:rPr>
              <a:t> is </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66"/>
                </a:solidFill>
                <a:latin typeface="Arial Unicode MS"/>
                <a:ea typeface="Arial Unicode MS"/>
              </a:rPr>
              <a:t>the strategic approach to managing an organization's </a:t>
            </a:r>
            <a:r>
              <a:rPr b="1" lang="en" sz="2800" spc="-1" strike="noStrike">
                <a:solidFill>
                  <a:srgbClr val="003366"/>
                </a:solidFill>
                <a:latin typeface="Arial Unicode MS"/>
                <a:ea typeface="Arial Unicode MS"/>
              </a:rPr>
              <a:t>contingent workforce</a:t>
            </a:r>
            <a:r>
              <a:rPr b="0" lang="en" sz="2800" spc="-1" strike="noStrike">
                <a:solidFill>
                  <a:srgbClr val="003366"/>
                </a:solidFill>
                <a:latin typeface="Arial Unicode MS"/>
                <a:ea typeface="Arial Unicode MS"/>
              </a:rPr>
              <a:t> in a way that it reduces the company's cost in the management of contingent employees and mitigates the company's risk in employing them.</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EB2C1C4-CEEF-4E0E-B2E3-7DB88F6ADD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600" spc="-1" strike="noStrike">
                <a:solidFill>
                  <a:srgbClr val="006666"/>
                </a:solidFill>
                <a:latin typeface="Arial Unicode MS"/>
                <a:ea typeface="Arial Unicode MS"/>
              </a:rPr>
              <a:t>Trends</a:t>
            </a:r>
            <a:br>
              <a:rPr sz="3600"/>
            </a:br>
            <a:endParaRPr b="1" lang="en-US" sz="3600" spc="-1" strike="noStrike">
              <a:solidFill>
                <a:srgbClr val="006666"/>
              </a:solidFill>
              <a:latin typeface="Arial"/>
            </a:endParaRPr>
          </a:p>
        </p:txBody>
      </p:sp>
      <p:sp>
        <p:nvSpPr>
          <p:cNvPr id="117" name="PlaceHolder 2"/>
          <p:cNvSpPr>
            <a:spLocks noGrp="1"/>
          </p:cNvSpPr>
          <p:nvPr>
            <p:ph/>
          </p:nvPr>
        </p:nvSpPr>
        <p:spPr>
          <a:xfrm>
            <a:off x="539640" y="2209680"/>
            <a:ext cx="7772400" cy="46483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3366"/>
                </a:solidFill>
                <a:latin typeface="Arial"/>
              </a:rPr>
              <a:t>According to the US Bureau of Labor Statistics the </a:t>
            </a:r>
            <a:r>
              <a:rPr b="1" lang="en" sz="2400" spc="-1" strike="noStrike">
                <a:solidFill>
                  <a:srgbClr val="003366"/>
                </a:solidFill>
                <a:latin typeface="Arial"/>
              </a:rPr>
              <a:t>nontraditional workforce</a:t>
            </a:r>
            <a:r>
              <a:rPr b="0" lang="en" sz="2400" spc="-1" strike="noStrike">
                <a:solidFill>
                  <a:srgbClr val="003366"/>
                </a:solidFill>
                <a:latin typeface="Arial"/>
              </a:rPr>
              <a:t> includes "multiple job holders, contingent and part-time workers, and people in alternative work arrangements."These workers currently represent a substantial portion of the U.S. workforce, and "nearly four out of five employers, in establishments of all sizes and industries, use some form of nontraditional staffing." "People in alternative work arrangements" includes independent contractors, employees of contract companies, workers who are on call, and temporary worker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3DAFD107-AA98-40D6-886B-EFCD6A72DD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a:t>
            </a:r>
            <a:endParaRPr b="1" lang="en-US" sz="3600" spc="-1" strike="noStrike">
              <a:solidFill>
                <a:srgbClr val="006666"/>
              </a:solidFill>
              <a:latin typeface="Arial"/>
            </a:endParaRPr>
          </a:p>
        </p:txBody>
      </p:sp>
      <p:sp>
        <p:nvSpPr>
          <p:cNvPr id="11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Globilisa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apid growth of industri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Increased outsourc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Need for agility and cost saving/ changes to employment level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pecialist project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sponsive to chang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On demand access to professionals and experts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duced retirement and redundancy cost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ADFED588-3D57-473F-817E-77259E9401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447920" y="1440000"/>
            <a:ext cx="5562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3366"/>
                </a:solidFill>
                <a:latin typeface="Arial Unicode MS"/>
                <a:ea typeface="Arial Unicode MS"/>
              </a:rPr>
              <a:t>Advantages and Disadvantages of using Contingent Worker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grpSp>
        <p:nvGrpSpPr>
          <p:cNvPr id="121" name=""/>
          <p:cNvGrpSpPr/>
          <p:nvPr/>
        </p:nvGrpSpPr>
        <p:grpSpPr>
          <a:xfrm>
            <a:off x="1476360" y="2492280"/>
            <a:ext cx="5610240" cy="3285720"/>
            <a:chOff x="1476360" y="2492280"/>
            <a:chExt cx="5610240" cy="3285720"/>
          </a:xfrm>
        </p:grpSpPr>
        <p:grpSp>
          <p:nvGrpSpPr>
            <p:cNvPr id="122" name=""/>
            <p:cNvGrpSpPr/>
            <p:nvPr/>
          </p:nvGrpSpPr>
          <p:grpSpPr>
            <a:xfrm>
              <a:off x="1478880" y="2495520"/>
              <a:ext cx="5604480" cy="3278520"/>
              <a:chOff x="1478880" y="2495520"/>
              <a:chExt cx="5604480" cy="3278520"/>
            </a:xfrm>
          </p:grpSpPr>
          <p:grpSp>
            <p:nvGrpSpPr>
              <p:cNvPr id="123" name=""/>
              <p:cNvGrpSpPr/>
              <p:nvPr/>
            </p:nvGrpSpPr>
            <p:grpSpPr>
              <a:xfrm>
                <a:off x="1478880" y="2495520"/>
                <a:ext cx="2948040" cy="640080"/>
                <a:chOff x="1478880" y="2495520"/>
                <a:chExt cx="2948040" cy="640080"/>
              </a:xfrm>
            </p:grpSpPr>
            <p:sp>
              <p:nvSpPr>
                <p:cNvPr id="124" name=""/>
                <p:cNvSpPr/>
                <p:nvPr/>
              </p:nvSpPr>
              <p:spPr>
                <a:xfrm>
                  <a:off x="1486080" y="2505240"/>
                  <a:ext cx="2932920" cy="62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Unicode MS"/>
                      <a:ea typeface="Arial Unicode MS"/>
                    </a:rPr>
                    <a:t>Advantages </a:t>
                  </a:r>
                  <a:r>
                    <a:rPr b="0" lang="en-US" sz="1200" spc="-1" strike="noStrike" u="sng" baseline="30000">
                      <a:solidFill>
                        <a:srgbClr val="666699"/>
                      </a:solidFill>
                      <a:uFillTx/>
                      <a:latin typeface="Arial Unicode MS"/>
                      <a:ea typeface="Arial Unicode MS"/>
                      <a:hlinkClick r:id="rId1"/>
                    </a:rPr>
                    <a:t>[13]</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25" name=""/>
                <p:cNvSpPr/>
                <p:nvPr/>
              </p:nvSpPr>
              <p:spPr>
                <a:xfrm>
                  <a:off x="1478880" y="249552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26" name=""/>
              <p:cNvGrpSpPr/>
              <p:nvPr/>
            </p:nvGrpSpPr>
            <p:grpSpPr>
              <a:xfrm>
                <a:off x="4426920" y="2495520"/>
                <a:ext cx="2656440" cy="640080"/>
                <a:chOff x="4426920" y="2495520"/>
                <a:chExt cx="2656440" cy="640080"/>
              </a:xfrm>
            </p:grpSpPr>
            <p:sp>
              <p:nvSpPr>
                <p:cNvPr id="127" name=""/>
                <p:cNvSpPr/>
                <p:nvPr/>
              </p:nvSpPr>
              <p:spPr>
                <a:xfrm>
                  <a:off x="4434120" y="2505240"/>
                  <a:ext cx="2641320" cy="62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Unicode MS"/>
                      <a:ea typeface="Arial Unicode MS"/>
                    </a:rPr>
                    <a:t>Disadvantages</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28" name=""/>
                <p:cNvSpPr/>
                <p:nvPr/>
              </p:nvSpPr>
              <p:spPr>
                <a:xfrm>
                  <a:off x="4426920" y="249552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29" name=""/>
              <p:cNvGrpSpPr/>
              <p:nvPr/>
            </p:nvGrpSpPr>
            <p:grpSpPr>
              <a:xfrm>
                <a:off x="1478880" y="3155040"/>
                <a:ext cx="2948040" cy="640080"/>
                <a:chOff x="1478880" y="3155040"/>
                <a:chExt cx="2948040" cy="640080"/>
              </a:xfrm>
            </p:grpSpPr>
            <p:sp>
              <p:nvSpPr>
                <p:cNvPr id="130" name=""/>
                <p:cNvSpPr/>
                <p:nvPr/>
              </p:nvSpPr>
              <p:spPr>
                <a:xfrm>
                  <a:off x="1486080" y="316476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Flexibility in type and amount of labour resources</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31" name=""/>
                <p:cNvSpPr/>
                <p:nvPr/>
              </p:nvSpPr>
              <p:spPr>
                <a:xfrm>
                  <a:off x="1478880" y="315504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32" name=""/>
              <p:cNvGrpSpPr/>
              <p:nvPr/>
            </p:nvGrpSpPr>
            <p:grpSpPr>
              <a:xfrm>
                <a:off x="4426920" y="3155040"/>
                <a:ext cx="2656440" cy="640080"/>
                <a:chOff x="4426920" y="3155040"/>
                <a:chExt cx="2656440" cy="640080"/>
              </a:xfrm>
            </p:grpSpPr>
            <p:sp>
              <p:nvSpPr>
                <p:cNvPr id="133" name=""/>
                <p:cNvSpPr/>
                <p:nvPr/>
              </p:nvSpPr>
              <p:spPr>
                <a:xfrm>
                  <a:off x="4434120" y="316476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Loyalty to employer or company</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34" name=""/>
                <p:cNvSpPr/>
                <p:nvPr/>
              </p:nvSpPr>
              <p:spPr>
                <a:xfrm>
                  <a:off x="4426920" y="315504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35" name=""/>
              <p:cNvGrpSpPr/>
              <p:nvPr/>
            </p:nvGrpSpPr>
            <p:grpSpPr>
              <a:xfrm>
                <a:off x="1478880" y="3814560"/>
                <a:ext cx="2948040" cy="640080"/>
                <a:chOff x="1478880" y="3814560"/>
                <a:chExt cx="2948040" cy="640080"/>
              </a:xfrm>
            </p:grpSpPr>
            <p:sp>
              <p:nvSpPr>
                <p:cNvPr id="136" name=""/>
                <p:cNvSpPr/>
                <p:nvPr/>
              </p:nvSpPr>
              <p:spPr>
                <a:xfrm>
                  <a:off x="1486080" y="382428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Save costs in benefits and tax</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37" name=""/>
                <p:cNvSpPr/>
                <p:nvPr/>
              </p:nvSpPr>
              <p:spPr>
                <a:xfrm>
                  <a:off x="1478880" y="381456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38" name=""/>
              <p:cNvGrpSpPr/>
              <p:nvPr/>
            </p:nvGrpSpPr>
            <p:grpSpPr>
              <a:xfrm>
                <a:off x="4426920" y="3814560"/>
                <a:ext cx="2656440" cy="640080"/>
                <a:chOff x="4426920" y="3814560"/>
                <a:chExt cx="2656440" cy="640080"/>
              </a:xfrm>
            </p:grpSpPr>
            <p:sp>
              <p:nvSpPr>
                <p:cNvPr id="139" name=""/>
                <p:cNvSpPr/>
                <p:nvPr/>
              </p:nvSpPr>
              <p:spPr>
                <a:xfrm>
                  <a:off x="4434120" y="382428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Disturbs organizations core morale and culture</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0" name=""/>
                <p:cNvSpPr/>
                <p:nvPr/>
              </p:nvSpPr>
              <p:spPr>
                <a:xfrm>
                  <a:off x="4426920" y="381456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41" name=""/>
              <p:cNvGrpSpPr/>
              <p:nvPr/>
            </p:nvGrpSpPr>
            <p:grpSpPr>
              <a:xfrm>
                <a:off x="1478880" y="4474440"/>
                <a:ext cx="2948040" cy="640080"/>
                <a:chOff x="1478880" y="4474440"/>
                <a:chExt cx="2948040" cy="640080"/>
              </a:xfrm>
            </p:grpSpPr>
            <p:sp>
              <p:nvSpPr>
                <p:cNvPr id="142" name=""/>
                <p:cNvSpPr/>
                <p:nvPr/>
              </p:nvSpPr>
              <p:spPr>
                <a:xfrm>
                  <a:off x="1486080" y="448416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Immediate access to expertise not present internally</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3" name=""/>
                <p:cNvSpPr/>
                <p:nvPr/>
              </p:nvSpPr>
              <p:spPr>
                <a:xfrm>
                  <a:off x="1478880" y="447444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44" name=""/>
              <p:cNvGrpSpPr/>
              <p:nvPr/>
            </p:nvGrpSpPr>
            <p:grpSpPr>
              <a:xfrm>
                <a:off x="4426920" y="4474440"/>
                <a:ext cx="2656440" cy="640080"/>
                <a:chOff x="4426920" y="4474440"/>
                <a:chExt cx="2656440" cy="640080"/>
              </a:xfrm>
            </p:grpSpPr>
            <p:sp>
              <p:nvSpPr>
                <p:cNvPr id="145" name=""/>
                <p:cNvSpPr/>
                <p:nvPr/>
              </p:nvSpPr>
              <p:spPr>
                <a:xfrm>
                  <a:off x="4434120" y="448416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Training costs</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6" name=""/>
                <p:cNvSpPr/>
                <p:nvPr/>
              </p:nvSpPr>
              <p:spPr>
                <a:xfrm>
                  <a:off x="4426920" y="447444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47" name=""/>
              <p:cNvGrpSpPr/>
              <p:nvPr/>
            </p:nvGrpSpPr>
            <p:grpSpPr>
              <a:xfrm>
                <a:off x="1478880" y="5133960"/>
                <a:ext cx="2948040" cy="640080"/>
                <a:chOff x="1478880" y="5133960"/>
                <a:chExt cx="2948040" cy="640080"/>
              </a:xfrm>
            </p:grpSpPr>
            <p:sp>
              <p:nvSpPr>
                <p:cNvPr id="148" name=""/>
                <p:cNvSpPr/>
                <p:nvPr/>
              </p:nvSpPr>
              <p:spPr>
                <a:xfrm>
                  <a:off x="1486080" y="514368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Savings in long-term compensation costs</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9" name=""/>
                <p:cNvSpPr/>
                <p:nvPr/>
              </p:nvSpPr>
              <p:spPr>
                <a:xfrm>
                  <a:off x="1478880" y="513396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50" name=""/>
              <p:cNvGrpSpPr/>
              <p:nvPr/>
            </p:nvGrpSpPr>
            <p:grpSpPr>
              <a:xfrm>
                <a:off x="4426920" y="5133960"/>
                <a:ext cx="2656440" cy="640080"/>
                <a:chOff x="4426920" y="5133960"/>
                <a:chExt cx="2656440" cy="640080"/>
              </a:xfrm>
            </p:grpSpPr>
            <p:sp>
              <p:nvSpPr>
                <p:cNvPr id="151" name=""/>
                <p:cNvSpPr/>
                <p:nvPr/>
              </p:nvSpPr>
              <p:spPr>
                <a:xfrm>
                  <a:off x="4434120" y="514368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 </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52" name=""/>
                <p:cNvSpPr/>
                <p:nvPr/>
              </p:nvSpPr>
              <p:spPr>
                <a:xfrm>
                  <a:off x="4426920" y="513396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153" name=""/>
            <p:cNvSpPr/>
            <p:nvPr/>
          </p:nvSpPr>
          <p:spPr>
            <a:xfrm>
              <a:off x="1476360" y="2492280"/>
              <a:ext cx="5610240" cy="328572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 name="PlaceHolder 1"/>
          <p:cNvSpPr>
            <a:spLocks noGrp="1"/>
          </p:cNvSpPr>
          <p:nvPr>
            <p:ph type="sldNum" idx="3"/>
          </p:nvPr>
        </p:nvSpPr>
        <p:spPr/>
        <p:txBody>
          <a:bodyPr/>
          <a:p>
            <a:fld id="{EB28AC2B-081E-4FD6-99E1-F969C340F0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economy strong demand for contingent labour is stro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ows workers to access expertise without the need for hiring and to get the advantages of this expertis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2F2C68B-FD31-4826-A2E5-1ED380FF1E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e individuals like this form of employment due to increased mobility it offers and the ease of changing jobs. Easy to pick up work due to intern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retirees may seek re-entry to workforce as consultant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x advantages and flexibility of freelancing/self employment  are appeal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2C3792B-468F-4438-9E2B-C5E7C081F3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ccession planning</a:t>
            </a:r>
            <a:endParaRPr b="1" lang="en-US" sz="3600" spc="-1" strike="noStrike">
              <a:solidFill>
                <a:srgbClr val="006666"/>
              </a:solidFill>
              <a:latin typeface="Arial"/>
            </a:endParaRPr>
          </a:p>
        </p:txBody>
      </p:sp>
      <p:sp>
        <p:nvSpPr>
          <p:cNvPr id="15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e handou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 case study on emergency succession plan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A80DAC6-B292-474F-99B1-2E6FD3B919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ccession planning (cont)</a:t>
            </a:r>
            <a:endParaRPr b="1" lang="en-US" sz="3600" spc="-1" strike="noStrike">
              <a:solidFill>
                <a:srgbClr val="006666"/>
              </a:solidFill>
              <a:latin typeface="Arial"/>
            </a:endParaRPr>
          </a:p>
        </p:txBody>
      </p:sp>
      <p:sp>
        <p:nvSpPr>
          <p:cNvPr id="1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cess of identifying, developing and preparing suitable employees through mentoring, training and job rotation to replace key players such as CEO.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ust as important is the loss of key persons where there is no internal replacement and no available staff</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6AB63F9-B2C6-4B21-B4CD-CD3548E7EE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taining staff</a:t>
            </a:r>
            <a:endParaRPr b="1" lang="en-US" sz="3600" spc="-1" strike="noStrike">
              <a:solidFill>
                <a:srgbClr val="006666"/>
              </a:solidFill>
              <a:latin typeface="Arial"/>
            </a:endParaRPr>
          </a:p>
        </p:txBody>
      </p:sp>
      <p:sp>
        <p:nvSpPr>
          <p:cNvPr id="16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e handout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F667695-F308-4A93-AF21-98B0D9486B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pic areas include:</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ccession plann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tention strategi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racting skilled labour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versity manage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loyer of choice optio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lues/ effects of workplace cultur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lent Manage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ingency plann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quisitions and merger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36F63FC8-026F-491E-86AA-0A845E2893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ps in workforce needs </a:t>
            </a:r>
            <a:endParaRPr b="1" lang="en-US" sz="3600" spc="-1" strike="noStrike">
              <a:solidFill>
                <a:srgbClr val="006666"/>
              </a:solidFill>
              <a:latin typeface="Arial"/>
            </a:endParaRPr>
          </a:p>
        </p:txBody>
      </p:sp>
      <p:sp>
        <p:nvSpPr>
          <p:cNvPr id="16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st practice includes risk assessment of risks associated with gaps eg need for emergency succession planning of a crucial employee or other skills I your risk profi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n risk management strategies developed and monitored and potential directions for action are planned.</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3651125-F2FE-489F-8971-7023BC30BB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990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ategy formulation</a:t>
            </a:r>
            <a:endParaRPr b="1" lang="en-US" sz="3600" spc="-1" strike="noStrike">
              <a:solidFill>
                <a:srgbClr val="006666"/>
              </a:solidFill>
              <a:latin typeface="Arial"/>
            </a:endParaRPr>
          </a:p>
        </p:txBody>
      </p:sp>
      <p:sp>
        <p:nvSpPr>
          <p:cNvPr id="16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tential strategies may includ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3CE3B13-8C4D-41DB-A25D-13DB2680B5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improving attraction and recruitment strategies </a:t>
            </a:r>
            <a:endParaRPr b="1" lang="en-US" sz="3600" spc="-1" strike="noStrike">
              <a:solidFill>
                <a:srgbClr val="006666"/>
              </a:solidFill>
              <a:latin typeface="Arial"/>
            </a:endParaRPr>
          </a:p>
        </p:txBody>
      </p:sp>
      <p:sp>
        <p:nvSpPr>
          <p:cNvPr id="16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loyment branding initiat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ing recruitment and selection methods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F844DF6-68C4-4698-A61C-B6395E12C9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Improving labour supply</a:t>
            </a:r>
            <a:br>
              <a:rPr sz="3600"/>
            </a:br>
            <a:endParaRPr b="1" lang="en-US" sz="3600" spc="-1" strike="noStrike">
              <a:solidFill>
                <a:srgbClr val="006666"/>
              </a:solidFill>
              <a:latin typeface="Arial"/>
            </a:endParaRPr>
          </a:p>
        </p:txBody>
      </p:sp>
      <p:sp>
        <p:nvSpPr>
          <p:cNvPr id="17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reasing attractiveness of study for selected cours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killed migration to fill gap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ing partnerships with other organisation to access a different labour pool.</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49AE334-CBBF-44FD-9BF3-2A8B27926C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3. Increasing investment in development of existing workforce</a:t>
            </a:r>
            <a:endParaRPr b="1" lang="en-US" sz="3600" spc="-1" strike="noStrike">
              <a:solidFill>
                <a:srgbClr val="006666"/>
              </a:solidFill>
              <a:latin typeface="Arial"/>
            </a:endParaRPr>
          </a:p>
        </p:txBody>
      </p:sp>
      <p:sp>
        <p:nvSpPr>
          <p:cNvPr id="17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ing Return on investment for learning and develop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ing critical skills and directing priorit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ing capability in succession planning/manage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ing knowledge manage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ing room for lear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E0A95BF-1CAD-41B0-9776-0B81EEAF9E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4.improving employment agility</a:t>
            </a:r>
            <a:endParaRPr b="1" lang="en-US" sz="3600" spc="-1" strike="noStrike">
              <a:solidFill>
                <a:srgbClr val="006666"/>
              </a:solidFill>
              <a:latin typeface="Arial"/>
            </a:endParaRPr>
          </a:p>
        </p:txBody>
      </p:sp>
      <p:sp>
        <p:nvSpPr>
          <p:cNvPr id="17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tter management of contract workfor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designing roles to increase supply from alternative sour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roduce flexible work option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7D834A0-9156-42CD-A8D9-7291277EF9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5. Improving workforce capability</a:t>
            </a:r>
            <a:endParaRPr b="1" lang="en-US" sz="3600" spc="-1" strike="noStrike">
              <a:solidFill>
                <a:srgbClr val="006666"/>
              </a:solidFill>
              <a:latin typeface="Arial"/>
            </a:endParaRPr>
          </a:p>
        </p:txBody>
      </p:sp>
      <p:sp>
        <p:nvSpPr>
          <p:cNvPr id="17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ing the connection between strategic policy  and workforce planning consider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ing best practice workforce plan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9BC4D2A-36C4-42F9-B71A-0A44AF80B4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6. Improving participation, retention and culture</a:t>
            </a:r>
            <a:endParaRPr b="1" lang="en-US" sz="3600" spc="-1" strike="noStrike">
              <a:solidFill>
                <a:srgbClr val="006666"/>
              </a:solidFill>
              <a:latin typeface="Arial"/>
            </a:endParaRPr>
          </a:p>
        </p:txBody>
      </p:sp>
      <p:sp>
        <p:nvSpPr>
          <p:cNvPr id="17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moving barriers and disincentives to increased particip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oting work life balance and flexible work practi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oting better health  outcomes to ensure maximum participation in the workforc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4658AD6-6232-4513-A08C-F667F53D2AF4}"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s lesson looks at </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lent manag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ingency labou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ccession plan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93AC9A3-1493-4EBE-8C65-CC16B7C577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10680"/>
            <a:ext cx="7772400" cy="1739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Verdana"/>
                <a:ea typeface="Arial Unicode MS"/>
              </a:rPr>
              <a:t>Many challenging workforce issues confront HR, including:</a:t>
            </a:r>
            <a:br>
              <a:rPr sz="2800"/>
            </a:br>
            <a:endParaRPr b="1" lang="en-US" sz="28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Heightened competition for skilled workers.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Impending retirement of the baby boomers.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Low levels of employee engagement.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Acknowledgement of the high cost of turnover.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Arduous demands of managing global workforces.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Importance of succession planning. </a:t>
            </a:r>
            <a:endParaRPr b="0" lang="en-US" sz="24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Offshoring and outsourcing trends.</a:t>
            </a:r>
            <a:r>
              <a:rPr b="0" lang="en" sz="2800" spc="-1" strike="noStrike">
                <a:solidFill>
                  <a:srgbClr val="000000"/>
                </a:solidFill>
                <a:latin typeface="Verdana"/>
                <a:ea typeface="Arial Unicode MS"/>
              </a:rPr>
              <a:t> </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E5E52EE-3E98-4A84-9A93-E310E382D7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lent management</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Talent management is a strategy.</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ea typeface="Arial Unicode MS"/>
              </a:rPr>
              <a:t>Leading companies invest in talent management to select the best person for each job because they know success is powered by the total talent quality of their workforce.</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62C40C8-DAD4-4C24-A377-84E0B1099D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HR is  evolving from policy creation, cost reduction, process efficiency, and risk </a:t>
            </a:r>
            <a:r>
              <a:rPr b="0" lang="en" sz="2800" spc="-1" strike="noStrike">
                <a:solidFill>
                  <a:srgbClr val="000000"/>
                </a:solidFill>
                <a:latin typeface="Verdana"/>
                <a:ea typeface="Arial Unicode MS"/>
              </a:rPr>
              <a:t>management to driving a new talent mindset in the organisation. </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3AB3DC2-44D7-449B-985E-6E8B461A3E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0000"/>
                </a:solidFill>
                <a:latin typeface="Verdana"/>
              </a:rPr>
              <a:t>Talent management may be defined as </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ea typeface="Arial Unicode MS"/>
              </a:rPr>
              <a:t>the implementation of integrated strategies or systems designed to improve processes for recruiting, developing and retaining people with the required skills and aptitude to meet current and future organizational needs.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16A3D08-1929-4FEB-9FCB-28E03846AF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Anecdotally, talent management is often defined as performance management, incentive compensation, or talent acquisition. Talent management is also often confused with leadership development. Although leadership development is a crucial function of your organization, focusing on it exclusively is a legacy of last century. Our modern service and knowledge economies in the talent age require a broad and holistic view. A high performance business depends on a wide range of talent.</a:t>
            </a: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61878861-BCC7-4D00-913E-08C737F5E8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Taleo’s graphical representation emphasizes the mandate of talent management to respond to business goals and consequently be the driver of business performance. Talent management is depicted as a circular—not a linear—set of activitie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rPr>
              <a:t>http://www.taleo.com/research/articles/strategic/what-talent-management-121.html</a:t>
            </a:r>
            <a:br>
              <a:rPr sz="2400"/>
            </a:br>
            <a:r>
              <a:rPr b="0" lang="en" sz="2400" spc="-1" strike="noStrike">
                <a:solidFill>
                  <a:srgbClr val="000000"/>
                </a:solidFill>
                <a:latin typeface="Verdana"/>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0D9A87D7-CDC2-4791-82AA-8DC05DA57E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00:40:51Z</dcterms:created>
  <dc:creator>Stephen Ford</dc:creator>
  <dc:description/>
  <dc:language>en-US</dc:language>
  <cp:lastModifiedBy>rford</cp:lastModifiedBy>
  <dcterms:modified xsi:type="dcterms:W3CDTF">2008-10-30T06:08:40Z</dcterms:modified>
  <cp:revision>6</cp:revision>
  <dc:subject/>
  <dc:title>Implementing initiatives to support workforce planning objectives</dc:title>
</cp:coreProperties>
</file>