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4F8CC-B673-4404-B325-4B554F26F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F6EA6-34B7-4D7F-A5A9-471B7B1F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C8272-AAAC-4EC9-AC7C-7799120FD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160CE-0185-4E42-98D2-F95A90664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43AAE-046F-471F-950F-D1847059F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F3034-8647-4CD1-B116-EE5CE4C50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7BEEB-4C75-43E1-8999-964586DDB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CA19A-E390-4CAA-9889-C9131BA6C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B1C22-9D2C-42CB-B1A3-E7345539F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C3668-7E4C-4EEF-ABEC-ADCC0E830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6855A-FA56-42C9-867A-2BC5C0255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A22E5-310B-4A22-A534-E1A7274E5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C51A8-093E-406C-A635-3E6086CC5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AA2CA-5736-4C63-AA6A-2DC073331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8C144-3C70-40DB-BC5A-A87F6861E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9D46E-BD1D-4F88-A2D0-D2C4341FA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1ABC1-948F-4472-BCE8-1D7D4259D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1D513-D253-4AA9-85D2-7D80FA7E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DB17D-7551-48A3-9DD0-9954E5DA4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DBBDC-4200-4D6F-B078-FE6CBD677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85F60-997B-4076-88BA-8B54352F3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808F-E7E4-4F47-80A2-C367F6046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395D-FDD6-4E06-A5DC-230AAFD83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749E2-73E6-4F42-925E-B5D358477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A24B-D3B5-4293-B94B-9ABE2750C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F331-D57B-47EA-B6EC-87A97EFF4B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bour markets/</a:t>
            </a:r>
            <a:br>
              <a:rPr sz="4400"/>
            </a:br>
            <a:r>
              <a:rPr b="0" lang="en-US" sz="4400" spc="-1" strike="noStrike">
                <a:solidFill>
                  <a:srgbClr val="221304"/>
                </a:solidFill>
                <a:latin typeface="Times New Roman"/>
              </a:rPr>
              <a:t>Workforce planning</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 understanding th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1/2)</a:t>
            </a:r>
            <a:endParaRPr b="0" lang="en-US" sz="2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easure – Unemployment rate</a:t>
            </a:r>
            <a:endParaRPr b="0" lang="en-US" sz="32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LF-J</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U/LF)x100</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lang="en-US" sz="2800" spc="-1" strike="noStrike">
                <a:solidFill>
                  <a:srgbClr val="000000"/>
                </a:solidFill>
                <a:latin typeface="Times New Roman"/>
              </a:rPr>
              <a:t>	</a:t>
            </a:r>
            <a:r>
              <a:rPr b="0" lang="en-US" sz="2800" spc="-1" strike="noStrike">
                <a:solidFill>
                  <a:srgbClr val="000000"/>
                </a:solidFill>
                <a:latin typeface="Times New Roman"/>
              </a:rPr>
              <a:t>U   = no. unemployed</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 = unemployment rat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F  = size of labour forc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of people in jobs (employ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s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2/2)</a:t>
            </a:r>
            <a:endParaRPr b="0" lang="en-US" sz="2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 Measure</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our Force Participation Rate</a:t>
            </a:r>
            <a:endParaRPr b="0" lang="en-US" sz="32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FPR = (J+PLW)/CV</a:t>
            </a:r>
            <a:r>
              <a:rPr b="0" lang="en-US" sz="2000" spc="-1" strike="noStrike">
                <a:solidFill>
                  <a:srgbClr val="000000"/>
                </a:solidFill>
                <a:latin typeface="Times New Roman"/>
              </a:rPr>
              <a:t>15+</a:t>
            </a:r>
            <a:endParaRPr b="0" lang="en-US" sz="20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Where</a:t>
            </a:r>
            <a:r>
              <a:rPr b="0" lang="en-US" sz="2800" spc="-1" strike="noStrike">
                <a:solidFill>
                  <a:srgbClr val="000000"/>
                </a:solidFill>
                <a:latin typeface="Times New Roman"/>
              </a:rPr>
              <a:t>	</a:t>
            </a:r>
            <a:r>
              <a:rPr b="0" lang="en-US" sz="2800" spc="-1" strike="noStrike">
                <a:solidFill>
                  <a:srgbClr val="000000"/>
                </a:solidFill>
                <a:latin typeface="Times New Roman"/>
              </a:rPr>
              <a:t>LFPR = labour force participation rate</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people in jobs (employed)</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LW  = No. looking for p/t &amp; f/t work</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V</a:t>
            </a:r>
            <a:r>
              <a:rPr b="0" lang="en-US" sz="2000" spc="-1" strike="noStrike">
                <a:solidFill>
                  <a:srgbClr val="000000"/>
                </a:solidFill>
                <a:latin typeface="Times New Roman"/>
              </a:rPr>
              <a:t>15+ </a:t>
            </a:r>
            <a:r>
              <a:rPr b="0" lang="en-US" sz="2800" spc="-1" strike="noStrike">
                <a:solidFill>
                  <a:srgbClr val="000000"/>
                </a:solidFill>
                <a:latin typeface="Times New Roman"/>
              </a:rPr>
              <a:t>= civilian pop.  aged over 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 </a:t>
            </a:r>
            <a:r>
              <a:rPr b="0" lang="en-US" sz="2000" spc="-1" strike="noStrike">
                <a:solidFill>
                  <a:srgbClr val="221304"/>
                </a:solidFill>
                <a:latin typeface="Times New Roman"/>
              </a:rPr>
              <a:t>(1/2)</a:t>
            </a:r>
            <a:endParaRPr b="0" lang="en-US" sz="20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Unemployment</a:t>
            </a:r>
            <a:endParaRPr b="0" lang="en-US" sz="32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e to fundamental changes in the structure of labour demand – specifically the kind of jobs that an economy offers. Most new industries are more capital-intensive and require sophisticated technological skills.</a:t>
            </a:r>
            <a:endParaRPr b="0" lang="en-US" sz="28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yclical unemployment</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downturns in the economic activity in the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tion in overseas spe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interest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inflation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government spend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Welfare Programs??!!!</a:t>
            </a:r>
            <a:endParaRPr b="0" lang="en-US" sz="32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rosion of incentives to find new jobs quickly – assistance with health, housing and food make the newly-unemployed less enthusiastic in looking for a job.</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 rates</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Government schemes which support creating jobs or increasing skills</a:t>
            </a:r>
            <a:endParaRPr b="0" lang="en-US" sz="40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iscal (company tax changes, investment incentives, child care, privatisation, export policies, case mgt )NB the Jobs compact was an attempt at active employment rather than passive approach to pay dole, parenting allowance to spouses who keep low paid jobs, incomes test to be modified to allow for p/t work, regional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onetary policy( interest r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omes and restructuring ( labour market reform, enterprise bargaining, skills, promoting small business and export industries) Single parent pay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ducation and retraining policies ( job search, HSC changes giving more skills etc  award changes-competencies, TAFE and private providers-modules, youth training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Cyclical unemployment?</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Structural unemployment?</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disadvantaged groups</a:t>
            </a:r>
            <a:endParaRPr b="0" lang="en-US" sz="40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EMPLOYMENT</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some people are willing and able to work, but are unable to find paid 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ng term unemployed</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We’ve gone from unemployment to skills shortage</a:t>
            </a:r>
            <a:endParaRPr b="0" lang="en-US" sz="40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the local market is extraordinarily high for youth</a:t>
            </a:r>
            <a:endParaRPr b="0" lang="en-US" sz="40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be done about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The government is offering overseas visas for fruit pickers  </a:t>
            </a:r>
            <a:endParaRPr b="0" lang="en-US" sz="40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ea typeface="Times New Roman"/>
              </a:rPr>
              <a:t>Discuss the effects of the changing level and incidence of employment and unemployment.</a:t>
            </a:r>
            <a:br>
              <a:rPr sz="2800"/>
            </a:br>
            <a:endParaRPr b="0" lang="en-US" sz="28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the effect of…</a:t>
            </a:r>
            <a:br>
              <a:rPr sz="2800"/>
            </a:br>
            <a:endParaRPr b="0" lang="en-US" sz="28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ld trade and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PORTING UNEMPLOYMENT</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Utilises regular household survey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entrel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Counts those registered for </a:t>
            </a:r>
            <a:r>
              <a:rPr b="0" lang="en-AU" sz="3200" spc="-1" strike="noStrike">
                <a:solidFill>
                  <a:srgbClr val="000000"/>
                </a:solidFill>
                <a:latin typeface="Times New Roman"/>
              </a:rPr>
              <a:t>	</a:t>
            </a:r>
            <a:r>
              <a:rPr b="0" lang="en-AU" sz="3200" spc="-1" strike="noStrike">
                <a:solidFill>
                  <a:srgbClr val="000000"/>
                </a:solidFill>
                <a:latin typeface="Times New Roman"/>
              </a:rPr>
              <a:t>unemployment benefits</a:t>
            </a:r>
            <a:endParaRPr b="0" lang="en-US" sz="32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RITERIA FOR UNEMPLOYMENT</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d 1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mployed during survey 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ly looked for f/t or p/t wor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lus must fit into one o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for w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start a new job within 4 wee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be called back from stand down</a:t>
            </a:r>
            <a:endParaRPr b="0" lang="en-US" sz="32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1/5)</a:t>
            </a:r>
            <a:endParaRPr b="0" lang="en-US" sz="20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yclical Unemplo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mand-deficient unemployment) – caused by a deficiency in the level of aggregate demand</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2/5)</a:t>
            </a:r>
            <a:endParaRPr b="0" lang="en-US" sz="20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cyclical Unemployment</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t related to any phase in the business cycle</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ctional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s from lags, or frictions in the price mechanism, which is a slow down adjustment in the labour marke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3/5)</a:t>
            </a:r>
            <a:endParaRPr b="0" lang="en-US" sz="20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used by adjustment in the industrial structure of the econom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son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asonal nature of production in some commodities, particularly primary production such as sheep &amp; fruit picking</a:t>
            </a:r>
            <a:endParaRPr b="0" lang="en-US" sz="28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4/5)</a:t>
            </a:r>
            <a:endParaRPr b="0" lang="en-US" sz="20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ng-term (Hard-core) Un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Unemployment of 12 months or m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Some members of society are essentially unemployable because of lack of education, poor physical or mental abilities, or negative attitude to work, or even age</a:t>
            </a:r>
            <a:endParaRPr b="0" lang="en-US" sz="2800" spc="-1" strike="noStrike">
              <a:solidFill>
                <a:srgbClr val="000000"/>
              </a:solidFill>
              <a:latin typeface="Times New Roman"/>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ser et al p323-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5/5)</a:t>
            </a:r>
            <a:endParaRPr b="0" lang="en-US" sz="20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employ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people who have p/t jobs would prefer to work more hours, or full ti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den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icial figures tend to exclude large numbers of people willing to work but are not actively seeking employmen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7:05:34Z</dcterms:created>
  <dc:creator>SHGG21-06</dc:creator>
  <dc:description/>
  <dc:language>en-US</dc:language>
  <cp:lastModifiedBy>Stephen Ford</cp:lastModifiedBy>
  <dcterms:modified xsi:type="dcterms:W3CDTF">2008-08-20T23:13:08Z</dcterms:modified>
  <cp:revision>4</cp:revision>
  <dc:subject/>
  <dc:title>Slide 1</dc:title>
</cp:coreProperties>
</file>