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013E-80B6-43B4-B218-870C234E6D9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A7A7-F837-434F-97AC-38051C0A179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648-7CD6-4509-864A-16E12032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330-5258-4986-935A-8EE6E99F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E64-9694-4112-BC2A-D351D873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8AE7-A551-40D5-9D00-6EFCAE19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5446-83EE-417D-A7A8-8665D409D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25A-1B07-4F5D-9A1B-A9A2DDFA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F4CF-CBAB-4798-A3A6-2844A2EE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978-4E22-41B9-8540-3F7100C3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48E-07F0-4B42-996A-804B36F9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D885-402E-4EEC-AA0D-E4FC08B8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3B0-77B1-411B-9419-A4354BC1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AAFB-E2DC-475B-95D0-43FEE5D3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F092D-8721-48FA-881E-92B7020206BD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Initiating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ject Scope provides a clear and refined description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cope documents and its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e page 5-7 of the plan the project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Steve\AppData\Local\Microsoft\Windows\Temporary Internet Files\Content.IE5\RRQ33K7U\MPj04385170000[1].jpg"/>
          <p:cNvPicPr/>
          <p:nvPr/>
        </p:nvPicPr>
        <p:blipFill>
          <a:blip r:embed="rId2"/>
          <a:stretch/>
        </p:blipFill>
        <p:spPr>
          <a:xfrm>
            <a:off x="3071880" y="2286000"/>
            <a:ext cx="47149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health issues that affect personal effectiveness at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wellness strategies that might be able to be introduced at your “workpla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knowledge and understanding of these can be gained through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nagement and HR journals and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R assoc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ernet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vernment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de union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dustri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are looking for information on past, present and future issues that impact on individuals or groups in your workforce and current bes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ecome the “Employer of choic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proactive in your field or amongst your compet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oin together with others in your locality to access facilities or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about a casual dress day or a “call in well” day to start the ball rolling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ut up a case to manag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communicate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assess the costs and benef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la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measure results/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improve it for next ye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fer to p593-598 of the Chapter from Jones- hand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te : this chapter has a focus on Worklife balance programs but the principles still apply to your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lanning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you develop options for addressing the identified health issue you put up a proposal for taking the project fur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nee to obtain support from senior management for your preferred option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You are in the “initiate”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8327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22:10:51Z</dcterms:created>
  <dc:creator>Steve Ford</dc:creator>
  <dc:description/>
  <dc:language>en-US</dc:language>
  <cp:lastModifiedBy>Steve Ford</cp:lastModifiedBy>
  <dcterms:modified xsi:type="dcterms:W3CDTF">2008-08-05T04:19:06Z</dcterms:modified>
  <cp:revision>16</cp:revision>
  <dc:subject/>
  <dc:title>Manage Personal Effectiveness</dc:title>
</cp:coreProperties>
</file>