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F45D-6B29-4FDF-BEE1-62BBC75F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448A-637D-4550-AD9D-89AE48EC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120-7B38-4921-B1DD-011F68891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D83-FC5B-45E9-B523-64DA85285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1212-A844-43ED-9877-59E4DA7B3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8134-035C-41C8-9B73-642DA6B44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AC7D5-78E8-49D0-9415-163AC85F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D46A-D45A-4D8C-AB1E-7E4E29F4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EEA8-B787-4C71-A4C7-1A11837B4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3C0E-E8DC-4F55-A2DF-AB8FC466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093C-6F7A-4302-940A-C4694DD9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4E85-8A1E-4BED-9F61-741D61E4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D94D-B8E4-431A-95EC-F7AEA1DE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C5AE-3A9F-4C5E-9EA4-A668B3C8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B383-FBE7-49E8-A054-46DC18BB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890B-0CF6-4F8B-950B-D2F9395AD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A828F-5CA6-4247-9FF3-92D18F56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1936-0531-4B9A-AEA5-04B16BB9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16DB-1A45-4505-A73D-77865524B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2FF2-B44B-461A-B300-689208A7F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32F-1FEB-4451-9BE1-CF7272C9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3F26-F6BA-4E2F-B5A2-19431077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F16-3DE1-4CDC-AFD2-3441A329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EEBF-FA35-4891-8266-96F328A7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80A-4D18-4C44-B7FD-D17F6C2A247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0C87-AA96-4E64-AFFE-AC4140762D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Programs That Promote Personal Effectiven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anning the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You will need overall goal and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se will form the tasks that must be comple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lan phase of the overall project life cycl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the detailed task lis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Estimate all times and all cos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rrange the best sequence of all tas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evelop a workable schedule and identify critical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cc66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Write a detailed project plan and obtain approval from stakehold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er to plan the project not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0:50:04Z</dcterms:created>
  <dc:creator>Stephen Ford</dc:creator>
  <dc:description/>
  <dc:language>en-US</dc:language>
  <cp:lastModifiedBy>Stephen Ford</cp:lastModifiedBy>
  <dcterms:modified xsi:type="dcterms:W3CDTF">2008-08-26T20:51:38Z</dcterms:modified>
  <cp:revision>1</cp:revision>
  <dc:subject/>
  <dc:title>Manage Programs That Promote Personal Effectiveness</dc:title>
</cp:coreProperties>
</file>