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C1B0-2BC7-4BAE-B292-7D878071F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9D79-C485-4741-B63C-77240CF7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EAF2-E029-4B37-9948-78F0BCF3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A613-3527-4F15-AD4E-F082F5F1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C964-B882-429E-8428-EC825795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551E-9480-4DDF-B57B-76088D8C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FBA7-606D-4AB9-A741-6E7B8926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0D03-2860-4A2B-8BE9-F46C2F48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C1BE-B03A-4AE3-BE92-141F844A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CA5C-3015-40BA-977A-541F7F6D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73BF-27F9-4DAC-A0F1-274BA84C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47B7-4EF9-49DE-AD82-51DD8CBC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E885-2CAA-4DD4-B85E-2346006E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BD99-1B60-4C85-A2FC-4433837C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9A30-2A08-4206-968F-CFEE7F3F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6305-B9EF-4494-8E5D-25F277315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1649-7769-4437-9317-865D0E65D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D9B9-A48D-45C1-8FD6-475D25BA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C872-B476-49E9-A0DB-24AFC004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BEBB-DC80-4CAF-BDA0-3891EF3C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F9B6-E05F-4CC7-BA76-B5EAD911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C367-F688-43E4-A962-901269CF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7E58-B8CA-428D-8331-AE21F1BB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3B5F-0454-498F-9F79-B0D45E49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19A3-01BE-4F65-8E78-67A7E684398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1627-3B49-46CF-A1F7-DA220DA5815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nage Programs That Promote Personal Effectivene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nning the Proje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member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You will need overall goal and objectiv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se will form the tasks that must be comple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plan phase of the overall project life cycl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Develop the detailed task li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Estimate all times and all cos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Arrange the best sequence of all tas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Develop a workable schedule and identify critical mileston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Write a detailed project plan and obtain approval from stakeholde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fer to plan the project not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20:50:04Z</dcterms:created>
  <dc:creator>Stephen Ford</dc:creator>
  <dc:description/>
  <dc:language>en-US</dc:language>
  <cp:lastModifiedBy>Stephen Ford</cp:lastModifiedBy>
  <dcterms:modified xsi:type="dcterms:W3CDTF">2008-08-26T20:51:38Z</dcterms:modified>
  <cp:revision>1</cp:revision>
  <dc:subject/>
  <dc:title>Manage Programs That Promote Personal Effectiveness</dc:title>
</cp:coreProperties>
</file>