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6205-93B8-4DFF-AA11-FB780ABB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04DD-AEAD-413E-AB35-0DB74C178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E4C9-3EA0-4D75-97B1-54612AA1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9B5-4AA1-4BEB-8EFE-DB930E6D9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A13F8-25A3-45EC-8A00-4C857E9D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A173-5CDD-4813-89F6-C491B9A00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0C16-D146-4A28-AA1C-7899E248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A09A-7686-47BB-821A-01152D96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F390-FE8F-4312-AF29-6A9BCC01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FF91-F4B3-4E1E-9ACC-ECA65794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FDAF-353C-4210-98F7-40FA3EC0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4CC5-2ECB-4D87-88CC-B15E60C2E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E29D-13BC-4417-9A11-8B6C8007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A77F-CA71-48D8-9F02-EA3AC80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EF0C-8F35-4C36-B552-887DA8D88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04597-24E7-47D3-A748-656709E9F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3ED12-8C70-4081-8D9B-8146D814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D37A-C6BF-45D1-B12C-9ABBC4547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68EA-B277-448D-AD39-5D985B21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9077-675D-4C12-AD39-62D366015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8F63-D198-42C1-B0FF-0170EF03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E1B-058C-49B1-870C-014FDB54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72FD-2B83-4901-8AFF-DC7E4DF6D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15AD-92FF-458A-998C-F91E9426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607E-65A4-4CEC-A718-197C8CCC07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7DF5-BEBB-4D5C-9112-479E49386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nage personal effectivenes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rveying the sta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FROM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Ben Russell, CEO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TO: 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General Manager, Human Resources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Verdana"/>
              </a:rPr>
              <a:t>SUBJECT: Research Personal Effectiveness Iss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I am very pleased with your report on Personal Effectiveness programs and what it means to be and become an "employer of choice," and I have no doubt that we can also achieve those benefit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As you know, the current high absenteeism productivity rates are of some concern, but your research indicates that wellness programs could clearly help address those issues. I would like you to work with your team to conduct internal research and to prepare a plan. This should target those programs that the majority of employees respond to most favourably and those that would best help address the issues of absenteeism and productivity rates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574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460440"/>
            <a:ext cx="5867280" cy="56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repare a staff survey onli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ister at Quia or simil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5740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Read tips for preparing  through a google search and other notes provid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Try out your survey-email to other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ile results using 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ep for assess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1T00:12:31Z</dcterms:created>
  <dc:creator>Stephen Ford</dc:creator>
  <dc:description/>
  <dc:language>en-US</dc:language>
  <cp:lastModifiedBy>Stephen Ford</cp:lastModifiedBy>
  <dcterms:modified xsi:type="dcterms:W3CDTF">2008-08-21T00:13:35Z</dcterms:modified>
  <cp:revision>1</cp:revision>
  <dc:subject/>
  <dc:title>Manage personal effectiveness</dc:title>
</cp:coreProperties>
</file>