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7292-AB1B-417C-AD4E-4F838900F0F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538-9DA6-4C80-8BDE-EA943829C42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928-C0A8-4402-9BD4-75307437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00A-BC83-4679-A116-351EE0B4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C65-2FFA-4E07-8B75-D25BC0CB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457-723B-458B-B73E-32336C5F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5EE-E23C-4D5C-B965-6F519B92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DE7-6B6D-4AA3-B6A7-757E80F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B12-0E10-44AD-B37B-462BBA41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554-B0E6-4BA7-8730-B9EFD4F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29C-1B2D-4421-ACE1-A05960D1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CF5-C5BC-42A4-842C-A8434BCD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F10-CE4B-45C8-839C-B0D5D6BA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893-D13F-4740-A28C-A15D64E1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4F92-1038-4C61-8A76-70C86D8254EE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itiating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ject Scope provides a clear and refined descripti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cope documents and its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e page 5-7 of the plan the project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Steve\AppData\Local\Microsoft\Windows\Temporary Internet Files\Content.IE5\RRQ33K7U\MPj04385170000[1].jpg"/>
          <p:cNvPicPr/>
          <p:nvPr/>
        </p:nvPicPr>
        <p:blipFill>
          <a:blip r:embed="rId2"/>
          <a:stretch/>
        </p:blipFill>
        <p:spPr>
          <a:xfrm>
            <a:off x="3071880" y="2286000"/>
            <a:ext cx="4714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health issues that affect personal effectiveness at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wellness strategies that might be able to be introduced at your “workpla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nowledge and understanding of these can be gained through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nagement and HR journals and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R asso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vernme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de union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dustri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are looking for information on past, present and future issues that impact on individuals or groups in your workforce and current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come the “Employer of choic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proactive in your field or amongst your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oin together with others in your locality to access facilities or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about a casual dress day or a “call in well” day to start the ball roll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ut up a case to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communicat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assess the cost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la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measure results/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improve it for next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fer to p593-598 of the Chapter from Jones-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e : this chapter has a focus on Worklife balance programs but the principles still apply to your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lanning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you develop options for addressing the identified health issue you put up a proposal for taking the project fur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nee to obtain support from senior management for your preferred option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 are in the “initiate”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2:10:51Z</dcterms:created>
  <dc:creator>Steve Ford</dc:creator>
  <dc:description/>
  <dc:language>en-US</dc:language>
  <cp:lastModifiedBy>Steve Ford</cp:lastModifiedBy>
  <dcterms:modified xsi:type="dcterms:W3CDTF">2008-08-05T04:19:06Z</dcterms:modified>
  <cp:revision>16</cp:revision>
  <dc:subject/>
  <dc:title>Manage Personal Effectiveness</dc:title>
</cp:coreProperties>
</file>