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anage Programs That Promote Personal Effectiveness Lesson 3 R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264E-236B-4F48-8327-E5CBF49ACCFF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7DAE-E961-43A4-830B-2C143A79D6A6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anage Programs That Promote Personal Effectiveness Lesson 3 R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0D79-A8C5-4CFB-BDF6-8F98C798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BE5B-BB4E-4384-B87E-2BCDFE28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D65C-48D4-47FD-8189-0D310A0E0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2AD1-1D81-41F7-BCBE-B6564D7D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8C7F-7508-420E-A7D6-B63EED47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BC0D-757F-4ACA-A779-CAB964B9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E928-86C1-4799-A68C-8A4DAD3B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6D98-460F-4480-B139-9D47E210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4639-6385-4776-8483-2DB78A99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B7BB-3A0D-4C17-AE15-F0674EF0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25CE-34B7-4CB9-8C1E-DFC96ED7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86EA-0ED6-4FB2-ACD9-D8A41372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1B05-3B93-43EE-9B33-D804BA76103D}" type="slidenum">
              <a:rPr b="0" lang="en-A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Manage Personal Effectiven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Lesson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Initiating progr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Project Scope provides a clear and refined description o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Scope documents and its compon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ee page 5-7 of the plan the project worksh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Steve\AppData\Local\Microsoft\Windows\Temporary Internet Files\Content.IE5\RRQ33K7U\MPj04385170000[1].jpg"/>
          <p:cNvPicPr/>
          <p:nvPr/>
        </p:nvPicPr>
        <p:blipFill>
          <a:blip r:embed="rId2"/>
          <a:stretch/>
        </p:blipFill>
        <p:spPr>
          <a:xfrm>
            <a:off x="3071880" y="2286000"/>
            <a:ext cx="47149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search some health issues that affect personal effectiveness at wo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search some wellness strategies that might be able to be introduced at your “workplac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 knowledge and understanding of these can be gained through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Management and HR journals and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R associ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ternet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Government pub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rade union pub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dustrial agre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networ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You are looking for information on past, present and future issues that impact on individuals or groups in your workforce and current best pract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Become the “Employer of choice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e proactive in your field or amongst your competi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Join together with others in your locality to access facilities or progr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How about a casual dress day or a “call in well” day to start the ball rolling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do you put up a case to managem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do you communicate i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do you assess the costs and benefi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do you plan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do you measure results/ su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do improve it for next yea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fer to p593-598 of the Chapter from Jones- hand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ote : this chapter has a focus on Worklife balance programs but the principles still apply to your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lanning propos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fter you develop options for addressing the identified health issue you put up a proposal for taking the project fur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You nee to obtain support from senior management for your preferred option/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You are in the “initiate” 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4" descr=""/>
          <p:cNvPicPr/>
          <p:nvPr/>
        </p:nvPicPr>
        <p:blipFill>
          <a:blip r:embed="rId1"/>
          <a:stretch/>
        </p:blipFill>
        <p:spPr>
          <a:xfrm>
            <a:off x="378000" y="1596960"/>
            <a:ext cx="83278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22:10:51Z</dcterms:created>
  <dc:creator>Steve Ford</dc:creator>
  <dc:description/>
  <dc:language>en-US</dc:language>
  <cp:lastModifiedBy>Steve Ford</cp:lastModifiedBy>
  <dcterms:modified xsi:type="dcterms:W3CDTF">2008-08-05T04:19:06Z</dcterms:modified>
  <cp:revision>16</cp:revision>
  <dc:subject/>
  <dc:title>Manage Personal Effectiveness</dc:title>
</cp:coreProperties>
</file>