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anage Programs That Promote Personal Effectiveness Lesson 3 R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31DBF-92EE-4E93-ACA5-88C4F35FF50B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35D7-4447-43F5-9C4F-759C305AFFD1}" type="slidenum">
              <a:rPr b="0" lang="en-A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Manage Programs That Promote Personal Effectiveness Lesson 3 RA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047C-E753-4724-BB77-F01957310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E14E-7F94-483D-ADBA-1F94A8BE3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6FD3-5B9D-4925-8BBD-4243E98F2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166C-40E5-44C1-8B0F-A91D65F8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3F93-2DFA-4759-B794-585C4C34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5124-1B2F-4F97-AB01-CC2F13247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E9C9-0B51-4807-A5F1-876286E3F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1334-9325-4D08-8C26-FF693812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07BA-F58B-4D96-8799-E774D321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702D-33EA-40D3-B60B-82E8DFBF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4A70F-AEBA-45D7-BD41-69B92C0A3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F7F6-569D-49CE-ADC5-B4D54E8D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51A3-8DDB-4292-986F-6A23C58BECE7}" type="slidenum">
              <a:rPr b="0" lang="en-A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Manage Personal Effectiven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libri"/>
              </a:rPr>
              <a:t>Lesson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898989"/>
                </a:solidFill>
                <a:latin typeface="Calibri"/>
              </a:rPr>
              <a:t>Initiating progr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Project Scope provides a clear and refined description of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Content Placeholder 3" descr=""/>
          <p:cNvPicPr/>
          <p:nvPr/>
        </p:nvPicPr>
        <p:blipFill>
          <a:blip r:embed="rId1"/>
          <a:stretch/>
        </p:blipFill>
        <p:spPr>
          <a:xfrm>
            <a:off x="450720" y="1584360"/>
            <a:ext cx="824256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Scope documents and its compon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See page 5-7 of the plan the project workshe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Users\Steve\AppData\Local\Microsoft\Windows\Temporary Internet Files\Content.IE5\RRQ33K7U\MPj04385170000[1].jpg"/>
          <p:cNvPicPr/>
          <p:nvPr/>
        </p:nvPicPr>
        <p:blipFill>
          <a:blip r:embed="rId2"/>
          <a:stretch/>
        </p:blipFill>
        <p:spPr>
          <a:xfrm>
            <a:off x="3071880" y="2286000"/>
            <a:ext cx="47149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search some health issues that affect personal effectiveness at work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search some wellness strategies that might be able to be introduced at your “workplace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 knowledge and understanding of these can be gained through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Management and HR journals and tex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HR associ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nternet resea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Government pub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Trade union publ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Industrial agre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Calibri"/>
              </a:rPr>
              <a:t>networ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You are looking for information on past, present and future issues that impact on individuals or groups in your workforce and current best pract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Become the “Employer of choice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Be proactive in your field or amongst your competi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Join together with others in your locality to access facilities or progr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Calibri"/>
              </a:rPr>
              <a:t>How about a casual dress day or a “call in well” day to start the ball rolling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do you put up a case to manageme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do you communicate i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do you assess the costs and benefi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do you plan i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do you measure results/ suc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How do improve it for next yea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Refer to p593-598 of the Chapter from Jones- handou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Note : this chapter has a focus on Worklife balance programs but the principles still apply to your pro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Planning propos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After you develop options for addressing the identified health issue you put up a proposal for taking the project furth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Calibri"/>
              </a:rPr>
              <a:t>You nee to obtain support from senior management for your preferred option/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Calibri"/>
              </a:rPr>
              <a:t>You are in the “initiate” ph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Content Placeholder 4" descr=""/>
          <p:cNvPicPr/>
          <p:nvPr/>
        </p:nvPicPr>
        <p:blipFill>
          <a:blip r:embed="rId1"/>
          <a:stretch/>
        </p:blipFill>
        <p:spPr>
          <a:xfrm>
            <a:off x="378000" y="1596960"/>
            <a:ext cx="832788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22:10:51Z</dcterms:created>
  <dc:creator>Steve Ford</dc:creator>
  <dc:description/>
  <dc:language>en-US</dc:language>
  <cp:lastModifiedBy>Steve Ford</cp:lastModifiedBy>
  <dcterms:modified xsi:type="dcterms:W3CDTF">2008-08-05T04:19:06Z</dcterms:modified>
  <cp:revision>16</cp:revision>
  <dc:subject/>
  <dc:title>Manage Personal Effectiveness</dc:title>
</cp:coreProperties>
</file>