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CFA-B989-4773-97A5-97F8F8F2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5BD-D4FB-41E8-9303-2C746A84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F5B-AB21-4C89-9487-FAFEB5A1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1C7-A70F-436D-8274-C0C6751E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B31-396A-4775-B4EE-DA49C852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45F-05B3-4FD5-B579-C6934B0D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4F7A-FF61-4CF1-9E74-8A464F97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25E-8D0B-4DAD-8C94-DCC513AA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B136-9336-4927-AB7A-0145A7DC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09D-6306-408A-8F55-40D82B2A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61D9-859F-4BF8-BD73-48A293F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B89-25BE-46EC-9A8C-B77E6D45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FA99-CD36-4E59-BD6B-5EE4B07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AD9E-8503-4916-BC83-44D594B2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D55-086E-4923-848F-BEF2997D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5C3-BD40-45D5-91AD-8897E20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187A-CCA8-4BE5-AF60-76BF2AD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06E-B62E-40AA-B230-486843C4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397-EBBD-46D2-ADF7-DCEF58E6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F1E-1052-4FB9-9370-7C422D7B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892-7F3B-46E2-B54E-D6872945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DF4-C6FA-4BF4-8525-C26CC25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0C9-4D16-41B1-9670-37AE594B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685-56E0-41DD-BDDF-F0AD572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E67-EFBB-4B87-AD25-3146B7A8A6C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D91B-3852-4220-9C35-0CD54DB551D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Programs That Promote Personal Effective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ning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 will need overall goal and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will form the tasks that must be comple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lan phase of the overall project life cyc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the detailed task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stimate all times and all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rrange the best sequence of all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a workable schedule and identify critical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Write a detailed project plan and obtain approval from stakehol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to plan the project no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0:04Z</dcterms:created>
  <dc:creator>Stephen Ford</dc:creator>
  <dc:description/>
  <dc:language>en-US</dc:language>
  <cp:lastModifiedBy>Stephen Ford</cp:lastModifiedBy>
  <dcterms:modified xsi:type="dcterms:W3CDTF">2008-08-26T20:51:38Z</dcterms:modified>
  <cp:revision>1</cp:revision>
  <dc:subject/>
  <dc:title>Manage Programs That Promote Personal Effectiveness</dc:title>
</cp:coreProperties>
</file>