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A56-F7F3-4D96-A0B7-A89F5410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5DD-FB3D-45D0-97B2-97CBC2B6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B71-6936-41B9-92EE-0E2165B4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A56-68F5-4DCF-AA43-A97F2A81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5DCF-4FC8-46C7-ABEF-C666A7B7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E816-073A-4012-BADD-8A8D4CE9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3AC2-07E2-460E-8B44-74D22822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18EF-0F41-4095-A9DD-848E5005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6E65-09E4-49BA-81D3-9D3987E1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D852-D387-412F-BAC2-FA21A928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C5DB-5730-4707-A0D2-8DBF7A0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FDC-1859-487F-A240-18B7C865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F265-F16C-453C-9180-0E42B45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A48F-5D3F-46AE-AF76-520A53EE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C4B7-38AB-4C9A-993B-8EF2652E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2495-62C9-4190-9325-8D784F90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6DAF-AA9E-4A20-9EC9-ECD3D658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86A-D53D-40D9-B9A8-769B99E3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A61-7731-4EDE-84B6-EFD7EB4B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3AB-8D96-41FF-AADE-BA50E6E6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1B2-EF75-4CDF-93E0-7994C8F0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1C5-15D6-44A6-9CB3-B2CB41F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090-12D7-4784-A208-622945A3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EA4-D867-473B-88B1-E87CD9B0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A4F8-40E8-439F-A374-3B98527DC1C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DA62-FACD-429A-94E5-668E6C82DFE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Programs That Promote Personal Effective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ning the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member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 will need overall goal and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will form the tasks that must be comple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lan phase of the overall project life cyc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the detailed task l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Estimate all times and all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rrange the best sequence of all tas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a workable schedule and identify critical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Write a detailed project plan and obtain approval from stakehold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 to plan the project no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0:50:04Z</dcterms:created>
  <dc:creator>Stephen Ford</dc:creator>
  <dc:description/>
  <dc:language>en-US</dc:language>
  <cp:lastModifiedBy>Stephen Ford</cp:lastModifiedBy>
  <dcterms:modified xsi:type="dcterms:W3CDTF">2008-08-26T20:51:38Z</dcterms:modified>
  <cp:revision>1</cp:revision>
  <dc:subject/>
  <dc:title>Manage Programs That Promote Personal Effectiveness</dc:title>
</cp:coreProperties>
</file>