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14A1-53C9-4FB1-9C79-E675B30C7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FC84-13D9-41CE-AE70-AC0CF6467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4DC4-AB7B-4869-9680-132DEFA1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678C-E14D-4DA6-A697-924111136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BF17-B3A2-4195-8C90-EF55573E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87A3-B604-4BC2-8A77-08BB95CA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1061-D72D-4DB8-B2D7-2BDD7365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7BEF-FC86-4A1C-AC31-E4CC49B5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D4B4-788F-4613-8709-E58A3979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BF87-7EA0-4FB8-A75E-E28C7BFB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235E-91C4-4CFA-8F8E-CFFA51DE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12C1-4852-4BBD-9A1B-62228C71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1177-31A3-47DD-A952-EAD0162F15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e personal effectiv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veying the sta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pare a staff survey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 at Quia or simi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FROM: 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Ben Russell, CEO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TO: 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General Manager, Human Resources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SUBJECT: Research Personal Effectiveness Iss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I am very pleased with your report on Personal Effectiveness programs and what it means to be and become an "employer of choice," and I have no doubt that we can also achieve those benefits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As you know, the current high absenteeism productivity rates are of some concern, but your research indicates that wellness programs could clearly help address those issues. I would like you to work with your team to conduct internal research and to prepare a plan. This should target those programs that the majority of employees respond to most favourably and those that would best help address the issues of absenteeism and productivity rates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Read tips for preparing  through a google search and other notes provid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y out your survey-email to other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mpile results using Qu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Keep for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23:33:34Z</dcterms:created>
  <dc:creator>Stephen Ford</dc:creator>
  <dc:description/>
  <dc:language>en-US</dc:language>
  <cp:lastModifiedBy>Stephen Ford</cp:lastModifiedBy>
  <dcterms:modified xsi:type="dcterms:W3CDTF">2008-08-20T23:45:42Z</dcterms:modified>
  <cp:revision>1</cp:revision>
  <dc:subject/>
  <dc:title>Manage personal effectiveness</dc:title>
</cp:coreProperties>
</file>