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E8C-5429-44F5-B8F1-064F8A5D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881-7295-44FD-8AE5-8654FE91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846-A221-475E-91CA-754A5A7A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C6E-59F1-4283-ADE0-C0BB6F8B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9EF-FD6E-484B-B62D-0A49364C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02B-FB39-4662-9803-449FC82C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A4E-0508-42F0-863F-CED02031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867-5336-420A-A206-36801FEB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58C-3EDA-4694-A8ED-C6856B7D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FFD-233B-4974-A678-540D88D8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1CA-68C9-4902-8E3C-25A6A847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33B-C49F-4FED-96B2-825FE9E6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599F-A7B1-464E-B0AE-7A8EBED26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e personal effec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ing the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e a staff survey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at Quia or sim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FROM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Ben Russell, CEO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TO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General Manager, Human Resource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SUBJECT: Research Personal Effectiveness 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 am very pleased with your report on Personal Effectiveness programs and what it means to be and become an "employer of choice," and I have no doubt that we can also achieve those benefit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As you know, the current high absenteeism productivity rates are of some concern, but your research indicates that wellness programs could clearly help address those issues. I would like you to work with your team to conduct internal research and to prepare a plan. This should target those programs that the majority of employees respond to most favourably and those that would best help address the issues of absenteeism and productivity rate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ad tips for preparing  through a google search and other notes provi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y out your survey-email to other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ile results using Q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ep f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23:33:34Z</dcterms:created>
  <dc:creator>Stephen Ford</dc:creator>
  <dc:description/>
  <dc:language>en-US</dc:language>
  <cp:lastModifiedBy>Stephen Ford</cp:lastModifiedBy>
  <dcterms:modified xsi:type="dcterms:W3CDTF">2008-08-20T23:45:42Z</dcterms:modified>
  <cp:revision>1</cp:revision>
  <dc:subject/>
  <dc:title>Manage personal effectiveness</dc:title>
</cp:coreProperties>
</file>