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90EF-E08D-4CF2-8E04-B6DE54900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6912-D22A-4793-93C4-FFB239FDA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2F31-4F31-4511-A795-6380D7738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0545-E3C9-4353-91DF-C899421DE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753C-E848-44D1-AD50-80894E7BD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3EBB-3755-41D3-988C-4DD5A73D9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BD5C-D0B7-4248-8C80-6569AF166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40EB-8CA1-4E06-8697-2CA9265F5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16E7-C391-4FA6-9F49-7E511CEE7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3F0A-33A4-4AAE-B952-496DFA63C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2E69-EF4B-4D2C-A74B-FB5390849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27E5-8812-4F8F-B6CE-DA2A53C2D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C5A02-ADD2-4227-95D3-5E4CCE4737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age personal effectiven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rveying the staf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pare a staff survey on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gister at Quia or simil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Verdana"/>
              </a:rPr>
              <a:t>FROM: </a:t>
            </a:r>
            <a:r>
              <a:rPr b="0" lang="en-AU" sz="2000" spc="-1" strike="noStrike">
                <a:solidFill>
                  <a:srgbClr val="000000"/>
                </a:solidFill>
                <a:latin typeface="Verdana"/>
              </a:rPr>
              <a:t>Ben Russell, CEO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Verdana"/>
              </a:rPr>
              <a:t>TO: </a:t>
            </a:r>
            <a:r>
              <a:rPr b="0" lang="en-AU" sz="2000" spc="-1" strike="noStrike">
                <a:solidFill>
                  <a:srgbClr val="000000"/>
                </a:solidFill>
                <a:latin typeface="Verdana"/>
              </a:rPr>
              <a:t>General Manager, Human Resources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Verdana"/>
              </a:rPr>
              <a:t>SUBJECT: Research Personal Effectiveness Issu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Verdana"/>
              </a:rPr>
              <a:t>I am very pleased with your report on Personal Effectiveness programs and what it means to be and become an "employer of choice," and I have no doubt that we can also achieve those benefits. 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Verdana"/>
              </a:rPr>
              <a:t>As you know, the current high absenteeism productivity rates are of some concern, but your research indicates that wellness programs could clearly help address those issues. I would like you to work with your team to conduct internal research and to prepare a plan. This should target those programs that the majority of employees respond to most favourably and those that would best help address the issues of absenteeism and productivity rates. 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Read tips for preparing  through a google search and other notes provide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Try out your survey-email to other stud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Compile results using Qu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Keep for assess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0T23:33:34Z</dcterms:created>
  <dc:creator>Stephen Ford</dc:creator>
  <dc:description/>
  <dc:language>en-US</dc:language>
  <cp:lastModifiedBy>Stephen Ford</cp:lastModifiedBy>
  <dcterms:modified xsi:type="dcterms:W3CDTF">2008-08-20T23:45:42Z</dcterms:modified>
  <cp:revision>1</cp:revision>
  <dc:subject/>
  <dc:title>Manage personal effectiveness</dc:title>
</cp:coreProperties>
</file>