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F04-8C3F-444C-B893-48E4BF12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D870-E0F7-4FB4-8A7D-098FCD36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CC8C-B6B8-4111-8444-51AD22C4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941-5172-4B2E-BD4A-B4185AF5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6DE3-772C-4C1A-87BF-64028EED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8D64-09FC-4A06-9BDA-0C90F56B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160-142E-4C01-92E8-304C371A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6328-7D89-4BD3-ADC0-6A5A2E7F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B99D-CCAE-4AFC-89FF-7D332C8C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0F1E-6DD6-4165-B823-582F9272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A9A2-0B7B-4290-A229-55730880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E8F-16BB-41C2-8419-4AEB3AEA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15F5-0B7A-4DAD-A5AC-75D208B0A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e personal effective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ing the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pare a staff survey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at Quia or sim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FROM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Ben Russell, CEO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TO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General Manager, Human Resource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SUBJECT: Research Personal Effectiveness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 am very pleased with your report on Personal Effectiveness programs and what it means to be and become an "employer of choice," and I have no doubt that we can also achieve those benefit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As you know, the current high absenteeism productivity rates are of some concern, but your research indicates that wellness programs could clearly help address those issues. I would like you to work with your team to conduct internal research and to prepare a plan. This should target those programs that the majority of employees respond to most favourably and those that would best help address the issues of absenteeism and productivity rate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d tips for preparing  through a google search and other notes provi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y out your survey-email to othe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ile results using Q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ep f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23:33:34Z</dcterms:created>
  <dc:creator>Stephen Ford</dc:creator>
  <dc:description/>
  <dc:language>en-US</dc:language>
  <cp:lastModifiedBy>Stephen Ford</cp:lastModifiedBy>
  <dcterms:modified xsi:type="dcterms:W3CDTF">2008-08-20T23:45:42Z</dcterms:modified>
  <cp:revision>1</cp:revision>
  <dc:subject/>
  <dc:title>Manage personal effectiveness</dc:title>
</cp:coreProperties>
</file>