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C1CB-FA57-4B45-A01D-D1141CEC9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A59-7D9D-4BF0-8120-297C9D4D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4F89-3E8E-47B5-A071-0F0358973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6A14-E689-4E45-86EC-8DE92924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877C-A6C7-466E-89C2-70A586648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E7E9-AFCE-4AD6-8B84-03F261BF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1EAF-C427-4795-8D4D-93ED3FC4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8895-4F53-4640-8161-77F30E48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A4DF5-2129-4083-896C-3A7C878E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4FD44-1AF5-4F27-A41C-92B8CB6B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33BA5-AA62-44BF-872E-96414CDF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09B6-560A-4FD6-8000-076837D1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B662-B587-43AB-937C-3C99BE44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DA9B-99A0-437E-8C80-33B390A2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5394-E7EA-4B72-A0EF-07AAA7FA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9143-4222-449E-A4D4-DA44B4203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BED7C-AA8A-4385-BDEF-3586082C1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5517-16CE-406C-A5AE-78546DFA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9218-C978-4A84-81EF-6D97E959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3DD-2B61-42DF-9AA4-865DD267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6543-B87C-4B34-B039-492FCF0C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FBA1-AAD8-4DBB-B24D-655D1EFA5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E86E-D0F1-44FF-B276-54E3E495E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C262-3DCD-48BD-BF2E-75C44CBB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1B34-F22D-49AE-8189-FA0649E9A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5765-A196-4E0D-B97D-04C4EB101E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nage personal effectivenes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veying the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FROM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Ben Russell, CEO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TO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General Manager, Human Resource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SUBJECT: Research Personal Effectiveness Iss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I am very pleased with your report on Personal Effectiveness programs and what it means to be and become an "employer of choice," and I have no doubt that we can also achieve those benefit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As you know, the current high absenteeism productivity rates are of some concern, but your research indicates that wellness programs could clearly help address those issues. I would like you to work with your team to conduct internal research and to prepare a plan. This should target those programs that the majority of employees respond to most favourably and those that would best help address the issues of absenteeism and productivity rate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574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460440"/>
            <a:ext cx="586728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epare a staff survey onlin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 at Quia or sim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574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ad tips for preparing  through a google search and other notes provid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y out your survey-email to other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ile results using Q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eep for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0:12:31Z</dcterms:created>
  <dc:creator>Stephen Ford</dc:creator>
  <dc:description/>
  <dc:language>en-US</dc:language>
  <cp:lastModifiedBy>Stephen Ford</cp:lastModifiedBy>
  <dcterms:modified xsi:type="dcterms:W3CDTF">2008-08-21T00:13:35Z</dcterms:modified>
  <cp:revision>1</cp:revision>
  <dc:subject/>
  <dc:title>Manage personal effectiveness</dc:title>
</cp:coreProperties>
</file>