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A191-C10A-4EFD-8326-3B59C7D46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6007-C4CD-41B6-B12F-AFD7CDC4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F232-F8F4-4B9C-BFD5-A9CCC22F7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32E0-AE60-4DAB-ACBC-5A4DBC1C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4336-0DAE-48F3-B337-D553BB89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9C49-F814-4177-9937-EFC6FEDC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7B0D-F8DC-4844-8CDB-574F83ED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A3B6-E2D2-4C98-BF63-5BD5BC42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536C-EBAF-454E-88E3-DE2406A2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A8FC-7049-42E8-A650-79C1D08A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9D84-38E1-453A-97DE-896680F7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48A0-E322-407E-BCF0-04023D72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D056-E105-4CAB-BC4D-3380E3EB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7B84-7524-447F-BE0D-87E45BF9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AA7B-282B-43C4-A1C5-C680507A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D3EF-C4D5-4A14-B74B-78D48C99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9D61-21F7-4E37-89CB-2DBD0D74C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BA7F-F9D6-4421-9E0F-37BF3A9F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112B-1DC1-40B7-AEE8-A46E54CA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C46D-FCA7-498E-92BE-1ABFC352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00B9-95DB-476E-9269-B5BEE96C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A64E-466D-4B60-9E5B-79BE037E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7347-61C3-4845-B369-EBC6F69D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ACBC-5495-4AFD-955A-6E88F1C4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204F-E286-471A-9515-6F9BB8D5C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3726-1117-4FC3-8E08-875FA92DE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nage personal effectivenes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veying the sta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FROM: 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Ben Russell, CEO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TO: 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General Manager, Human Resources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SUBJECT: Research Personal Effectiveness Iss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I am very pleased with your report on Personal Effectiveness programs and what it means to be and become an "employer of choice," and I have no doubt that we can also achieve those benefits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As you know, the current high absenteeism productivity rates are of some concern, but your research indicates that wellness programs could clearly help address those issues. I would like you to work with your team to conduct internal research and to prepare a plan. This should target those programs that the majority of employees respond to most favourably and those that would best help address the issues of absenteeism and productivity rates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5740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460440"/>
            <a:ext cx="5867280" cy="56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epare a staff survey onlin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 at Quia or simi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5740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Read tips for preparing  through a google search and other notes provid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y out your survey-email to other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mpile results using Qu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Keep for 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00:12:31Z</dcterms:created>
  <dc:creator>Stephen Ford</dc:creator>
  <dc:description/>
  <dc:language>en-US</dc:language>
  <cp:lastModifiedBy>Stephen Ford</cp:lastModifiedBy>
  <dcterms:modified xsi:type="dcterms:W3CDTF">2008-08-21T00:13:35Z</dcterms:modified>
  <cp:revision>1</cp:revision>
  <dc:subject/>
  <dc:title>Manage personal effectiveness</dc:title>
</cp:coreProperties>
</file>