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5C5-3F47-44AA-97AA-540D6387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C3FB-1402-4D57-8CDA-68F5CE9C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E03A-FAED-49F9-BA54-FBE908440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5C5C-468B-4FB2-8544-87B362BA9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394F-8913-42FA-BD6B-2BD7FF86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927E-7E2D-42EF-85E9-70BAD8D1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B8FA-93BB-4E48-99CE-EDBC4315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3A7DB-82C9-4C39-8D6F-0BE08C79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E888-43CD-46E6-8D82-B40C20E6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0A5F-6E9A-4B84-9673-64E35C3A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1174-376D-43B4-A33D-48D160757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141-606F-45C1-9774-13B2B059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1964-545E-4833-AF3B-9834444C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5E75-297B-400F-A664-CF67D4BE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BF88-2436-4904-9D9D-79940A08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437C9-A5E3-46F6-AA07-316E31AE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CAFE8-7A5E-42CF-98A3-47C3A6F0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0DF-6DB2-42F6-A605-42A07779E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3BBD-90F8-4E9F-AB42-BAC879DB1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2FCD-C45A-42E8-BC93-FFE6557C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376C-2FD6-433F-AC49-C96A45F0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E455-C345-4FC5-ADA5-F6ADC46A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C98-4652-4F9E-A5A2-354CBC06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B7A-8E2C-48BB-8E07-CDE590E6F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33E0F-51F6-4CDB-9276-195AEEE73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3DD7F-2679-48CD-99CD-779A0D01D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nage personal effectiven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ing the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FROM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Ben Russell, CE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TO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General Manager, Human Resourc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UBJECT: Research Personal Effectiveness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 am very pleased with your report on Personal Effectiveness programs and what it means to be and become an "employer of choice," and I have no doubt that we can also achieve those benefit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s you know, the current high absenteeism productivity rates are of some concern, but your research indicates that wellness programs could clearly help address those issues. I would like you to work with your team to conduct internal research and to prepare a plan. This should target those programs that the majority of employees respond to most favourably and those that would best help address the issues of absenteeism and productivity rate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574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60440"/>
            <a:ext cx="58672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epare a staff survey onl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t Quia or sim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74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d tips for preparing  through a google search and other notes provi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y out your survey-email to othe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ile results using 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ep f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0:12:31Z</dcterms:created>
  <dc:creator>Stephen Ford</dc:creator>
  <dc:description/>
  <dc:language>en-US</dc:language>
  <cp:lastModifiedBy>Stephen Ford</cp:lastModifiedBy>
  <dcterms:modified xsi:type="dcterms:W3CDTF">2008-08-21T00:13:35Z</dcterms:modified>
  <cp:revision>1</cp:revision>
  <dc:subject/>
  <dc:title>Manage personal effectiveness</dc:title>
</cp:coreProperties>
</file>