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27A-3DAA-4FAD-99D2-FE91BAEF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7FD-5163-43CE-94AD-BA6E0543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F31-EB77-4118-817F-825FDBFB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9CB-BD42-40D8-8AFF-F0C64807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507-F0C0-47E3-A8BF-D86A9C6F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DC2A-F3EA-4374-978D-46E41777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ED23-5B62-4600-930F-0198ABBC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52E9-2AC7-4FA8-AC3C-7339F80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CAB8-86A3-42AC-867F-E9EEA406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8DA6-8F52-40A8-A4EF-E7C11CF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314C-3B9D-40A0-AA5C-265EEE4F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6B8-6C42-48D6-8B68-ED9569DD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1A6-A8AB-4182-814C-DD95F78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3A1C-ACBB-42E1-8F7B-1363511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16B1-D8F5-462F-8FDF-1E2E423A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593B-559B-4375-9E23-C99B6815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2F4-C64D-4D80-B100-8668B92F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997-F591-4F52-B463-A9B471DE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370-0CE8-471E-BED0-8FCD6CF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0F6-304B-4716-8DB6-77ABBE8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E1B-90F7-4A36-BD09-01960B5F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6DE-2645-49F2-B032-B2DC50B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A64-6952-428E-B499-4E5EF469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E97-7975-4FC2-8638-6F033FA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5C44-798F-4377-916A-F0F6FEDE3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CD0-DC2A-4D76-BA07-A95A6C23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60440"/>
            <a:ext cx="58672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12:31Z</dcterms:created>
  <dc:creator>Stephen Ford</dc:creator>
  <dc:description/>
  <dc:language>en-US</dc:language>
  <cp:lastModifiedBy>Stephen Ford</cp:lastModifiedBy>
  <dcterms:modified xsi:type="dcterms:W3CDTF">2008-08-21T00:13:35Z</dcterms:modified>
  <cp:revision>1</cp:revision>
  <dc:subject/>
  <dc:title>Manage personal effectiveness</dc:title>
</cp:coreProperties>
</file>