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316-3DE0-4B5B-B5E7-AA6118DF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A07-D841-4AB1-AC5B-E20930CB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F9C-5B0D-417C-8BD8-08DF7C5A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8E0-F30D-49D2-9EAA-0E42F7E8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3912-8E81-44D4-9F5B-CC92075A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5E26-FB1B-4F4F-9523-3B908F59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F40C-03E2-4237-AAD3-6C31AF06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68A3-F676-40A6-BE43-FA31E413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8415-FC4F-4C39-995A-23ED1C91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FE85-42BC-49D2-B00B-2A251041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5523-662E-4BBC-9A60-4D87E50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47B-1DD0-4BB1-B79A-8FB32F34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B5BF-F462-440D-8DB4-9D34031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977C-85AA-4657-9484-BFD1C471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1AA6-F123-450F-A72B-A4DB007F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105D-F34A-446F-A7D6-CE531536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AD77-93FA-40BD-91A2-38A9BB5D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592-AA8D-4474-BB74-A16AC38D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DF6-F508-4C6E-B0A6-078C00AE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542-9C9F-44ED-89F5-C69DAC17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A99-D581-453C-9A2B-D03FD0CD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FDB-9EF3-47D2-934E-D58D7150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A1F-4371-4CDD-A077-AC9BA58A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BA7-B491-4027-AC66-F07FEDD2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4F3-69BB-4E88-B892-151D9BF6046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1D99-CBC0-4F8D-94E2-E5C823B18DA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ing  poor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 People Performan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6914-7BC1-4167-89C0-8D9AD81B70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’s good for the goose…is good for the gan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receiving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argue –list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ck you have underst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explain , defend, justif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nk the speaker for bringing it to your att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ke it on bo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any necessary chan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n dealing with unsatisfactory performance consider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ward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gulatio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cific industrial relations legis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EO and Anti discrim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ers co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place agreements/ employment contra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ment of systematic management of poor perform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ilure to act makes things more complex and painfu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unsatisfactory performance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 improve 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rminate it  (or regress, demote, formally reprimand, closer monitoring, reduce benef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ailure to act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produ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morale of staff and less respect for supervis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 iss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reased st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ste of fun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ff soon learn that nothing happens and poor performance is the nor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ill have to go through the motions when the issue becomes urg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idence of continual incidents of poor performance is undocumen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at fig 9.1 Tovey unsatisfactory performance management flow ch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0 steps to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ing a performance improvement pl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not all performance problems are the employee’s fa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1- identify the gaps and need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formance gaps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as for performanc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benefits of imp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out come of improved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rovement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challenges for the work un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2-specific causes and skills need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ll evidence review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Specific causes idne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skills and knowledg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resource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3 Categorise th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4 Linking specific needs to outpu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s of poor performanc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On the job 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Reporting to work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ifficulty in concen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Lowered job 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Poor relationships with “people at work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Failure to observe org’n regs, policies, proced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5 – prioritis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t 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6  – select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development needs (on and off the jo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non- development needs ( discussion with other managers. Feedback required. Other action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7 Identify resources required to meet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erials and physical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8- develop performance improvement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i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i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on pl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ing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9- implement the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completion dates diar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pies for staff member and mana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mediate commencemen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10- monito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 in conjunction with performance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ign evidence collection pro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85%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raining or exper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ols, equipment or 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umbersome procedures/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clear or unspecified stand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performance is as rewarding as g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job plac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formance standards not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eam work or disharmony in the te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15%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al problem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s of G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motivation or mora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solu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to do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is out of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get feedback about level and actual qu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ected performance is difficult or punishing and in some way less desir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thing in the work environment interferes with perform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forming below expectations is more rewarding or easi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hway to good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to - having clear , worthwhile targe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- being compet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to -being motiv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ce to-Being able to achie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dd01352_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249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xamples of the following types of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uc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at a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it factual and non perso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cribe the behaviour and its effects objectiv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onside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action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away from hears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tim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er it frequent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25:55Z</dcterms:created>
  <dc:creator>Stephen Ford</dc:creator>
  <dc:description/>
  <dc:language>en-US</dc:language>
  <cp:lastModifiedBy>Stephen Ford</cp:lastModifiedBy>
  <dcterms:modified xsi:type="dcterms:W3CDTF">2009-03-08T20:05:06Z</dcterms:modified>
  <cp:revision>2</cp:revision>
  <dc:subject/>
  <dc:title>Managing  poor performance</dc:title>
</cp:coreProperties>
</file>