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D518-25E9-4895-B14D-3F375CBB6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30DC-5126-48B8-AC23-EB5D3FFAD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4D8A-8C50-4681-9049-C83D0DF81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D9C3-E443-45A7-A86A-2EC71026D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D9FCA-0E18-4FF4-B23F-94044ACDD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6B323-A2D7-4F73-B820-1D9384CE1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8B266-2E3B-4F6F-B9C8-F911683FB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74D1A-5491-4EE3-9237-7906F4108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D0482-789D-4161-800F-EFCAFE16A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40E64-F704-433D-BF72-03D45580F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6A73C-8654-4411-A2D2-0EDAD0A06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1462-C1E3-4783-B698-D665BD360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3EAAA-485C-49BD-9DF8-9FAA983B5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C0880-5179-4169-A46D-A616A915A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EF656-2F32-453A-BF3E-F36416BEA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FCA76-8803-4EDE-A853-010928587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B6460-9B90-46FE-B19E-29F11DD7D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D7A0-AB2B-47CD-B227-674530ED7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436B-6CB8-4A45-96B0-223A68353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480A-0A0A-44DC-A37D-23DCEA856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7DC2-D49B-4121-839B-F47DF54CB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FB30-AEE4-4E6A-AB8F-47A30575E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7416-45A7-4547-AEE5-F9C38D46D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2509-9026-4BF5-98BC-02649C7A3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F6750-8551-4E5F-8AF4-8B1FAE1F995C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A7C15-219D-4273-BD16-22AEAF3DF09F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anaging  poor performanc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911240" y="3968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anage People Performance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Manage people performance RAF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92CCC-F231-4DAF-ABF2-CDFBBD0982B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hat’s good for the goose…is good for the gande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hen receiving feedback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on’t argue –liste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heck you have understoo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on’t explain , defend, justif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ank the speaker for bringing it to your atten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ake it on boar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ake any necessary chang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hen dealing with unsatisfactory performance consider 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wards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egulations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pecific industrial relations legisla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EO and Anti discrimina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orkers comp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orkplace agreements/ employment contract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equirement of systematic management of poor performanc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ailure to act makes things more complex and painful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anage unsatisfactory performance 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o  improve i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erminate it  (or regress, demote, formally reprimand, closer monitoring, reduce benefits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 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Failure to act 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Reduced productivit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Reduced morale of staff and less respect for supervis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afety issu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ncreased stre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Waste of fund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taff soon learn that nothing happens and poor performance is the norm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till have to go through the motions when the issue becomes urgen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vidence of continual incidents of poor performance is undocumente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ook at fig 9.1 Tovey unsatisfactory performance management flow char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10 steps to..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eveloping a performance improvement plan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ote not all performance problems are the employee’s faul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tep1- identify the gaps and needs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erformance gaps identifie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reas for performance identifie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xpected benefits of imp performanc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pecific out come of improved performanc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mprovements require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ew challenges for the work uni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tep 2-specific causes and skills needed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eaeaea"/>
                </a:solidFill>
                <a:latin typeface="Times New Roman"/>
              </a:rPr>
              <a:t>All evidence reviewe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eaeaea"/>
                </a:solidFill>
                <a:latin typeface="Times New Roman"/>
              </a:rPr>
              <a:t>Specific causes idnetifie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eaeaea"/>
                </a:solidFill>
                <a:latin typeface="Times New Roman"/>
              </a:rPr>
              <a:t>New skills and knowledge identifie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eaeaea"/>
                </a:solidFill>
                <a:latin typeface="Times New Roman"/>
              </a:rPr>
              <a:t>New resources require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tep 3 Categorise the need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evelopment need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on-development need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tep 4 Linking specific needs to outpu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Outputs linked to development need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Outputs linked to non-development need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igns of poor performance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eaeaea"/>
                </a:solidFill>
                <a:latin typeface="Times New Roman"/>
              </a:rPr>
              <a:t>Absenteeis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eaeaea"/>
                </a:solidFill>
                <a:latin typeface="Times New Roman"/>
              </a:rPr>
              <a:t>On the job absenteeis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eaeaea"/>
                </a:solidFill>
                <a:latin typeface="Times New Roman"/>
              </a:rPr>
              <a:t>Reporting to work problem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eaeaea"/>
                </a:solidFill>
                <a:latin typeface="Times New Roman"/>
              </a:rPr>
              <a:t>Difficulty in concentra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eaeaea"/>
                </a:solidFill>
                <a:latin typeface="Times New Roman"/>
              </a:rPr>
              <a:t>Lowered job efficienc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eaeaea"/>
                </a:solidFill>
                <a:latin typeface="Times New Roman"/>
              </a:rPr>
              <a:t>Poor relationships with “people at work”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eaeaea"/>
                </a:solidFill>
                <a:latin typeface="Times New Roman"/>
              </a:rPr>
              <a:t>Failure to observe org’n regs, policies, procedur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tep 5 – prioritise need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ost solu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evelopment needs- greatest opportunity for improvemen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on-Development needs- greatest opportunity for improvemen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tep 6  – select strategi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trategies for development needs (on and off the job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trategies for non- development needs ( discussion with other managers. Feedback required. Other actions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tep 7 Identify resources required to meet need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one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im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eopl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aterials and physical resourc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tep 8- develop performance improvement plan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i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evelopment objectiv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trateg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esourc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esponsibilit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ction plan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onitoring progres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tep 9- implement the plan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pecific mileston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xpected completion dates diarise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opies for staff member and manage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mmediate commencement</a:t>
            </a: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tep 10- monitor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onitor in conjunction with performance objectiv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esign evidence collection proces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ossible causes 85%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oor training or experienc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ools, equipment or material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umbersome procedures/ system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Unclear or unspecified standard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oor performance is as rewarding as goo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81480" y="1600200"/>
            <a:ext cx="3810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Lack of informa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Lack of tim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oor job placemen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erformance standards not understoo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oor team work or disharmony in the team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ossible causes 15%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ersonal problems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cts of Go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oor motivation or moral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181480" y="1600200"/>
            <a:ext cx="3810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ossible solution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mployee doesn’t know what is expecte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mployee doesn’t know to do what is expecte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mployee is out of practic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mployee doesn’t get feedback about level and actual qualit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81480" y="1600200"/>
            <a:ext cx="3810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on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xpected performance is difficult or punishing and in some way less desirabl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omething in the work environment interferes with performanc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erforming below expectations is more rewarding or easie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181480" y="1600200"/>
            <a:ext cx="3810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athway to good performanc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hat to - having clear , worthwhile target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ow to- being competen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ant to -being motivate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hance to-Being able to achiev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08" name="dd01352_" descr=""/>
          <p:cNvPicPr/>
          <p:nvPr/>
        </p:nvPicPr>
        <p:blipFill>
          <a:blip r:embed="rId1"/>
          <a:stretch/>
        </p:blipFill>
        <p:spPr>
          <a:xfrm>
            <a:off x="6705720" y="4419720"/>
            <a:ext cx="124920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Giving feedback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Give examples of the following types of feedback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ositiv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egativ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onstructiv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one at al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Giving feedback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Keep it factual and non persona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escribe the behaviour and its effects objectivel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e considerat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ake it actionabl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Keep away from hearsa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ake it timel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Offer it frequentl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8T19:25:55Z</dcterms:created>
  <dc:creator>Stephen Ford</dc:creator>
  <dc:description/>
  <dc:language>en-US</dc:language>
  <cp:lastModifiedBy>Stephen Ford</cp:lastModifiedBy>
  <dcterms:modified xsi:type="dcterms:W3CDTF">2009-03-08T20:05:06Z</dcterms:modified>
  <cp:revision>2</cp:revision>
  <dc:subject/>
  <dc:title>Managing  poor performance</dc:title>
</cp:coreProperties>
</file>