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9F54D4-1D81-4E13-B947-D0766AF4A5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A5300-C6F5-492E-BBCA-303F10BD1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D68E8A-5F13-4CA9-9A1E-214E66E4EB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456625-95BA-4640-BCA2-261D0DE5CB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92AA35-3390-4784-A11F-3611FF8F7A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9F0F0B-289E-479B-A3DE-49F4799776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D1537B-8CB1-4DB8-B7CB-12527468C1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E0982B-B469-4016-85B6-FC7B3507E4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014DBC-1314-44B2-9F05-6C5246AFC8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B30CC8-46FA-44BD-9168-27BF34C82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22B75-DDBC-491C-A8A5-32E80E51A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D9CAD-14EF-409A-B1A4-AA4C33B0B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2EC16-09EF-4260-A1B7-8EC6EB1CE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37CDF-8C8E-4034-9479-E86B7C358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08D2F3-BF11-4DAC-979B-EE2A1A9DC6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836F2B-8E30-4746-8AEF-6DFFB9B827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EE7508-F8D5-47BC-9A46-6C23AC459B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55A11-A50E-4FB4-BBC7-7152C8861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C0826-E528-4DD9-8558-F5A01CE1B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F765D-4756-47C4-A31D-83C3333A9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B56A7-1DED-49F7-B470-D6D98BA8A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A9D6F-332E-4AD7-A076-DCD8EFA3D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69C75-1699-4E0D-9243-3F650DC54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B32A7-FC5D-489A-AF47-88188D3FEE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7D883-D440-4FD0-9B0D-5CDC713FBAAB}"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61141-1870-4414-A52C-036C607BD2E4}"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Managing the Counselling Process</a:t>
            </a:r>
            <a:endParaRPr b="0" lang="en-US" sz="4000" spc="-1" strike="noStrike">
              <a:solidFill>
                <a:srgbClr val="003366"/>
              </a:solidFill>
              <a:latin typeface="Times New Roman"/>
            </a:endParaRPr>
          </a:p>
        </p:txBody>
      </p:sp>
      <p:sp>
        <p:nvSpPr>
          <p:cNvPr id="291" name="PlaceHolder 2"/>
          <p:cNvSpPr>
            <a:spLocks noGrp="1"/>
          </p:cNvSpPr>
          <p:nvPr>
            <p:ph type="subTitle"/>
          </p:nvPr>
        </p:nvSpPr>
        <p:spPr>
          <a:xfrm>
            <a:off x="1566720" y="2693520"/>
            <a:ext cx="6662880" cy="2994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Manage People Performance</a:t>
            </a: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Manage People Performance RAF</a:t>
            </a:r>
          </a:p>
        </p:txBody>
      </p:sp>
      <p:sp>
        <p:nvSpPr>
          <p:cNvPr id="5" name="PlaceHolder 4"/>
          <p:cNvSpPr>
            <a:spLocks noGrp="1"/>
          </p:cNvSpPr>
          <p:nvPr>
            <p:ph type="sldNum" idx="6"/>
          </p:nvPr>
        </p:nvSpPr>
        <p:spPr/>
        <p:txBody>
          <a:bodyPr/>
          <a:p>
            <a:fld id="{E53F8193-CDCF-459D-8674-411F051B14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ollow up on any action which has been agreed upon, either by undertaking action yourself (i.e. assisting with on-the-job training or exploring training opportunities) or monitoring and reviewing action to which the person has agreed. </a:t>
            </a:r>
            <a:endParaRPr b="0" lang="en-US" sz="3200" spc="-1" strike="noStrike">
              <a:solidFill>
                <a:srgbClr val="003366"/>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F278F4B6-9814-49AF-9432-4E34F5951746}"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3366"/>
                </a:solidFill>
                <a:latin typeface="Times New Roman"/>
              </a:rPr>
              <a:t>Performance discussion vs counselling discussion</a:t>
            </a:r>
            <a:br>
              <a:rPr sz="4400"/>
            </a:br>
            <a:endParaRPr b="0" lang="en-US" sz="4400" spc="-1" strike="noStrike">
              <a:solidFill>
                <a:srgbClr val="003366"/>
              </a:solidFill>
              <a:latin typeface="Times New Roman"/>
            </a:endParaRPr>
          </a:p>
        </p:txBody>
      </p:sp>
      <p:sp>
        <p:nvSpPr>
          <p:cNvPr id="29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Performance discussions are concerned with total performance of the team or individual –refers to good and bad aspects of performance and how performance standards are being met.</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ounselling discussions usually relate to one aspect of unsatisfactory performance  </a:t>
            </a:r>
            <a:endParaRPr b="0" lang="en-US" sz="3200" spc="-1" strike="noStrike">
              <a:solidFill>
                <a:srgbClr val="00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A939E3F7-3DDA-4530-A6BB-26A5FC13097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oor performance improves staff member acknowledges that there is a problem</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olutions to problems are developed</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Employee takes some action and gets professional help</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mprovement plan strategies developed (employee agreement)</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Employee leaves the organisation </a:t>
            </a:r>
            <a:endParaRPr b="0" lang="en-US" sz="2800" spc="-1" strike="noStrike">
              <a:solidFill>
                <a:srgbClr val="003366"/>
              </a:solidFill>
              <a:latin typeface="Times New Roman"/>
            </a:endParaRPr>
          </a:p>
        </p:txBody>
      </p:sp>
      <p:sp>
        <p:nvSpPr>
          <p:cNvPr id="29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Outcomes of counselling discussion </a:t>
            </a:r>
            <a:endParaRPr b="0" lang="en-US" sz="44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FC48601F-07C9-4AEA-B7EC-D622C691F14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f you discover that there legitimate reasons for problems several strategies might be developed:</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eview of workloads- bottlenecks</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eview of procedures and processes</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eam building and cooperation</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rovide mentoring, coaching, skills development</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rovide assistance, or reassign duties</a:t>
            </a:r>
            <a:endParaRPr b="0" lang="en-US" sz="2800" spc="-1" strike="noStrike">
              <a:solidFill>
                <a:srgbClr val="0033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34B4A321-D6DB-4C94-82D6-77CE6C0663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nselling checklist - </a:t>
            </a:r>
            <a:r>
              <a:rPr b="0" lang="en-US" sz="4400" spc="-1" strike="noStrike">
                <a:solidFill>
                  <a:srgbClr val="000000"/>
                </a:solidFill>
                <a:latin typeface="Arial"/>
                <a:ea typeface="Arial"/>
              </a:rPr>
              <a:t>Before</a:t>
            </a:r>
            <a:r>
              <a:rPr b="0" lang="en-US" sz="4400" spc="-1" strike="noStrike">
                <a:solidFill>
                  <a:srgbClr val="000000"/>
                </a:solidFill>
                <a:latin typeface="Arial"/>
              </a:rPr>
              <a:t> </a:t>
            </a:r>
            <a:br>
              <a:rPr sz="4400"/>
            </a:br>
            <a:endParaRPr b="0" lang="en-US" sz="4400" spc="-1" strike="noStrike">
              <a:solidFill>
                <a:srgbClr val="003366"/>
              </a:solidFill>
              <a:latin typeface="Times New Roman"/>
            </a:endParaRPr>
          </a:p>
        </p:txBody>
      </p:sp>
      <p:sp>
        <p:nvSpPr>
          <p:cNvPr id="30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ssess the situation. Establish in what way the person's performance does not meet the required standard. e.g. timeliness, quantity of output, standard of written work, etc.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You should also ensure that these standards are applied equitably across your work area. Gather factual information to support your assessment, including specific examples if possible. </a:t>
            </a:r>
            <a:endParaRPr b="0" lang="en-US" sz="2800" spc="-1" strike="noStrike">
              <a:solidFill>
                <a:srgbClr val="0033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FA601268-526A-40BF-9834-FBF80BF9EC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rrange a venue suitable bearing in mind the need for confidentiality.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otify the person of the arrangements, giving them sufficient time to prepare for the discussion, including, where possible, sufficient time to arrange for a support person to be present. Depending on circumstances, provide them with copies of any relevant written material you intend to discuss.</a:t>
            </a:r>
            <a:endParaRPr b="0" lang="en-US" sz="28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80278435-CF98-489F-85CC-A8865A8539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During</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30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xplain the reason for the counselling. </a:t>
            </a:r>
            <a:endParaRPr b="0" lang="en-US" sz="2800" spc="-1" strike="noStrike">
              <a:solidFill>
                <a:srgbClr val="003366"/>
              </a:solidFill>
              <a:latin typeface="Times New Roman"/>
            </a:endParaRPr>
          </a:p>
          <a:p>
            <a:pPr marL="332640" indent="-33264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xplore the possible relevance of factors outside the workplace. You should bear in mind that a person may, for a variety of reasons, choose not to disclose such factors, in which case you can only base your assessment on available evidence. </a:t>
            </a:r>
            <a:endParaRPr b="0" lang="en-US" sz="2800" spc="-1" strike="noStrike">
              <a:solidFill>
                <a:srgbClr val="003366"/>
              </a:solidFill>
              <a:latin typeface="Times New Roman"/>
            </a:endParaRPr>
          </a:p>
          <a:p>
            <a:pPr marL="332640" indent="-33264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dvise the person what (if any) records are to be kept and for what purpose they will be used. </a:t>
            </a:r>
            <a:endParaRPr b="0" lang="en-US" sz="2800" spc="-1" strike="noStrike">
              <a:solidFill>
                <a:srgbClr val="003366"/>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D6F2856C-F819-4FC7-B62D-BABFE6FBD7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ocus on work-related issues; </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e constructive; look to the future and means of improvement; </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ommunicate </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gree on a plan of action. </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gree on a timetable for implementing that action and reviewing the results. </a:t>
            </a:r>
            <a:endParaRPr b="0" lang="en-US" sz="3200" spc="-1" strike="noStrike">
              <a:solidFill>
                <a:srgbClr val="003366"/>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143D75EC-BC9E-4456-B87D-EE244AE4F6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After</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30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ake a record of the discussion. If the record is more substantial than a diary note, include any action agreed upon and time frames. </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vite the person to sign the record if they agree with the content or to make comments or submit their own version of the meeting if they do not. Keep the record in a secure place. </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61F2AAC6-9B5A-4E56-B8DF-0000E084AA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2T04:56:08Z</dcterms:created>
  <dc:creator>Stephen Ford</dc:creator>
  <dc:description/>
  <dc:language>en-US</dc:language>
  <cp:lastModifiedBy>rford</cp:lastModifiedBy>
  <dcterms:modified xsi:type="dcterms:W3CDTF">2009-05-28T05:58:10Z</dcterms:modified>
  <cp:revision>2</cp:revision>
  <dc:subject/>
  <dc:title>Managing the Counselling Process</dc:title>
</cp:coreProperties>
</file>