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844-D0A0-4F57-ABCA-BEFEAF93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E77-5FA9-44A2-8CAE-8EB1C309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521-9A29-4467-8CC0-33BB1D64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DDD-7EF4-4BC6-9A96-4DC91B6C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3F70-6326-4462-8662-6F5585DE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F3A8-65AB-4206-A6DA-4B8E71ED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7693-C52E-4659-B78D-9713BD60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CB9D-F64D-4CE3-A209-AEE5B86F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18DD-5360-4E6E-8E03-E9979244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58AC-5ED6-4065-AA0E-3286AC72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D6C0-81FD-49B9-AA13-707D984E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A21-9A35-4DEA-9674-3973744D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AB3C-ABAF-4AE0-9610-ED554D6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4DE3-1F72-4DDC-9C87-079287DE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2642-F7CF-4249-BFCC-5E1ED1B3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DDDA-766D-4E2B-B709-200390EC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843C-6630-4DC5-90A7-92B8743A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28D-6342-4A6A-A162-7609298E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A79-A4EA-4455-8109-E1461601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FD3-3B8A-4513-81D6-160A35F6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8BA-EE8C-4C8B-BF2C-F21B3E5D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64F-BF9D-4FA7-BA3A-AF95E91F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F76-17D6-4B7C-8616-8A1A613B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0B7-D18F-4D98-91A0-6BF3C14A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40F9-DE66-4FF7-AFF2-41E26DAB924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0D80-8AAB-4E7B-A902-CB67519D003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ing  poor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 People Performan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FB89-F6C9-47CC-8729-63570E9D02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’s good for the goose…is good for the gan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receiving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argue –list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ck you have underst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explain , defend, justif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nk the speaker for bringing it to your att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ke it on bo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any necessary chan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n dealing with unsatisfactory performance consider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ward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gulatio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cific industrial relations legis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EO and Anti discrim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ers co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place agreements/ employment contra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ment of systematic management of poor perform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ilure to act makes things more complex and painfu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unsatisfactory performance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 improve 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rminate it  (or regress, demote, formally reprimand, closer monitoring, reduce benef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ailure to act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produ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morale of staff and less respect for supervis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 iss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reased st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ste of fun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ff soon learn that nothing happens and poor performance is the nor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ill have to go through the motions when the issue becomes urg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idence of continual incidents of poor performance is undocumen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at fig 9.1 Tovey unsatisfactory performance management flow ch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0 steps to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ing a performance improvement pl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not all performance problems are the employee’s fa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1- identify the gaps and need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formance gaps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as for performanc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benefits of imp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out come of improved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rovement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challenges for the work un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2-specific causes and skills need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ll evidence review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Specific causes idne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skills and knowledg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resource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3 Categorise th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4 Linking specific needs to outpu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s of poor performanc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On the job 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Reporting to work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ifficulty in concen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Lowered job 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Poor relationships with “people at work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Failure to observe org’n regs, policies, proced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5 – prioritis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t 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6  – select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development needs (on and off the jo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non- development needs ( discussion with other managers. Feedback required. Other action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7 Identify resources required to meet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erials and physical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8- develop performance improvement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i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i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on pl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ing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9- implement the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completion dates diar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pies for staff member and mana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mediate commencemen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10- monito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 in conjunction with performance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ign evidence collection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85%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raining or exper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ols, equipment or 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umbersome procedures/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clear or unspecified stand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performance is as rewarding as g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job plac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ormance standards not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eam work or disharmony in the te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15%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al problem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s of G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motivation or mora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solu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to do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is out of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get feedback about level and actual qu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ected performance is difficult or punishing and in some way less desir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thing in the work environment interferes with perform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forming below expectations is more rewarding or easi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hway to good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to - having clear , worthwhile targe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- being compet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to -being motiv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ce to-Being able to achie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dd01352_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249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xamples of the following types of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uc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at a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it factual and non pers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cribe the behaviour and its effects objectiv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onside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action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away from hears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tim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er it frequent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25:55Z</dcterms:created>
  <dc:creator>Stephen Ford</dc:creator>
  <dc:description/>
  <dc:language>en-US</dc:language>
  <cp:lastModifiedBy>Stephen Ford</cp:lastModifiedBy>
  <dcterms:modified xsi:type="dcterms:W3CDTF">2009-03-08T20:05:06Z</dcterms:modified>
  <cp:revision>2</cp:revision>
  <dc:subject/>
  <dc:title>Managing  poor performance</dc:title>
</cp:coreProperties>
</file>