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323A-D9AD-41BC-A7BA-0720A6AD3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8A78-4722-4DE7-AD2C-8514C50DD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2017-AD83-48F6-983D-04584AD74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0976-D518-4A28-8FD8-752FDB73E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BEE75-BA30-448C-A053-3EF11AF47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474A4-B2A8-4865-87BE-655631416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3852A-9905-4B72-BF2C-CEC99D62D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B8D2A-D53D-4DB2-A99F-E9AC6692E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A76EB-C57D-4819-8FE0-B6F1A8540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227F8-C8A7-4B88-9986-D6E33228A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5553B-9057-48F1-B108-0DF43DE44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C2B3-BBCE-4CA0-87F7-E4B59E064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DB1FE-ACA3-46F8-8813-754B28EC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81A79-B002-4615-9032-539F66B31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20A18-5AA2-463E-A77F-B8829AF66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C1C44-6ED6-45A6-93EA-396E02078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B1477-21DA-4C4C-B836-A617234B4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EDBF-26E2-409D-A085-A4E07B0E0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284E-95FA-4AB7-94B6-70A3CE7BE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772B-5F4C-4601-93F7-AD1BCB427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059B-CE2C-445B-978A-1BA13D1EC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15A0-BA41-41D9-8E8F-4181F7048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F5F3-E543-4656-B0D2-D25B3A492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1336-14CA-4446-AD76-4B7E5297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5DB81-87BA-4E59-8AF1-5E382212846B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DE4CC-4771-401B-BB3E-3A05D7DE2BEF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anaging  poor performanc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nage People Performance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anage people performance RA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6AE0D-D44F-4129-B652-8EF9B6E926D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at’s good for the goose…is good for the gand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en receiving feedbac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on’t argue –liste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heck you have understoo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on’t explain , defend, justif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ank the speaker for bringing it to your atten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ake it on boar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ke any necessary chang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en dealing with unsatisfactory performance consider 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wards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gulations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pecific industrial relations legisl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EO and Anti discrimin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orkers comp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orkplace agreements/ employment contrac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quirement of systematic management of poor performan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ailure to act makes things more complex and painful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anage unsatisfactory performance 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o  improve i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erminate it  (or regress, demote, formally reprimand, closer monitoring, reduce benefits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ailure to act 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duced productivit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duced morale of staff and less respect for supervis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afety issu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ncreased stre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aste of fund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taff soon learn that nothing happens and poor performance is the nor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till have to go through the motions when the issue becomes urgen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vidence of continual incidents of poor performance is undocument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ook at fig 9.1 Tovey unsatisfactory performance management flow char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10 steps to.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eveloping a performance improvement pla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ote not all performance problems are the employee’s faul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ep1- identify the gaps and needs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erformance gaps identifi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reas for performance identifi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xpected benefits of imp performan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pecific out come of improved performan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mprovements requir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w challenges for the work uni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ep 2-specific causes and skills neede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Times New Roman"/>
              </a:rPr>
              <a:t>All evidence review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Times New Roman"/>
              </a:rPr>
              <a:t>Specific causes idnetifi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Times New Roman"/>
              </a:rPr>
              <a:t>New skills and knowledge identifi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Times New Roman"/>
              </a:rPr>
              <a:t>New resources requir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ep 3 Categorise the need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evelopment need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on-development need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ep 4 Linking specific needs to outpu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utputs linked to development need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utputs linked to non-development need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igns of poor performance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Times New Roman"/>
              </a:rPr>
              <a:t>Absenteeis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Times New Roman"/>
              </a:rPr>
              <a:t>On the job absenteeis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Times New Roman"/>
              </a:rPr>
              <a:t>Reporting to work problem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Times New Roman"/>
              </a:rPr>
              <a:t>Difficulty in concentr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Times New Roman"/>
              </a:rPr>
              <a:t>Lowered job efficienc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Times New Roman"/>
              </a:rPr>
              <a:t>Poor relationships with “people at work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Times New Roman"/>
              </a:rPr>
              <a:t>Failure to observe org’n regs, policies, procedur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ep 5 – prioritise need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st solu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evelopment needs- greatest opportunity for improveme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on-Development needs- greatest opportunity for improveme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ep 6  – select strategi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trategies for development needs (on and off the job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trategies for non- development needs ( discussion with other managers. Feedback required. Other actions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ep 7 Identify resources required to meet need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one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im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eopl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terials and physical resourc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ep 8- develop performance improvement plan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i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evelopment objectiv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trateg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sourc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sponsibilit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ction pla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onitoring progres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ep 9- implement the plan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pecific mileston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xpected completion dates diaris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pies for staff member and manag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mmediate commencement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ep 10- monitor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onitor in conjunction with performance objectiv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esign evidence collection proces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ossible causes 85%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oor training or experien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ools, equipment or material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umbersome procedures/ system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nclear or unspecified standard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oor performance is as rewarding as goo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ack of inform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ack of tim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oor job placemen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erformance standards not understoo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oor team work or disharmony in the tea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ossible causes 15%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ersonal problems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cts of Go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oor motivation or moral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ossible solut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mployee doesn’t know what is expect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mployee doesn’t know to do what is expect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mployee is out of practi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mployee doesn’t get feedback about level and actual qual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xpected performance is difficult or punishing and in some way less desirabl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omething in the work environment interferes with performanc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erforming below expectations is more rewarding or easi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thway to good performanc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at to - having clear , worthwhile targe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ow to- being compete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ant to -being motivat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hance to-Being able to achiev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8" name="dd01352_" descr=""/>
          <p:cNvPicPr/>
          <p:nvPr/>
        </p:nvPicPr>
        <p:blipFill>
          <a:blip r:embed="rId1"/>
          <a:stretch/>
        </p:blipFill>
        <p:spPr>
          <a:xfrm>
            <a:off x="6705720" y="4419720"/>
            <a:ext cx="124920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Giving feedback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ive examples of the following types of feedbac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ositiv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gativ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nstructiv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one at al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Giving feedbac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Keep it factual and non persona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escribe the behaviour and its effects objectivel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 considerat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ke it actionabl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Keep away from hearsa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ke it timel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ffer it frequentl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8T19:25:55Z</dcterms:created>
  <dc:creator>Stephen Ford</dc:creator>
  <dc:description/>
  <dc:language>en-US</dc:language>
  <cp:lastModifiedBy>Stephen Ford</cp:lastModifiedBy>
  <dcterms:modified xsi:type="dcterms:W3CDTF">2009-03-08T20:05:06Z</dcterms:modified>
  <cp:revision>2</cp:revision>
  <dc:subject/>
  <dc:title>Managing  poor performance</dc:title>
</cp:coreProperties>
</file>