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596E-73CF-4B00-9467-FB2B80258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FBD-0ABE-400F-B37C-BA65FDC7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8D64-7E4D-4273-97B0-B39096BD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4B0F-ACD6-4441-82EA-A071D25CF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00D38-7537-4F3E-8F6D-B69521B6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8768D-4091-40EB-964A-EED4619F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232F-75C8-4E41-9F81-EE4CF628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0011-8A5D-476E-934A-7425CF06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3C55E-6EEA-4C44-8106-709491D2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C8B97-C9A3-49F2-8955-AAFC1EBC8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8860-E3A2-45BD-9DB1-AAB0F84E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4ADD-10E5-4F66-980C-25153D32B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CCC2-2900-4984-AC9B-569533CF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27F3-D39C-427E-B073-333D8A9B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C6F9-EE0E-4569-80FA-2513D11C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C78C-70A1-4D84-B9CB-315E677F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FD60E-AF1F-478C-BAF2-9F1B04E2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918-1A11-4519-B462-F1888C21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DEE-370B-422D-8902-6C3ABFA1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35EB-5D3B-45DF-B33B-2E7D1A75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CF5E-6622-4621-9B23-7137798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5DF-C26A-4BA4-9D6D-AD975313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0C37-EC0C-43F9-BEAE-1B093210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51C-F7B2-4178-91D7-6DA7BB98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3316-B1FF-4931-8C7C-59F3AC6A3FC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307-CF87-43F3-A346-C5B7D74CEF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ing  po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age People Perform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15D9-D0F6-4F50-8CBC-50D1F9AB1B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at’s good for the goose…is good for the gand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en receiving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argue –list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eck you have understo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n’t explain , defend, justif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nk the speaker for bringing it to your atten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ke it on boa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any necessary chang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en dealing with unsatisfactory performance consider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ward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gulation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pecific industrial relations legisl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EO and Anti discrimin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ers com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kplace agreements/ employment contrac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equirement of systematic management of poor performa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ailure to act makes things more complex and painfu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nage unsatisfactory performance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 improve 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rminate it  (or regress, demote, formally reprimand, closer monitoring, reduce benefit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ailure to act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productivit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ced morale of staff and less respect for supervis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fety issu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ncreased stre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aste of fund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ff soon learn that nothing happens and poor performance is the nor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ill have to go through the motions when the issue becomes urg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vidence of continual incidents of poor performance is undocument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ook at fig 9.1 Tovey unsatisfactory performance management flow char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0 steps to.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ing a performance improvement pla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te not all performance problems are the employee’s faul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1- identify the gaps and needs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gaps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eas for performanc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benefits of imp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out come of improved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rovement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challenges for the work uni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2-specific causes and skills needed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ll evidence review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Specific causes idne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skills and knowledge identifi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New resources requir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3 Categorise th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4 Linking specific needs to output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utputs linked to non-development need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gns of poor performance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On the job absenteeis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Reporting to work proble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Difficulty in concent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Lowered job efficienc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Poor relationships with “people at work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eaeaea"/>
                </a:solidFill>
                <a:latin typeface="Times New Roman"/>
              </a:rPr>
              <a:t>Failure to observe org’n regs, policies, procedur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5 – prioritise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st solu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Development needs- greatest opportunity for improve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6  – select strategi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development needs (on and off the job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 for non- development needs ( discussion with other managers. Feedback required. Other actions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7 Identify resources required to meet nee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i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op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terials and physical 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8- develop performance improvement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i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velopment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rateg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our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ction pla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ing progr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9- implement the plan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pecific milesto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ected completion dates diaris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pies for staff member and manag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mediate commencement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ep 10- monitor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nitor in conjunction with performance objectiv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ign evidence collection proce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85%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raining or experi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ools, equipment or materi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umbersome procedures/ syste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clear or unspecified standar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performance is as rewarding as g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inform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ack of ti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job place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formance standards not understo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team work or disharmony in the tea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causes 15%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ersonal problem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cts of Go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oor motivation or moral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ssible soluti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know to do what is expecte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is out of practi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mployee doesn’t get feedback about level and actual qual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ected performance is difficult or punishing and in some way less desirabl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omething in the work environment interferes with performanc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erforming below expectations is more rewarding or easi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athway to good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at to - having clear , worthwhile targ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w to- being compet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nt to -being motivate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ance to-Being able to achie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dd01352_" descr=""/>
          <p:cNvPicPr/>
          <p:nvPr/>
        </p:nvPicPr>
        <p:blipFill>
          <a:blip r:embed="rId1"/>
          <a:stretch/>
        </p:blipFill>
        <p:spPr>
          <a:xfrm>
            <a:off x="6705720" y="4419720"/>
            <a:ext cx="124920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 examples of the following types of feedba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uctiv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e at a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iving feedbac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it factual and non person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scribe the behaviour and its effects objectiv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 considerat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action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eep away from hears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it time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fer it frequent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8T19:25:55Z</dcterms:created>
  <dc:creator>Stephen Ford</dc:creator>
  <dc:description/>
  <dc:language>en-US</dc:language>
  <cp:lastModifiedBy>Stephen Ford</cp:lastModifiedBy>
  <dcterms:modified xsi:type="dcterms:W3CDTF">2009-03-08T20:05:06Z</dcterms:modified>
  <cp:revision>2</cp:revision>
  <dc:subject/>
  <dc:title>Managing  poor performance</dc:title>
</cp:coreProperties>
</file>