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2F188-3632-4816-8B98-495EF7832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858C4-3FEE-46F2-B285-CED9DDB10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9473A-1B7D-4494-8F9A-E0AFE534C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02C7B-E32F-4353-B833-5BAA306F3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611B6-3972-491A-9E9C-8C9632A518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A0147-351C-44F2-8B75-2DC79EAF6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72ACE-800F-4030-8D82-EF60AB16D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6C20F-1D86-402C-86CF-8EE794BE5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0A0CB-FEDE-4F3F-812A-664CA9F7C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F77F6-9DF7-43A5-BBC5-C25F75387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67B1C-185F-421C-97D2-23EFFCCD0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83F0B-951B-4EB0-A161-4210B59FA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E7BA8-71E7-4DC6-B3C6-0D506C774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3ABAE-1F87-4B4D-B7B1-7AB7A39CB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D5347-33C9-44CE-A457-9D4C1A15F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90A82-5500-415E-ACB4-5C1F86691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75CEA-9BB2-41B7-83F7-4713C170E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39926-7E54-4B51-86A5-22E71C189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B5BC8-2113-4FC0-AF85-D7217C4EC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826C8-45F2-47AD-B4B5-368922034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9F2C3-F481-484F-9C1E-C20F092BB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120B1-C3CF-472C-9108-B1ACEC92E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566B8-C2F7-48A2-959B-B242CF007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3C975-A85D-4DBE-9CC5-9034136CF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9343A-C2D4-42C6-BFCF-C4E702691916}"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B136-9A66-49F9-A591-2F43BC6B41AB}"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Managing the Counselling Process</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anage People Performance</a:t>
            </a: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Manage People Performance RAF</a:t>
            </a:r>
          </a:p>
        </p:txBody>
      </p:sp>
      <p:sp>
        <p:nvSpPr>
          <p:cNvPr id="5" name="PlaceHolder 4"/>
          <p:cNvSpPr>
            <a:spLocks noGrp="1"/>
          </p:cNvSpPr>
          <p:nvPr>
            <p:ph type="sldNum" idx="6"/>
          </p:nvPr>
        </p:nvSpPr>
        <p:spPr/>
        <p:txBody>
          <a:bodyPr/>
          <a:p>
            <a:fld id="{026B355F-EDEE-4EAA-8357-47AA0721F6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llow up on any action which has been agreed upon, either by undertaking action yourself (i.e. assisting with on-the-job training or exploring training opportunities) or monitoring and reviewing action to which the person has agreed. </a:t>
            </a:r>
            <a:endParaRPr b="0" lang="en-US" sz="3200" spc="-1" strike="noStrike">
              <a:solidFill>
                <a:srgbClr val="0033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CB15E8A9-AE61-41D0-B3FB-7570186ABA8E}"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Performance discussion vs counselling discussion</a:t>
            </a:r>
            <a:br>
              <a:rPr sz="4400"/>
            </a:br>
            <a:endParaRPr b="0" lang="en-US" sz="4400" spc="-1" strike="noStrike">
              <a:solidFill>
                <a:srgbClr val="003366"/>
              </a:solidFill>
              <a:latin typeface="Times New Roman"/>
            </a:endParaRPr>
          </a:p>
        </p:txBody>
      </p:sp>
      <p:sp>
        <p:nvSpPr>
          <p:cNvPr id="29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erformance discussions are concerned with total performance of the team or individual –refers to good and bad aspects of performance and how performance standards are being met.</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unselling discussions usually relate to one aspect of unsatisfactory performance  </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26D4B167-69BE-425F-960B-0E8333E77F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oor performance improves staff member acknowledges that there is a problem</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olutions to problems are developed</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mployee takes some action and gets professional help</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mprovement plan strategies developed (employee agreement)</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mployee leaves the organisation </a:t>
            </a:r>
            <a:endParaRPr b="0" lang="en-US" sz="2800" spc="-1" strike="noStrike">
              <a:solidFill>
                <a:srgbClr val="003366"/>
              </a:solidFill>
              <a:latin typeface="Times New Roman"/>
            </a:endParaRPr>
          </a:p>
        </p:txBody>
      </p:sp>
      <p:sp>
        <p:nvSpPr>
          <p:cNvPr id="29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utcomes of counselling discussion </a:t>
            </a:r>
            <a:endParaRPr b="0" lang="en-US" sz="44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D4958F2C-2E72-40B4-9838-5C40A56964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f you discover that there legitimate reasons for problems several strategies might be developed:</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view of workloads- bottleneck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view of procedures and processe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eam building and cooperation</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ovide mentoring, coaching, skills development</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ovide assistance, or reassign duties</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EB9B6C80-4FF4-4FA4-84E0-80785652F3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selling checklist - </a:t>
            </a:r>
            <a:r>
              <a:rPr b="0" lang="en-US" sz="4400" spc="-1" strike="noStrike">
                <a:solidFill>
                  <a:srgbClr val="000000"/>
                </a:solidFill>
                <a:latin typeface="Arial"/>
                <a:ea typeface="Arial"/>
              </a:rPr>
              <a:t>Before</a:t>
            </a:r>
            <a:r>
              <a:rPr b="0" lang="en-US" sz="4400" spc="-1" strike="noStrike">
                <a:solidFill>
                  <a:srgbClr val="000000"/>
                </a:solidFill>
                <a:latin typeface="Arial"/>
              </a:rPr>
              <a:t> </a:t>
            </a:r>
            <a:br>
              <a:rPr sz="4400"/>
            </a:br>
            <a:endParaRPr b="0" lang="en-US" sz="4400" spc="-1" strike="noStrike">
              <a:solidFill>
                <a:srgbClr val="003366"/>
              </a:solidFill>
              <a:latin typeface="Times New Roman"/>
            </a:endParaRPr>
          </a:p>
        </p:txBody>
      </p:sp>
      <p:sp>
        <p:nvSpPr>
          <p:cNvPr id="30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sess the situation. Establish in what way the person's performance does not meet the required standard. e.g. timeliness, quantity of output, standard of written work, etc.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 should also ensure that these standards are applied equitably across your work area. Gather factual information to support your assessment, including specific examples if possible. </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3E9B76E1-0102-4E0F-98FB-9942D824CC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rrange a venue suitable bearing in mind the need for confidentiality.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ify the person of the arrangements, giving them sufficient time to prepare for the discussion, including, where possible, sufficient time to arrange for a support person to be present. Depending on circumstances, provide them with copies of any relevant written material you intend to discuss.</a:t>
            </a: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41CF9746-D9CD-4CCC-916B-AE6B76E418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During</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0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lain the reason for the counselling. </a:t>
            </a: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lore the possible relevance of factors outside the workplace. You should bear in mind that a person may, for a variety of reasons, choose not to disclose such factors, in which case you can only base your assessment on available evidence. </a:t>
            </a: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dvise the person what (if any) records are to be kept and for what purpose they will be used. </a:t>
            </a:r>
            <a:endParaRPr b="0" lang="en-US" sz="2800" spc="-1" strike="noStrike">
              <a:solidFill>
                <a:srgbClr val="003366"/>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4DA2C687-A25B-4F3C-8AEC-55953E7861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cus on work-related issues;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e constructive; look to the future and means of improvement;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mmunicate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gree on a plan of action.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gree on a timetable for implementing that action and reviewing the results. </a:t>
            </a:r>
            <a:endParaRPr b="0" lang="en-US" sz="3200" spc="-1" strike="noStrike">
              <a:solidFill>
                <a:srgbClr val="0033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0F3D389F-FF84-40DC-97D7-2153268BE0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After</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0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ke a record of the discussion. If the record is more substantial than a diary note, include any action agreed upon and time frames. </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vite the person to sign the record if they agree with the content or to make comments or submit their own version of the meeting if they do not. Keep the record in a secure place. </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DE8E94DE-B29D-49A8-B249-07FEA587F8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04:56:08Z</dcterms:created>
  <dc:creator>Stephen Ford</dc:creator>
  <dc:description/>
  <dc:language>en-US</dc:language>
  <cp:lastModifiedBy>rford</cp:lastModifiedBy>
  <dcterms:modified xsi:type="dcterms:W3CDTF">2009-05-28T05:58:10Z</dcterms:modified>
  <cp:revision>2</cp:revision>
  <dc:subject/>
  <dc:title>Managing the Counselling Process</dc:title>
</cp:coreProperties>
</file>