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06C1A-4F3C-4917-BD6F-1A5CBBE16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08BFC-E930-413C-896B-79A5B10B9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102AC-8539-4B96-94EA-71ACA7180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CD756-39EA-41CB-AB6F-2AB8ED04A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F71EA-8337-4906-A7C8-F1519363F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678C8-ED09-471E-AD7A-23FEEE2B4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B6697-19EA-4775-B21F-B2BEE14D7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8DD6C-D1A4-4EE1-A24A-D350B76D7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895BF-D7C5-44B3-B454-195CCFD92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1B890-65E2-44FA-8BE0-E700D843C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A01A0-CFB0-44F2-BD1F-586074FBA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1703C-4A1D-4320-981D-E7FC17D69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66657-C149-4A7A-BC59-126E0749B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30498-1D29-41C5-A67B-7E1FC1822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B7BD0-9C5A-4EF9-90FC-1B34F4D3A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FADD9-E327-43CD-B11C-3B1EA78C5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E955C-0991-4824-BB75-415BE7052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BE189-F662-42A7-ADF6-B410D7B4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FBF87-00BE-4802-A61D-A6C02A2FC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8B4C9-DACD-416D-BEE4-BAD72B3B8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168E3-ED75-46ED-B35B-60D784FB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9C5AA-2A95-4422-AC98-E1272891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66B2F-FE68-4C1F-9295-B2B632AA3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A1212-B62D-4978-8678-CD0F968EA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051B-E6E3-4937-B475-434DE53C97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97A0-D6A0-4D35-9078-604884A17C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mcare.gov.au/__data/assets/pdf_file/0012/714/PUB53.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owa.gov.au/Developing_a_Workplace_Program/Six_Steps_to_a_Workplace_Program/Step_2/Employee_Opinion_Survey.asp"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588680"/>
            <a:ext cx="7620120" cy="16002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onitor and evaluate workforce trends </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orce Planning</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9301E77-9388-4055-9490-BE2477DD03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Verdana"/>
              </a:rPr>
              <a:t>Some of the issues you will need to consider are:</a:t>
            </a:r>
            <a:br>
              <a:rPr sz="2800"/>
            </a:br>
            <a:endParaRPr b="0" lang="en-US" sz="2800" spc="-1" strike="noStrike">
              <a:solidFill>
                <a:srgbClr val="8c0039"/>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Ensure that the process you use protects the confidentiality of your employee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Consider changing the occupational categories included in this survey to those that are more appropriate to your organisation.</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Response data should be entered into a recognised spreadsheet (eg., Excel) or statistical program (eg., SPS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Produce frequencies for responses to all ques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462333-8C8A-4D20-A8B5-3464742DB0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1371600" y="764640"/>
            <a:ext cx="7772400" cy="48006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AU" sz="2400" spc="-1" strike="noStrike">
                <a:solidFill>
                  <a:srgbClr val="000000"/>
                </a:solidFill>
                <a:latin typeface="Arial"/>
              </a:rPr>
              <a:t>         </a:t>
            </a:r>
            <a:r>
              <a:rPr b="0" lang="en-AU" sz="2800" spc="-1" strike="noStrike">
                <a:solidFill>
                  <a:srgbClr val="000000"/>
                </a:solidFill>
                <a:latin typeface="Verdana"/>
              </a:rPr>
              <a:t>Examine whether there are differences in responses between men and women and other groups of interest (eg., younger vs older employees). Examining these differences will provide important insights into where the key issues are in your organisation.  For example, an organisation that is very effective in addressing the seven employment matters would be expected to have few differences between the responses of women and men -- or it might be that differences are confined to a particular area (eg., Training and Development).</a:t>
            </a:r>
            <a:endParaRPr b="0" lang="en-US" sz="2800" spc="-1" strike="noStrike">
              <a:solidFill>
                <a:srgbClr val="000000"/>
              </a:solidFill>
              <a:latin typeface="Arial"/>
            </a:endParaRPr>
          </a:p>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800" spc="-1" strike="noStrike">
                <a:solidFill>
                  <a:srgbClr val="000000"/>
                </a:solidFill>
                <a:latin typeface="Verdana"/>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18B059-F99C-415D-B286-DF3B1D756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       </a:t>
            </a:r>
            <a:r>
              <a:rPr b="0" lang="en-US" sz="2800" spc="-1" strike="noStrike">
                <a:solidFill>
                  <a:srgbClr val="8c0039"/>
                </a:solidFill>
                <a:latin typeface="Verdana"/>
              </a:rPr>
              <a:t>Additional analyses that you could consider doing include:  </a:t>
            </a:r>
            <a:br>
              <a:rPr sz="2800"/>
            </a:br>
            <a:endParaRPr b="0" lang="en-US" sz="28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It is also worthwhile considering doing each of the above analyses separately for men and women (eg., to see if the gender of the supervisor makes a bigger difference if the respondent is female vs ma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6EC319-7785-4F83-96F4-A65777A549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comcare.gov.au/__data/assets/pdf_file/0012/714/PUB53.pdf</a:t>
            </a:r>
            <a:r>
              <a:rPr b="0" lang="en-US" sz="3200" spc="-1" strike="noStrike" u="sng">
                <a:solidFill>
                  <a:srgbClr val="000000"/>
                </a:solidFill>
                <a:uFillTx/>
                <a:latin typeface="Arial"/>
              </a:rPr>
              <a:t> has a white paper by Dr Peter Cotton “Using Employee Opinion Surveys To Improve  People Outco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258341-E9DE-4C9D-A6D8-7AEBC391F658}"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asuring organisational climate</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al climate surveys may include:</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opin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satisfact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for checking how staff perceive the organisation and its functioning</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exit interview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oth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7F6F6FA-0BD1-4E52-B0D1-4BE92041A3D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eveloping survey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0000"/>
          </a:bodyPr>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oogle search will turn up many firms willing to sell you surveys- these will be expensive and need to serve your own organisational needs. </a:t>
            </a:r>
            <a:endParaRPr b="0" lang="en-US" sz="3200" spc="-1" strike="noStrike">
              <a:solidFill>
                <a:srgbClr val="000000"/>
              </a:solidFill>
              <a:latin typeface="Arial"/>
            </a:endParaRPr>
          </a:p>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develop skills in writing and designing surveys, testing them and have an efficient method of distribution and collection of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17200ED-0573-4CF8-A353-626BCB20E7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rvey development software</a:t>
            </a:r>
            <a:endParaRPr b="0" lang="en-US" sz="3600" spc="-1" strike="noStrike">
              <a:solidFill>
                <a:srgbClr val="8c0039"/>
              </a:solidFill>
              <a:latin typeface="Arial"/>
            </a:endParaRPr>
          </a:p>
        </p:txBody>
      </p:sp>
      <p:sp>
        <p:nvSpPr>
          <p:cNvPr id="9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using an instrument such as survey monkey </a:t>
            </a:r>
            <a:r>
              <a:rPr b="0" lang="en-US" sz="2800" spc="-1" strike="noStrike" u="sng">
                <a:solidFill>
                  <a:srgbClr val="e4005c"/>
                </a:solidFill>
                <a:uFillTx/>
                <a:latin typeface="Arial"/>
                <a:hlinkClick r:id="rId1"/>
              </a:rPr>
              <a:t>http://www.surveymonkey.c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create a survey and monitor resul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A has a one month free trial – you can design your survey and email it around and collect your results and some analysis on this site. Try it ou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3B2EEF-AE3F-4DA9-80FA-76C09B2C96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mployee opinion surveys</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websites where you found samples/example ques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BCF08A-8432-4164-B2CB-02AB1825D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eowa.gov.au/Developing_a_Workplace_Program/Six_Steps_to_a_Workplace_Program/Step_2/Employee_Opinion_Survey.asp</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a range of surveys for employers at different st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FDBDC1-D9A8-4065-93A9-7622C3AF7D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Verdana"/>
              </a:rPr>
              <a:t>To assist organisations consult with their employees, a series of three (3) surveys based on the seven Employment Matters has been developed by Dr Graeme Russell and EOWA and are tiered to the needs of different companies eg those starting out, those moving forward and those leading the wa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B9A328-3088-4C45-9126-06D67554B5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urvey, developed by Dr Graham Russell from Macquarie University, has been designed to measure the key employment matters covered by the Equal Opportunity for Women in the Workplace A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36D033-D4A0-4DDA-8EAB-EF53B88311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Verdana"/>
              </a:rPr>
              <a:t>EOWA has also included a guide to conducting and analysing surveys. The following points are  from their websit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0F52F1-B26C-4D49-AD40-B0E07C219C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20:52:38Z</dcterms:created>
  <dc:creator>Stephen Ford</dc:creator>
  <dc:description/>
  <dc:language>en-US</dc:language>
  <cp:lastModifiedBy>SHGG21-06</cp:lastModifiedBy>
  <dcterms:modified xsi:type="dcterms:W3CDTF">2008-10-22T23:31:52Z</dcterms:modified>
  <cp:revision>3</cp:revision>
  <dc:subject/>
  <dc:title>Monitor and evaluate workforce trends </dc:title>
</cp:coreProperties>
</file>