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39865-5608-4559-B95D-EED88A33E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E0FD4-C075-4F80-8B96-867B15C48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14E93-26D3-48E7-881B-E61D81933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4FDD6-E434-4BDE-A7DF-C6E4AC7F1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279CA-EBF8-4949-8A69-DA94A15A5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DEBE9-CB37-416F-B9AC-8B2093C7C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7335C-A719-43A4-82F9-A0A5967FE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FFE59-F7A9-4BF2-936F-C765C378B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B937D-4E4F-4FD3-9556-22D144C38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BA9C5-CE68-4C7F-A7E6-6790328E6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50059-CAEF-4597-8CDA-A78D566ED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23546-62AF-4FDD-8CD4-258E6351A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8FFF5-67F0-4B76-B471-E434984DD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9E706-1038-454B-BB11-EE48346CA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4D611-6B7B-4D95-B038-4AEF97822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8649E-CFC3-4175-9DA2-47A8BD704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2ADA4-3C0A-4E04-9618-D12DA849A7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2D57B-ECF1-45B7-BC0F-2ECECAA97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38E40-B7DB-45C6-B7D4-03D406E81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CCC1D-6214-427A-BAD8-BB0A75C60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532A8-DB0D-4ABE-A952-8F36D4FE8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6653D-D607-4E9F-A98D-5F764BC69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734F7-B1A2-4A7F-AF19-194986A58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0D9A9-1731-48B3-81D1-20D5AB2BC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B72B-47F0-4DA6-B95F-E2D9C75D943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4020-BF9F-4BDD-935A-724070C5FE4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nitoring and Evaluating Employee Wellness Program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DAAD0BB4-2455-4D65-ABC3-F051510CF4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1090080"/>
            <a:ext cx="8001000" cy="608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ion procedure</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et measurable goals and objectiv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cide the evaluation information needed by company and employe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solve how data will be collect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termine who will analyse dat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cide when to conduct the evalu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velop surveys and record keeping too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port on the evaluation- make recommendation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87421FA-D1AB-4016-A8C4-6DF037D796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o evaluate?</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nowledge and skil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uced risk factor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nt satisfa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tion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ects on cos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ers compensation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enteeism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ductivit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Corporate culture improvemen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place environ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ptions of health progra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urnover/ attraction/ retention rat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sldNum" idx="3"/>
          </p:nvPr>
        </p:nvSpPr>
        <p:spPr/>
        <p:txBody>
          <a:bodyPr/>
          <a:p>
            <a:fld id="{93675911-E0CD-40A4-BF90-1F4DCCE9B5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azzing it up for next time….</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243333A-120B-4C5D-8755-E178FF8BB1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nitoring progress during the project</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gular status repor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trally located planning calenda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dely distributed meeting minu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formance repor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team member accountabilit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11F8AE5-14A7-4262-8736-963120D30C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king the progress</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project where it needs to b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asks/cost exceeding estimates and dur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more resources requi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here major/minor varia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e the status of each project deliver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lve issu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A4A6703-5BCA-43DE-A8E5-DFCC180A3A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evaluating outcom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e if intervention work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onstrates cost /benefit of intervention- was it worth the cos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are different types of programs eg did you meet industry standards for quit smoking progr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feedback (and inspiration to othe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gain info which could be used for press releases, publicity, shareholder reports etc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35DA524-BD98-42A0-B403-4B819AA8C7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key to effective evaluation is:</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the tools for evaluation while you are planning for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lly the evaluation can be done on the short term results eg “did you participate and what you got out of it?” and as programs expand or develop measuring longer term results such as retention , absenteeism , sick leave etc</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CBD4CAC-68A8-480A-9DEF-599D859E2F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you are measuring</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goals have been m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funds have been spent used efficientl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AA12D6A-59E0-4CA3-9DFE-2FA85EE63B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ions also</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 the success and progress  of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feedback for better budgeting, tim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opportunities to review program content and presenters, training, communication strateg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9499085-E35D-4ECE-8910-38FBB0A3BD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 for final project team meeting</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erformance (work scope, quality, managing chang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Cost performan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chedule performan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roject planning and contro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takeholder/sponsor/client relationship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Communication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roblem identification and resolu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commendations for future projects  - continuous improvement</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852C538-0677-4E38-AC1C-0A575603D7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of the following apply in your case?</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y company evaluation will need t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the cost of the progra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ich programs are most effecti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ich programs are least effecti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if the program met its go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stify past and future expenditur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stify expans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F5B6B95-44D0-491A-858F-36EBE960B8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22:37:20Z</dcterms:created>
  <dc:creator>Stephen Ford</dc:creator>
  <dc:description/>
  <dc:language>en-US</dc:language>
  <cp:lastModifiedBy>Stephen Ford</cp:lastModifiedBy>
  <dcterms:modified xsi:type="dcterms:W3CDTF">2008-10-13T23:22:15Z</dcterms:modified>
  <cp:revision>1</cp:revision>
  <dc:subject/>
  <dc:title>Monitoring and Evaluating Employee Wellness Programs</dc:title>
</cp:coreProperties>
</file>