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F9614-81B0-497F-9C69-16C8F4E610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6D0A7-1B68-4D0D-AEA7-3A9582117E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0B70D-FF6C-492D-B75D-5AD790EAF2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CD4ED5-C70D-4E6E-82DA-61945B2FE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F1AD2-35BD-40F7-99A6-FA58A0C653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8C9AC0-B475-4EBB-BF64-C820AB8DA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0959A-D571-4144-BDE4-75C9D6B6A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760461-3A49-481C-B746-E1C5795E81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3FBEFF-F269-427B-87DF-6821CC920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22B20-81F3-4986-8E68-6986A7A1E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467BF-B520-4B08-86E0-5B770540A2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3CCD2-4C06-4FF6-85C6-E8CB0C2D6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2457DE-757F-41FF-AF94-D426AED125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C0103-11F0-4C0B-B678-853BD1D63C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818BB-FA0D-4B1D-AF18-86407711EC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9DEF7-E6A9-4C53-8F5B-35DCF3AA9B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9F174A-034C-4952-8BAD-77CA5FEB4B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B87CE-D98D-49F4-BF21-3BA4E072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BC1A5-86C0-4368-95BF-5F070F969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C2691-BF82-4CC2-A938-2081E99092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FA903-43E1-4736-96C2-652D95583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9EF5A-BBF4-4DD4-AE26-9FFEDB827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E69FB-D45C-493E-9E4D-F9A568590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DD0A6-1EC0-4431-AE8F-F45673327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E4CB7-DB95-4B00-9B42-9BDA7D22707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42BB6-8303-4A68-95F4-FAC2C0BA0336}"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nitoring and Evaluating Employee Wellness Program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F076C075-5B0C-4FBC-998A-0907F8D554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09008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 procedur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et measurable goals and object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the evaluation information needed by company and employe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olve how data will be collec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termine who will analyse da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when to conduct the eval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velop surveys and record keeping 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port on the evaluation- make recommend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05E4EB3-1AA4-42E0-A1FC-9EAE43C1E9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evaluat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ledge and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risk facto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nt satisf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s on cos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rs compens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teeism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ductivit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orporate culture improve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place enviro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 of health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rnover/ attraction/ retention rat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3"/>
          </p:nvPr>
        </p:nvSpPr>
        <p:spPr/>
        <p:txBody>
          <a:bodyPr/>
          <a:p>
            <a:fld id="{96FCC339-458C-4088-A06E-36C2823B35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zzing it up for next time….</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B40B702A-EB95-4E46-A45A-BD5EDDC4E2B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progress during the projec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ular status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ly located planning calend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dely distributed meeting minu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team member account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67B9227-884F-4AA4-90BD-A4EBE7059C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ing the progres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project where it needs to b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asks/cost exceeding estimates and 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more resource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re major/minor varia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e the status of each project deliver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ve iss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40C44B4-5839-4834-95F5-A60571091E4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evaluating outcom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intervention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nstrates cost /benefit of intervention- was it worth the co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e different types of programs eg did you meet industry standards for quit smoking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inspiration to ot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gain info which could be used for press releases, publicity, shareholder reports etc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6FD7997-A355-460C-AAA1-1A397AC216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ey to effective evaluation i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the tools for evaluation while you are planning for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the evaluation can be done on the short term results eg “did you participate and what you got out of it?” and as programs expand or develop measuring longer term results such as retention , absenteeism , sick leav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96A89889-9FC9-44E1-B8F0-2262F8F4EA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you are measur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goals have been m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funds have been spent used efficient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566A25B-26F7-40C8-BEC2-06FB487D10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s also</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the success and progress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feedback for better budgeting,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opportunities to review program content and presenters, training, communication strateg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DD9E259-D577-4D9D-AD3D-24E05BAC0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 for final project team meeting</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erformance (work scope, quality, managing chang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st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chedule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ject planning and contro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takeholder/sponsor/client relationshi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mmunication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blem identification and resolu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commendations for future projects  - continuous improve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3554555-7B18-484D-A628-9025144B9E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f the following apply in your case?</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company evaluation will need t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cost of the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mo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lea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if the program met its go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past and future expenditu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expans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8A16051-47C2-4840-9FD8-6736364EB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2:37:20Z</dcterms:created>
  <dc:creator>Stephen Ford</dc:creator>
  <dc:description/>
  <dc:language>en-US</dc:language>
  <cp:lastModifiedBy>Stephen Ford</cp:lastModifiedBy>
  <dcterms:modified xsi:type="dcterms:W3CDTF">2008-10-13T23:22:15Z</dcterms:modified>
  <cp:revision>1</cp:revision>
  <dc:subject/>
  <dc:title>Monitoring and Evaluating Employee Wellness Programs</dc:title>
</cp:coreProperties>
</file>