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9AA0-74EC-4271-A8EA-9F4073A2571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onitor perform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people and teams on track with what you have agreed will b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oundation to base feedback to individuals and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ing your job a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changes to performance if war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information abou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P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5.2See framework for monitoring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F352-3743-4F42-A343-05933D28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EAD7-EAC4-473E-BF9F-393DA6AE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AEC6-98CE-4F74-A749-80B0B39E5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E493-E99C-493F-A0F6-A5A1DE275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C0FA-B4CC-414C-B967-F5A27A5F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72AB-7932-4E29-AAF4-8D532FBD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98D0B-6695-4159-BA63-395972CA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95E8-BB91-45AE-8A9F-28ED565E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B253-7226-40FC-809A-C01D9472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6694-FF2E-4E74-B5E2-5845B1F6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BD077-1618-4606-96DE-D51CECC9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2DF0-C364-4B18-9181-09E5210F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9E37-2482-4DF0-848A-14EF14B7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39CC-7352-485A-9EF7-33CB45C3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5FDF8-E59D-490C-B0CA-224968A3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94BF5-6AB2-4ABA-B5AB-A7F7521D1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3506-AAA7-438C-88CD-80BC57B7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47C3-7AA2-447B-9BC4-9443BB8E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D9F-7F82-403F-8E41-20DF6BC16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5B28-676F-4643-8CF6-792631E87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6E09-E104-4A01-96F7-070C2CE2A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7280-DF90-4DBD-8BDC-DC0F7B7F7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D7E3-027D-429A-B9FA-421D4886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8340-9051-4DCE-98B1-8813B4A8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E724-0B46-467F-ACF0-ADA111D75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E2E7-740C-4F8F-8BCA-5F4FF9A14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onitoring performance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 Peopl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83222-9E96-4829-880B-7A36947AE1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are the staff needs in respect to monitoring?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 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7E9-C00A-4D62-8CC4-E3671AEC6A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What is collectable evide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idence may take the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written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o how specific incidents/ situations were hand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samples that show progresses towards performanc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041-3455-4170-B72F-8EB384CE078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skills and knowledge acquired and used for the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ing courses att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projec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ifiable comments from peers or sub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performance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dgets, productivity figures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1D3-0C5E-4E85-AE69-27DDC7D609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comic"/>
              </a:rPr>
              <a:t>Coaching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work in an ongoing learning enviro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n the job training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vidualised. It should be given at the right time, place and as nee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enables the worker to develop their job performance and secures a long term continuous performance impr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84C8-662A-4B95-B0B7-86C8976E5E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ow does the coach do this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db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nst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05584_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D828-349E-4C3B-AE0E-057FDFC6CD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needs to develop trust, build a relationship, build confidence and cooperation in the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ult should be increased confidence and increase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8A1-02F6-4237-BF44-A0FFC2132F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ke care before intervention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ware of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rash judgements eg is evidence collected fair/inaccurate/ ir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as and 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622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bd07156_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5048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FE9B-FB2A-4082-AED4-6059B15A56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kills involved in Monitoring, assisting and  controll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s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a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5AA5-DFD9-4C7E-AA7B-C9FF204054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What are the potential problems in performance which monitoring helps to overcome?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D56-A650-42A7-94ED-AF419625C1C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 monitor performa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8B72-B45E-4965-B693-656F945A40E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o does it?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9CF-6493-48F5-AB33-C3B4131D2EC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f monitor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 and coach staff to do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2 way communication if there ar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staff to take corrective action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5B6-507B-4BBE-82B4-F353625793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to monitor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gress of individual and teams towards the performance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staff are using their inputs (knowledge, skills and experiences ) and if any are mi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at processes are being used by staff in their progress towards their 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utputs/ results that the staff are produ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outputs are contributing to CSFs, KPI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ere the gap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AA7-DE2F-4CB9-8BA5-59ADD5A78C9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idence to collect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bd05012_" descr=""/>
          <p:cNvPicPr/>
          <p:nvPr/>
        </p:nvPicPr>
        <p:blipFill>
          <a:blip r:embed="rId1"/>
          <a:stretch/>
        </p:blipFill>
        <p:spPr>
          <a:xfrm>
            <a:off x="2563920" y="1752480"/>
            <a:ext cx="4624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952C-91C9-4BC4-BAA8-007EB58FB0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44B2-998F-4023-9B66-3A59CB9D98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1:19:04Z</dcterms:created>
  <dc:creator>Stephen Ford</dc:creator>
  <dc:description/>
  <dc:language>en-US</dc:language>
  <cp:lastModifiedBy>Stephen Ford</cp:lastModifiedBy>
  <dcterms:modified xsi:type="dcterms:W3CDTF">2009-02-22T21:44:15Z</dcterms:modified>
  <cp:revision>1</cp:revision>
  <dc:subject/>
  <dc:title>Monitoring performance </dc:title>
</cp:coreProperties>
</file>