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BB28A-22F0-4BF2-9D42-37C168864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5EECC-5C29-4E4A-B706-6EEDB5249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1874A-3595-49F8-95F4-F588EEC7A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03993B-82C8-4778-AF06-9F36FEF82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804A2E-43E0-4BDA-89A2-B6C1C0FAF7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05371E-5CD7-4F99-95A9-A3EC97C2F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76E11C-CD70-415C-833F-95CA7C0D8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71498B-AC80-4706-B71F-F0F23B789B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03F5F0-935A-4E5E-B506-55789B1F0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25301F-DDB2-4D01-B562-159557207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5DC32-96E8-460D-8017-D3C64B53B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6F320-BB5B-4F7A-B495-1E9E7726A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9EFB3-CA1C-42C0-B103-954E96E234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1EBB9-70D2-4103-B73D-504CEC5F6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E7074-690E-4E1D-BAD4-F7C0B156A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7B1615-7E90-495F-906D-963597B50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46E3E8-0252-489B-A6D0-B53A82627B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D07B7-A18F-4B11-AD66-AA4E15FDBD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AE1CA-CAA4-495F-BC45-E0D3C62985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3FF7B-D818-443D-95FD-25C4495A5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39768-03DF-4A45-9AEF-492B137CD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3B6D-8BBF-45EE-853E-42BC3519E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33D11-F73D-455F-93CA-D7AF43FFE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8C8E9-5784-470C-B88E-DE193561E9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28733-42A5-4D39-9CFF-C42DEFC3AF8D}"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05B19-CB37-43D0-9D64-95B7F6675CCE}"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nitoring and Evaluating Employee Wellness Program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AECA992D-931E-45ED-8C6E-190004E61F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090080"/>
            <a:ext cx="8001000" cy="608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 procedure</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et measurable goals and object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the evaluation information needed by company and employe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olve how data will be collec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termine who will analyse dat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when to conduct the eval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velop surveys and record keeping 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port on the evaluation- make recommenda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2F7145EB-D37F-468A-86BF-F8F27FD17A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o evaluate?</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ledge and ski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ed risk facto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nt satisf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s on cos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ers compens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enteeism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ductivit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Corporate culture improvemen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place environ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 of health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rnover/ attraction/ retention rat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sldNum" idx="3"/>
          </p:nvPr>
        </p:nvSpPr>
        <p:spPr/>
        <p:txBody>
          <a:bodyPr/>
          <a:p>
            <a:fld id="{EAC74E4A-D411-497E-BD0B-3152CE9F2A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azzing it up for next time….</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3D09470-07E5-4BD6-B029-0F04D719C36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progress during the project</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gular status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ly located planning calend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dely distributed meeting minu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ance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team member accountabil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35F0EEA-9FA8-4A8E-9CDC-2B032FDFAB1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king the progres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project where it needs to b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asks/cost exceeding estimates and du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more resources requ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re major/minor varia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e the status of each project deliver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lve iss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6738E61-C0FE-44DD-98AE-3FD1297B1D2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evaluating outcom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intervention work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nstrates cost /benefit of intervention- was it worth the co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re different types of programs eg did you meet industry standards for quit smoking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feedback (and inspiration to oth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gain info which could be used for press releases, publicity, shareholder reports etc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D4A6367-4AB6-427A-8350-02EE7547B3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ey to effective evaluation i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the tools for evaluation while you are planning for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the evaluation can be done on the short term results eg “did you participate and what you got out of it?” and as programs expand or develop measuring longer term results such as retention , absenteeism , sick leave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627976CD-8F7D-4FB8-BB28-D75F5870277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you are measuring</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goals have been m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funds have been spent used efficientl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C9C34395-7092-4099-BE81-679C74596FA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s also</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the success and progress  of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feedback for better budgeting, tim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opportunities to review program content and presenters, training, communication strateg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750908E-9792-4AE0-883E-5F08370763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 for final project team meeting</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erformance (work scope, quality, managing chang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st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chedule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ject planning and contro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takeholder/sponsor/client relationship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mmunication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blem identification and resolu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commendations for future projects  - continuous improvemen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DBD811BE-860C-4825-9F04-3B722F1464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of the following apply in your case?</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y company evaluation will need t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cost of the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mo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lea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if the program met its go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past and future expenditur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expans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A45D196B-27E1-4FF7-8BA5-7152405D20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22:37:20Z</dcterms:created>
  <dc:creator>Stephen Ford</dc:creator>
  <dc:description/>
  <dc:language>en-US</dc:language>
  <cp:lastModifiedBy>Stephen Ford</cp:lastModifiedBy>
  <dcterms:modified xsi:type="dcterms:W3CDTF">2008-10-13T23:22:15Z</dcterms:modified>
  <cp:revision>1</cp:revision>
  <dc:subject/>
  <dc:title>Monitoring and Evaluating Employee Wellness Programs</dc:title>
</cp:coreProperties>
</file>