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CF00F-7200-4A52-AD0B-698CA4445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8C3E07-127F-4FE9-8412-CE4B88759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5F2AF-BAD7-4E2A-9632-35AE1BCA4E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35514E-C743-453C-BB52-1827901EE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1708B-F4F6-412B-9638-F46CE89D49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24D6D-29BD-40F8-BE38-8294CEF9A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367DB-E012-43CE-B368-C789F9285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4773A-0530-47CA-AE67-E93D542CF7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B35920-A893-41DD-B22A-68E34C34AC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F15F8-78FD-4C10-9B11-2FF511F4A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74DA8-56C7-464E-BE3D-9F610D290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5625DE-E75A-41B6-8908-072B40589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98A210-E1FD-4F4E-8CFC-0F43D0731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3D7176-BF42-443E-BF46-302AAE085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F5EF0-DFD0-4633-8BB0-1030FE3B7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2CCF4F-C4BD-4464-AB66-AEB47D9FA0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B27940-0579-474C-9474-1188FF612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A4E9F-8BC0-4023-818A-FE47F8025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C2DA0-0003-434E-A4BF-E8FD06F37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219673-6ADE-4B61-82BE-5C9086F1C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54407-6715-4753-83BA-7A1555DCB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1CE45-914B-40F6-A627-1DE732F89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68391-6839-4C71-80C6-18CC5BC142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DD8B1-7917-429A-AC7D-2F33F48DD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3200400" cy="6858000"/>
            <a:chOff x="0" y="0"/>
            <a:chExt cx="3200400" cy="6858000"/>
          </a:xfrm>
        </p:grpSpPr>
        <p:sp>
          <p:nvSpPr>
            <p:cNvPr id="1"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2" name=""/>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3" name=""/>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3366"/>
                </a:solidFill>
                <a:latin typeface="Arial"/>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95B0B-1D19-4975-9E3A-1A1D90E99BB2}"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9" name=""/>
          <p:cNvGrpSpPr/>
          <p:nvPr/>
        </p:nvGrpSpPr>
        <p:grpSpPr>
          <a:xfrm>
            <a:off x="228600" y="1981080"/>
            <a:ext cx="7391520" cy="319320"/>
            <a:chOff x="228600" y="1981080"/>
            <a:chExt cx="7391520" cy="319320"/>
          </a:xfrm>
        </p:grpSpPr>
        <p:sp>
          <p:nvSpPr>
            <p:cNvPr id="10"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49"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0" name=""/>
          <p:cNvGrpSpPr/>
          <p:nvPr/>
        </p:nvGrpSpPr>
        <p:grpSpPr>
          <a:xfrm>
            <a:off x="3632040" y="4889520"/>
            <a:ext cx="4876920" cy="318960"/>
            <a:chOff x="3632040" y="4889520"/>
            <a:chExt cx="4876920" cy="318960"/>
          </a:xfrm>
        </p:grpSpPr>
        <p:sp>
          <p:nvSpPr>
            <p:cNvPr id="51"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sp>
        <p:nvSpPr>
          <p:cNvPr id="53" name="PlaceHolder 1"/>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54" name="PlaceHolder 2"/>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Times New Roman"/>
            </a:endParaRPr>
          </a:p>
        </p:txBody>
      </p:sp>
      <p:sp>
        <p:nvSpPr>
          <p:cNvPr id="55" name="PlaceHolder 3"/>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35547-A15B-43CC-8E0C-059F6E2BBF24}" type="slidenum">
              <a:rPr b="1" lang="en-US" sz="2600" spc="-1" strike="noStrike">
                <a:solidFill>
                  <a:srgbClr val="ffffff"/>
                </a:solidFill>
                <a:latin typeface="Arial"/>
              </a:rPr>
              <a:t>&lt;number&gt;</a:t>
            </a:fld>
            <a:endParaRPr b="0" lang="en-US" sz="2600" spc="-1" strike="noStrike">
              <a:solidFill>
                <a:srgbClr val="000000"/>
              </a:solidFill>
              <a:latin typeface="Times New Roman"/>
            </a:endParaRPr>
          </a:p>
        </p:txBody>
      </p:sp>
      <p:sp>
        <p:nvSpPr>
          <p:cNvPr id="56" name="PlaceHolder 4"/>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onitoring and Evaluating Employee Wellness Programs</a:t>
            </a:r>
            <a:endParaRPr b="1" lang="en-US" sz="3600" spc="-1" strike="noStrike">
              <a:solidFill>
                <a:srgbClr val="003366"/>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sldNum" idx="6"/>
          </p:nvPr>
        </p:nvSpPr>
        <p:spPr/>
        <p:txBody>
          <a:bodyPr/>
          <a:p>
            <a:fld id="{FF29F42A-8728-4375-9BCA-B142EF3FE16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1090080"/>
            <a:ext cx="8001000" cy="6080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aluation procedure</a:t>
            </a:r>
            <a:endParaRPr b="1" lang="en-US" sz="3600" spc="-1" strike="noStrike">
              <a:solidFill>
                <a:srgbClr val="006666"/>
              </a:solidFill>
              <a:latin typeface="Arial"/>
            </a:endParaRPr>
          </a:p>
        </p:txBody>
      </p:sp>
      <p:sp>
        <p:nvSpPr>
          <p:cNvPr id="11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et measurable goals and objectiv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cide the evaluation information needed by company and employe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solve how data will be collect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termine who will analyse dat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cide when to conduct the evalu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Develop surveys and record keeping too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port on the evaluation- make recommendation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FFF217DC-F585-4005-87FE-927A640562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to evaluate?</a:t>
            </a:r>
            <a:endParaRPr b="1" lang="en-US" sz="3600" spc="-1" strike="noStrike">
              <a:solidFill>
                <a:srgbClr val="006666"/>
              </a:solidFill>
              <a:latin typeface="Arial"/>
            </a:endParaRPr>
          </a:p>
        </p:txBody>
      </p:sp>
      <p:sp>
        <p:nvSpPr>
          <p:cNvPr id="115" name="PlaceHolder 2"/>
          <p:cNvSpPr>
            <a:spLocks noGrp="1"/>
          </p:cNvSpPr>
          <p:nvPr>
            <p:ph/>
          </p:nvPr>
        </p:nvSpPr>
        <p:spPr>
          <a:xfrm>
            <a:off x="914040" y="2361960"/>
            <a:ext cx="392436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nowledge and skill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Reduced risk factor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cipant satisfac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articipation rat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ffects on cost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orkers compensation rat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bsenteeism rat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ductivity</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16" name="PlaceHolder 3"/>
          <p:cNvSpPr>
            <a:spLocks noGrp="1"/>
          </p:cNvSpPr>
          <p:nvPr>
            <p:ph/>
          </p:nvPr>
        </p:nvSpPr>
        <p:spPr>
          <a:xfrm>
            <a:off x="4990680" y="2361960"/>
            <a:ext cx="392436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Arial"/>
              </a:rPr>
              <a:t>Corporate culture improvement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orkplace environmen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erceptions of health progra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urnover/ attraction/ retention rates</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 name="PlaceHolder 4"/>
          <p:cNvSpPr>
            <a:spLocks noGrp="1"/>
          </p:cNvSpPr>
          <p:nvPr>
            <p:ph type="sldNum" idx="3"/>
          </p:nvPr>
        </p:nvSpPr>
        <p:spPr/>
        <p:txBody>
          <a:bodyPr/>
          <a:p>
            <a:fld id="{71AD6C3F-71E0-4BC4-838A-D21214927F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Jazzing it up for next time….</a:t>
            </a:r>
            <a:endParaRPr b="1" lang="en-US" sz="3600" spc="-1" strike="noStrike">
              <a:solidFill>
                <a:srgbClr val="006666"/>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D6286DAC-16DE-413C-B133-DAB56EA199D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nitoring progress during the project</a:t>
            </a:r>
            <a:endParaRPr b="1" lang="en-US" sz="3600" spc="-1" strike="noStrike">
              <a:solidFill>
                <a:srgbClr val="006666"/>
              </a:solidFill>
              <a:latin typeface="Arial"/>
            </a:endParaRPr>
          </a:p>
        </p:txBody>
      </p:sp>
      <p:sp>
        <p:nvSpPr>
          <p:cNvPr id="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gular status repor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trally located planning calenda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idely distributed meeting minut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erformance report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oting team member accountabilit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F146DC6F-DBF1-43AF-AD62-D87766D932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acking the progress</a:t>
            </a:r>
            <a:endParaRPr b="1" lang="en-US" sz="3600" spc="-1" strike="noStrike">
              <a:solidFill>
                <a:srgbClr val="006666"/>
              </a:solidFill>
              <a:latin typeface="Arial"/>
            </a:endParaRPr>
          </a:p>
        </p:txBody>
      </p:sp>
      <p:sp>
        <p:nvSpPr>
          <p:cNvPr id="9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s project where it needs to b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tasks/cost exceeding estimates and dur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more resources required?</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e there major/minor varia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alyse the status of each project deliverabl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Resolve issues</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3A042C0-6F80-4FBA-B08E-E0BEE4AC3A1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Benefits of evaluating outcomes</a:t>
            </a:r>
            <a:endParaRPr b="1" lang="en-US" sz="3600" spc="-1" strike="noStrike">
              <a:solidFill>
                <a:srgbClr val="006666"/>
              </a:solidFill>
              <a:latin typeface="Arial"/>
            </a:endParaRPr>
          </a:p>
        </p:txBody>
      </p:sp>
      <p:sp>
        <p:nvSpPr>
          <p:cNvPr id="10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see if intervention work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monstrates cost /benefit of intervention- was it worth the cos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are different types of programs eg did you meet industry standards for quit smoking progra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ive feedback (and inspiration to other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gain info which could be used for press releases, publicity, shareholder reports etc </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ED97E58C-3973-415C-B8C3-A9DAF4AEE8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key to effective evaluation is:</a:t>
            </a:r>
            <a:endParaRPr b="1" lang="en-US" sz="3600" spc="-1" strike="noStrike">
              <a:solidFill>
                <a:srgbClr val="006666"/>
              </a:solidFill>
              <a:latin typeface="Arial"/>
            </a:endParaRPr>
          </a:p>
        </p:txBody>
      </p:sp>
      <p:sp>
        <p:nvSpPr>
          <p:cNvPr id="103"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evelop the tools for evaluation while you are planning for the progra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itially the evaluation can be done on the short term results eg “did you participate and what you got out of it?” and as programs expand or develop measuring longer term results such as retention , absenteeism , sick leave etc</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E267B008-0B58-4E3D-886E-C6E1217296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at you are measuring</a:t>
            </a:r>
            <a:endParaRPr b="1" lang="en-US" sz="3600" spc="-1" strike="noStrike">
              <a:solidFill>
                <a:srgbClr val="006666"/>
              </a:solidFill>
              <a:latin typeface="Arial"/>
            </a:endParaRPr>
          </a:p>
        </p:txBody>
      </p:sp>
      <p:sp>
        <p:nvSpPr>
          <p:cNvPr id="10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goals have been me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funds have been spent used efficiently</a:t>
            </a: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76D100E6-DAAE-4D9E-A55F-C10960B2C3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1028520"/>
            <a:ext cx="8001000" cy="6094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valuations also</a:t>
            </a:r>
            <a:endParaRPr b="1" lang="en-US" sz="3600" spc="-1" strike="noStrike">
              <a:solidFill>
                <a:srgbClr val="006666"/>
              </a:solidFill>
              <a:latin typeface="Arial"/>
            </a:endParaRPr>
          </a:p>
        </p:txBody>
      </p:sp>
      <p:sp>
        <p:nvSpPr>
          <p:cNvPr id="10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hart the success and progress  of the progra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vide feedback for better budgeting, tim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Give opportunities to review program content and presenters, training, communication strategie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sldNum" idx="3"/>
          </p:nvPr>
        </p:nvSpPr>
        <p:spPr/>
        <p:txBody>
          <a:bodyPr/>
          <a:p>
            <a:fld id="{15FBB79D-20EC-4E38-ABA2-AEBA7A223E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genda for final project team meeting</a:t>
            </a:r>
            <a:endParaRPr b="1" lang="en-US" sz="3600" spc="-1" strike="noStrike">
              <a:solidFill>
                <a:srgbClr val="006666"/>
              </a:solidFill>
              <a:latin typeface="Arial"/>
            </a:endParaRPr>
          </a:p>
        </p:txBody>
      </p:sp>
      <p:sp>
        <p:nvSpPr>
          <p:cNvPr id="109"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Performance (work scope, quality, managing chang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Cost performanc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chedule performanc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Project planning and control</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Stakeholder/sponsor/client relationship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Communication managemen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Problem identification and resolution</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3366"/>
                </a:solidFill>
                <a:latin typeface="Arial"/>
              </a:rPr>
              <a:t>Recommendations for future projects  - continuous improvement</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C778A2AB-7A14-4AC5-9551-F405CE1DF2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ich of the following apply in your case?</a:t>
            </a:r>
            <a:endParaRPr b="1" lang="en-US" sz="3600" spc="-1" strike="noStrike">
              <a:solidFill>
                <a:srgbClr val="006666"/>
              </a:solidFill>
              <a:latin typeface="Arial"/>
            </a:endParaRPr>
          </a:p>
        </p:txBody>
      </p:sp>
      <p:sp>
        <p:nvSpPr>
          <p:cNvPr id="11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y company evaluation will need t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the cost of the progra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which programs are most effectiv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which programs are least effectiv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etermine if the program met its goal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stify past and future expenditur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ustify expansio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p:txBody>
      </p:sp>
      <p:sp>
        <p:nvSpPr>
          <p:cNvPr id="4" name="PlaceHolder 3"/>
          <p:cNvSpPr>
            <a:spLocks noGrp="1"/>
          </p:cNvSpPr>
          <p:nvPr>
            <p:ph type="sldNum" idx="3"/>
          </p:nvPr>
        </p:nvSpPr>
        <p:spPr/>
        <p:txBody>
          <a:bodyPr/>
          <a:p>
            <a:fld id="{8079D3A9-B581-4FE4-B230-55DB8B91EA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3T22:37:20Z</dcterms:created>
  <dc:creator>Stephen Ford</dc:creator>
  <dc:description/>
  <dc:language>en-US</dc:language>
  <cp:lastModifiedBy>Stephen Ford</cp:lastModifiedBy>
  <dcterms:modified xsi:type="dcterms:W3CDTF">2008-10-13T23:22:15Z</dcterms:modified>
  <cp:revision>1</cp:revision>
  <dc:subject/>
  <dc:title>Monitoring and Evaluating Employee Wellness Programs</dc:title>
</cp:coreProperties>
</file>