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BEE1D-5F73-47EA-9166-4A3AC4200D79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tegic directions may modify due to change or in response to anticipated change eg budget c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ous improvement strategies The learning orga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itoring is part of a L and D program- mentoring and coa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active appro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onitor performan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ep people and teams on track with what you have agreed will be achie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 foundation to base feedback to individuals and te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ing your job as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otiate changes to performance if warra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 information about perform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the P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5.2See framework for monitoring perform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425E-D525-4A39-86F4-FF996E110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5D4A-4F27-4AAA-AFCE-BC9D73F05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1869-3193-4FD7-AAFD-2193C8A38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04DB-B260-41BA-A317-1795A62B4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257DB-5BC5-4C44-8275-437FFA967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D690D-E77B-4A5B-BAFE-9B11C3905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8DD17-4943-402B-B21A-DD0820ED3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33B4F-B970-40B9-A6B6-9621996CD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4A13D-F7EC-48CB-A660-13FDA0128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7334F-6729-4D4C-99CA-44273C1D1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CD850-9332-4050-8E5A-C0D71366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0C45-2F1A-4F7B-AE70-AB18DD8DB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30B98-657D-4ACD-BC49-E156C0BE2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42089-D52E-4819-B7DA-F22158D9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06EB2-69A9-4166-BDEC-3656FDD8C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CBE05-34D6-45C6-85AD-063A80FEF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E6DE0-3502-4AB1-8D41-E48491828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3BAA-D06C-40FC-B90D-C72C61B6C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148E-FE8F-49F0-BA80-F9769C362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2961-A734-42C3-B4E4-53A68C62B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FFDE-ED29-4577-B3D6-BD6A67C13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72D6-72CB-45F0-8700-0DBBFA73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84DE-EF13-4B80-98AA-242DF6C1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B470-8B58-4B83-BFDB-5EE8FF5F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DDE82-F53D-456B-B99C-1F094D662D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1D38F-F1F6-4DD3-9E8A-625B66045A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Monitoring performance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age People 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anage People Performance RAF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F345D-3A29-47C1-96B3-FA9BB9A7E7B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hat are the staff needs in respect to monitoring?</a:t>
            </a:r>
            <a:br>
              <a:rPr sz="4400"/>
            </a:b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 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eed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ole cla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ob involv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ge People Performance RAF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E30C-9AB3-4427-9AE3-F23DBE81516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What is collectable evidence?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idence may take the form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mples of written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ormation o how specific incidents/ situations were hand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k samples that show progresses towards performance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ge People Performance RAF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ED2F-1C5A-4046-9AA8-875A034C198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w skills and knowledge acquired and used for the 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ining courses atten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mples of project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ifiable comments from peers or subordin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ecific performance indic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dgets, productivity figures et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ge People Performance RAF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F0B3-4C5C-4FCF-8353-B5BB1E4204F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comic"/>
              </a:rPr>
              <a:t>Coaching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 work in an ongoing learning environm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ching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 on the job training techn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dividualised. It should be given at the right time, place and as need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ching enables the worker to develop their job performance and secures a long term continuous performance improv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ge People Performance RAF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E828-42CD-4E85-AFA2-DE7B7409C88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How does the coach do this?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vid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edbac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min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ac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lem sol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monstr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BD05584_" descr=""/>
          <p:cNvPicPr/>
          <p:nvPr/>
        </p:nvPicPr>
        <p:blipFill>
          <a:blip r:embed="rId1"/>
          <a:stretch/>
        </p:blipFill>
        <p:spPr>
          <a:xfrm>
            <a:off x="6019920" y="2743200"/>
            <a:ext cx="20574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ge People Performance RAF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8A9D-7BB6-42CB-90F6-9C6D99503CF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coach needs to develop trust, build a relationship, build confidence and cooperation in the work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result should be increased confidence and increased 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ge People Performance RAF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9625-F405-48CC-9D35-EA02C64237C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Take care before intervention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ware of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ing rash judgements eg is evidence collected fair/inaccurate/ irrelev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as and discri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6228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bd07156_" descr=""/>
          <p:cNvPicPr/>
          <p:nvPr/>
        </p:nvPicPr>
        <p:blipFill>
          <a:blip r:embed="rId1"/>
          <a:stretch/>
        </p:blipFill>
        <p:spPr>
          <a:xfrm>
            <a:off x="5791320" y="3733920"/>
            <a:ext cx="250488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ge People Performance RAF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7BC8-8910-41D5-AEFD-A493073DD4B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kills involved in Monitoring, assisting and  controll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ol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er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a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nse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ruc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bal commun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o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ing 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ge People Performance RAF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15B0-0F9E-4788-BD00-6D377913E9D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What are the potential problems in performance which monitoring helps to overcome?</a:t>
            </a:r>
            <a:br>
              <a:rPr sz="3200"/>
            </a:b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tegic directions may modify due to change or in response to anticipated change eg budget c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ous improvement strategies The learning organ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itoring is part of a L and D program- mentoring and coac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active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ge People Performance RAF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0930-C8DD-4779-A647-981E8797ECF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hy monitor performance?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ge People Performance RAF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C5BD-6273-481C-AAAA-0B73F4A1B8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ho does it? 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ge People Performance RAF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8BF0-77A8-444E-A0DB-62A69C9396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elf monitor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de and coach staff to do 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2 way communication if there are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ourage staff to take corrective action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ge People Performance RAF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B5DF-7A91-4A54-A539-722618F29EC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hat to monitor?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Progress of individual and teams towards the performance stand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How staff are using their inputs (knowledge, skills and experiences ) and if any are mi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What processes are being used by staff in their progress towards their 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Outputs/ results that the staff are produ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How outputs are contributing to CSFs, KPIs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Where the gaps may b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ge People Performance RAF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34CE-86FF-4E3D-BEDE-65621CC444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vidence to collect 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2" name="bd05012_" descr=""/>
          <p:cNvPicPr/>
          <p:nvPr/>
        </p:nvPicPr>
        <p:blipFill>
          <a:blip r:embed="rId1"/>
          <a:stretch/>
        </p:blipFill>
        <p:spPr>
          <a:xfrm>
            <a:off x="2563920" y="1752480"/>
            <a:ext cx="462420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ge People Performance RAF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7A84-18B9-457C-B5E0-E03E9F530A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ge People Performance RAF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857E-F0C8-4121-ABB9-B4D60DE4560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21:19:04Z</dcterms:created>
  <dc:creator>Stephen Ford</dc:creator>
  <dc:description/>
  <dc:language>en-US</dc:language>
  <cp:lastModifiedBy>Stephen Ford</cp:lastModifiedBy>
  <dcterms:modified xsi:type="dcterms:W3CDTF">2009-02-22T21:44:15Z</dcterms:modified>
  <cp:revision>1</cp:revision>
  <dc:subject/>
  <dc:title>Monitoring performance </dc:title>
</cp:coreProperties>
</file>