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C3A5-2F9D-4EA4-B4FD-14513F4C652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onitor perform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people and teams on track with what you have agreed will b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oundation to base feedback to individuals and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ing your job a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changes to performance if war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information abou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P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5.2See framework for monitoring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321-1137-4D92-A771-D37E20B2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C44-3F48-40EE-BD5E-908C1BEA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D1F-A4CF-4248-A4FB-8E7903D6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4D1-FA86-4015-9467-A5BF0C10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AEF5-3175-41C4-94ED-9FADFA5C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4184-6422-4364-947C-36F011E1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1B49-3DFA-4863-ACE3-4E2FD610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75DA-9389-4E5F-B8AB-829FD014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4612-7D07-4E40-8BDD-6A8A2ED1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C3F0-B6CE-4605-BBA6-7B0802C2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F830-A5A9-4CB6-BC00-BB8E03E1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6C1-ED1A-4776-BD89-7E98044E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AE87-2AE5-459D-8519-95CD336F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47D3-3364-4192-826D-743F7DE8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A4CC-68CD-46A3-9CED-728EA6AF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E1F2-4554-42A8-9A35-906249AB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86C4-411A-4C17-87EE-8EC1B53A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565-3913-4DA8-BED0-BA002079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982-034F-4590-89B3-85B83A0D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1EC-DCE7-4AA3-9261-E1AA5309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DB4-614E-4CD2-A507-85E95E3C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63D-9BBA-4E15-9EFA-5C993F89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B91-BAC1-4E8A-9699-13995CCF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874-A291-4ECF-82CE-72CF0A8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9699-66BE-4309-AA0A-FA285F86B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79CE-A16C-4688-AF62-96EBDE96A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onitoring performance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 Peopl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D1AB-53D3-44D6-9D74-A183E7AEF0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are the staff needs in respect to monitoring?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 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 invol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9CF-E807-4D59-8DDD-229E0B3DB8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What is collectable evide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idence may take the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written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o how specific incidents/ situations were hand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samples that show progresses towards performanc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88F-ACF0-4017-8F35-468037E856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skills and knowledge acquired and used for the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ing courses att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projec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ifiable comments from peers or sub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performance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dgets, productivity figures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41B-C905-41B0-95A3-1DF0F04301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comic"/>
              </a:rPr>
              <a:t>Coaching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work in an ongoing learning enviro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on the job training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vidualised. It should be given at the right time, place and as nee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enables the worker to develop their job performance and secures a long term continuous performance impr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142-915B-4217-A640-EE608A44E9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ow does the coach do this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db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onstr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D05584_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4FA-7602-4683-B630-8012259221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needs to develop trust, build a relationship, build confidence and cooperation in the wo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ult should be increased confidence and increased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1BA-DE77-486A-9FCC-97A2C6C096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ake care before intervention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ware of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rash judgements eg is evidence collected fair/inaccurate/ ir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as and 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622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bd07156_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5048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0D5-6EC5-4A37-897D-C384586E7B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kills involved in Monitoring, assisting and  controll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s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a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A69-46A8-4C14-AE63-1D27EE7173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What are the potential problems in performance which monitoring helps to overcome?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339-C0E8-4F12-8C3C-52EE44507C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 monitor performa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EA6-DF0D-435E-B057-AFB27E7951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o does it?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5C3-832A-43CD-9973-E7E0066638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f monitor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 and coach staff to do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2 way communication if there ar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staff to take corrective action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3C1-16CE-4611-94FB-C42EA64E26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to monitor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gress of individual and teams towards the performance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staff are using their inputs (knowledge, skills and experiences ) and if any are mi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at processes are being used by staff in their progress towards their 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utputs/ results that the staff are produ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outputs are contributing to CSFs, KPI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ere the gap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6BD-0A07-4408-9641-EEF66D71A0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idence to collect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bd05012_" descr=""/>
          <p:cNvPicPr/>
          <p:nvPr/>
        </p:nvPicPr>
        <p:blipFill>
          <a:blip r:embed="rId1"/>
          <a:stretch/>
        </p:blipFill>
        <p:spPr>
          <a:xfrm>
            <a:off x="2563920" y="1752480"/>
            <a:ext cx="4624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0B0-97F8-47CE-BEDD-AF547E3B5A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46A-FD94-4818-9CEA-BF9555B5A0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1:19:04Z</dcterms:created>
  <dc:creator>Stephen Ford</dc:creator>
  <dc:description/>
  <dc:language>en-US</dc:language>
  <cp:lastModifiedBy>Stephen Ford</cp:lastModifiedBy>
  <dcterms:modified xsi:type="dcterms:W3CDTF">2009-02-22T21:44:15Z</dcterms:modified>
  <cp:revision>1</cp:revision>
  <dc:subject/>
  <dc:title>Monitoring performance </dc:title>
</cp:coreProperties>
</file>