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EF34-FBC6-4E13-971B-E3010A26A56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ic directions may modify due to change or in response to anticipated change eg budget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improvement strategies The learning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ing is part of a L and D program- mentoring and coa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active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onitor perform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people and teams on track with what you have agreed will be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oundation to base feedback to individuals and t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ing your job as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changes to performance if warra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information about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he P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5.2See framework for monitoring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8E7-CD12-4957-8420-418F5EBC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7CF-84BC-4EE9-971A-8FD35668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8C2-0D33-4F4E-A419-70C80F8B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1F0-87F7-498A-8730-104787C9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7B54-66C6-4AEF-80EE-11C83587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D39A-0321-4EE7-883F-9990FEC5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2574-FAD1-4EA9-90C2-A150F660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F1DC-3AC9-447C-B65E-DA8D4463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6401-92F4-4BD2-B748-7EC834DF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0AB2-D7D0-4621-94A0-41908604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773F-3978-438E-8013-319DA5FB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E5E1-BC50-452F-8680-AEC6C25B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A364-DBC4-4EB7-BE92-5B474EAB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5ECA-6BB9-46C5-8D8C-A6DFDC35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E36D-82AD-4683-84DD-6464F67B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830F-0C9C-4723-86A8-43F9DC09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8713-ABCF-422D-9539-3F4F8D13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DB0-E329-4426-BB41-E0E2A3E1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053-224E-4DD1-9127-DEF5FF86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7A6-1C96-42DF-89BB-0EF9E1FF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5A9-058F-4172-8BBD-21F6B3E9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6E7-496B-4A8E-A7CD-B613C0DB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FDF-45A7-4B2C-8915-B89963EF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222C-D8A8-446A-BDAA-8706B4DE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CEDB-9AFF-4712-90BB-D2511EE89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0A1B-9540-48CE-BAB3-38DBA5125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Monitoring performance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 Peopl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EECA-EBE9-4E73-A186-5BB1D813FB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are the staff needs in respect to monitoring?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e c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b invol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C9D-5A81-490D-934D-96CB77242C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What is collectable evidence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idence may take the for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s of written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o how specific incidents/ situations were hand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samples that show progresses towards performanc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BEE-1A61-4C11-B2A8-ED3147804C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skills and knowledge acquired and used for the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ining courses att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s of projec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ifiable comments from peers or subordin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ic performance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dgets, productivity figures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01C-CF5C-43D5-9FCA-2ED0CF1160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comic"/>
              </a:rPr>
              <a:t>Coaching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work in an ongoing learning environ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ching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on the job training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ividualised. It should be given at the right time, place and as nee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ching enables the worker to develop their job performance and secures a long term continuous performance impr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A46-EBE0-437D-8941-4A54CB7021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How does the coach do this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edb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onstr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BD05584_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EA7-5E8F-422A-BB55-130981F76D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ach needs to develop trust, build a relationship, build confidence and cooperation in the wo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ult should be increased confidence and increased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C8F-9570-48BB-8B72-4040E604DB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ake care before intervention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ware of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rash judgements eg is evidence collected fair/inaccurate/ irrele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as and dis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622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bd07156_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50488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E8F-14C3-4ED9-925C-E2D8569D3B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kills involved in Monitoring, assisting and  controll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s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a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CA9-AE77-41CC-A11F-4EEB2956B9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What are the potential problems in performance which monitoring helps to overcome?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c directions may modify due to change or in response to anticipated change eg budget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ous improvement strategies The learning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is part of a L and D program- mentoring and co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activ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790-14FB-46A0-89D7-72B631F92A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 monitor performance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8CC-708F-46F3-9F6A-0E828876E8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o does it?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C80-E4DC-4FB8-A9AC-F2A8EDA0C0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f monitor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 and coach staff to do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2 way communication if there ar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staff to take corrective action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129-54B9-4F1F-9760-686F52D0E7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to monitor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gress of individual and teams towards the performance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staff are using their inputs (knowledge, skills and experiences ) and if any are mi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at processes are being used by staff in their progress towards their 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utputs/ results that the staff are produ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outputs are contributing to CSFs, KPI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ere the gaps may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C60-093B-4AE4-B3D6-D6B836DA13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idence to collect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bd05012_" descr=""/>
          <p:cNvPicPr/>
          <p:nvPr/>
        </p:nvPicPr>
        <p:blipFill>
          <a:blip r:embed="rId1"/>
          <a:stretch/>
        </p:blipFill>
        <p:spPr>
          <a:xfrm>
            <a:off x="2563920" y="1752480"/>
            <a:ext cx="46242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967-174B-43E1-A8BA-5947752953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E62-FA32-4236-B15B-A3960894DE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21:19:04Z</dcterms:created>
  <dc:creator>Stephen Ford</dc:creator>
  <dc:description/>
  <dc:language>en-US</dc:language>
  <cp:lastModifiedBy>Stephen Ford</cp:lastModifiedBy>
  <dcterms:modified xsi:type="dcterms:W3CDTF">2009-02-22T21:44:15Z</dcterms:modified>
  <cp:revision>1</cp:revision>
  <dc:subject/>
  <dc:title>Monitoring performance </dc:title>
</cp:coreProperties>
</file>