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A84D-D2B0-40C5-A438-485633737F6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onitor perform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people and teams on track with what you have agreed will be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 foundation to base feedback to individuals and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ing your job as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otiate changes to performance if warra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 information about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he P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5.2See framework for monitoring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46DD-F817-435C-93B9-38C159138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428C-771D-49F3-AACA-23B14349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E43-F790-43A5-8902-14727494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83CA-E73C-4307-A275-8CCE1ECC1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E2C5A-E411-4208-8DC6-7BCF7308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5D6C9-6B9A-4903-8A94-FDFDAD3D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3843-E748-46E5-B1EB-E5413FB4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35716-F599-41D5-B472-C2890997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E116-44DF-489B-A4CF-0B397BB2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FF09-54D1-4D30-8480-0FA953AA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1811-25FF-4E6F-A424-9BD7C39A2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CD47-1675-4981-81AE-E26A8359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D3064-B1E1-4FC1-A595-B6F52366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D413-DB79-4824-8448-3957237D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BA96-A9A8-48FA-951E-E9FD7674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4365E-2719-4E70-88CE-6CEF9C3CF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DA8E-16CB-497F-BBD5-DFF49813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9B72-EA4A-443F-AF15-51E5B174B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D19B-8C78-4305-B987-80EB776CB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240-CA03-4EB0-9201-3A57A196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DC76-9536-419A-B80D-7FA84896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A3CD-B376-47CF-80B2-45B5EBDB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352-CCAC-4314-9669-E32AF15E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BD57-B6B8-42D2-82D0-9AA84967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874C-2904-48BF-A1BE-68C222A58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2E5DA-54C0-4FA4-84F1-8BB583191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Monitoring performance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 People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EAC8-E932-48BA-9AA7-D761194B14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are the staff needs in respect to monitoring?</a:t>
            </a:r>
            <a:br>
              <a:rPr sz="4400"/>
            </a:b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ole cl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Job involv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5F2F-5923-4C1F-A94A-5984891CD0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What is collectable evide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idence may take the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written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tion o how specific incidents/ situations were hand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k samples that show progresses towards performance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ACDC-9550-48F9-963F-1321B69609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w skills and knowledge acquired and used for the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ining courses atten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mples of project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ifiable comments from peers or subordin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performance indic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udgets, productivity figures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3625-9F48-4530-971A-7682E82128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comic"/>
              </a:rPr>
              <a:t>Coaching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work in an ongoing learning environm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 on the job training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dividualised. It should be given at the right time, place and as need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aching enables the worker to develop their job performance and secures a long term continuous performance improve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7AEF-2268-4DFF-8AEB-BE8188A460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How does the coach do this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eed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in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monstr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BD05584_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F39-3834-4ECE-A183-D11F4B0D5F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ach needs to develop trust, build a relationship, build confidence and cooperation in the work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ult should be increased confidence and increased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945-9EA6-48C4-B91B-C995597899B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21304"/>
                </a:solidFill>
                <a:latin typeface="Times New Roman"/>
              </a:rPr>
              <a:t>Take care before intervention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ware of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ing rash judgements eg is evidence collected fair/inaccurate/ 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ias and 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66228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bd07156_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50488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C0E2-F3DA-4B7C-AD6C-8AA8711D5CC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kills involved in Monitoring, assisting and  controll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a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nse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bal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ing feed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C55-3834-45FC-B4F4-F8AC2FD504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21304"/>
                </a:solidFill>
                <a:latin typeface="Times New Roman"/>
              </a:rPr>
              <a:t>What are the potential problems in performance which monitoring helps to overcome?</a:t>
            </a:r>
            <a:br>
              <a:rPr sz="3200"/>
            </a:b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tegic directions may modify due to change or in response to anticipated change eg budget c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ous improvement strategies The learning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nitoring is part of a L and D program- mentoring and coa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active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836B-7744-461F-B357-4A3A83ACFB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y monitor performance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1D0-248D-4296-AE8E-6EC414ADE81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o does it?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  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2FF7-90BC-4D1F-B1E1-20CE00860B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elf monitoring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de and coach staff to do 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2 way communication if there are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urage staff to take corrective action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67B-DFFB-4D5E-A05B-FF1A6B0C1E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What to monitor?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rogress of individual and teams towards the performance stand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staff are using their inputs (knowledge, skills and experiences ) and if any are mi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at processes are being used by staff in their progress towards their 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Outputs/ results that the staff are produ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outputs are contributing to CSFs, KPIs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Where the gaps may b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F00-C6F0-4814-B2A2-EAB873A554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idence to collect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12" name="bd05012_" descr=""/>
          <p:cNvPicPr/>
          <p:nvPr/>
        </p:nvPicPr>
        <p:blipFill>
          <a:blip r:embed="rId1"/>
          <a:stretch/>
        </p:blipFill>
        <p:spPr>
          <a:xfrm>
            <a:off x="2563920" y="1752480"/>
            <a:ext cx="462420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6851-4627-4AFC-BC3B-BEAAB40D0A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anage People Performance RAF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FFC1-3E4B-4566-894C-0CC2B144932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21:19:04Z</dcterms:created>
  <dc:creator>Stephen Ford</dc:creator>
  <dc:description/>
  <dc:language>en-US</dc:language>
  <cp:lastModifiedBy>Stephen Ford</cp:lastModifiedBy>
  <dcterms:modified xsi:type="dcterms:W3CDTF">2009-02-22T21:44:15Z</dcterms:modified>
  <cp:revision>1</cp:revision>
  <dc:subject/>
  <dc:title>Monitoring performance </dc:title>
</cp:coreProperties>
</file>