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move the slide</a:t>
            </a:r>
            <a:endParaRPr b="0" lang="en-US" sz="4400" spc="-1" strike="noStrike">
              <a:solidFill>
                <a:srgbClr val="ffffe9"/>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83E3-FEAB-4B20-90E7-EC6AEBAE951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issues to considerPLAN-&gt;ORGANISE-&gt;LEAD-&gt;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roles and responsibilities, delegation to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ob skills au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ing the jobs to be motivatin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orporation of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ment of th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f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needs/ compet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itable allocation to certain skill levels/ technology lev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ffing leve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EO/ discri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fety issues safe systems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ions- possible industrial disp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BA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codes of conduct, et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rass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of people leaving with particular specialise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burnou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culture and expect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5ED2A-AA2A-4A17-9F38-0761822FA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ECD02-D571-4180-87D3-43F51270F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3D198-5EF3-4D56-A67A-C181555E0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30636-C3ED-42A1-B657-2CA9BDA57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4B8F0-729F-4E15-8A6E-8AD14AE03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2B1C1-6474-475F-BE1D-66B908230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13062-F82E-44A4-9E53-41FD71714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3527A-11AC-4A75-AE33-DAB0146C8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D4188-E90B-46E4-8931-5A8C88A43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1DF2E-5A7D-4497-B65A-D74F58A72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37702-C348-4EA2-9AFA-44CC23C16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5143F-42B2-4575-A5E3-9833DCE76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A3BD4-4FC5-4B34-A162-2C3BBBCFF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ED918-7D50-4747-81DC-1A9512100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024FE-5A0F-4D00-9293-958EF180A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310E3-1B9D-4D49-90B7-6B59F3918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15DFA-0234-42C0-B1F2-D98B25E28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B2C21-F2DC-4FCD-9757-CE6728AB2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EFCBE-69C1-4E9F-88A2-6A4FDAAB6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F2879-0470-49EA-BB42-8E7543B4A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3C251-6BE1-49B2-99AD-ED408CD81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28E4D-F426-42BF-8AC3-B3ED581D5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8BDB4-EB6F-4C70-A4C8-D2209A8D8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21F8-CA2D-4969-8944-25F16751F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E547-9C27-490E-9AB6-50F4EBD0ECE6}"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EE07-E56C-4E5E-8D36-4D5592903F7B}"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Planning and risk management</a:t>
            </a:r>
            <a:endParaRPr b="0" lang="en-US" sz="4400" spc="-1" strike="noStrike">
              <a:solidFill>
                <a:srgbClr val="ffffe9"/>
              </a:solidFill>
              <a:latin typeface="Times New Roman"/>
            </a:endParaRPr>
          </a:p>
        </p:txBody>
      </p:sp>
      <p:sp>
        <p:nvSpPr>
          <p:cNvPr id="100"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age people performance</a:t>
            </a: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BD7B8003-4A68-4912-8528-0071BDFC10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scribe the steps you would take in redesigning and reallocating existing job roles?</a:t>
            </a:r>
            <a:br>
              <a:rPr sz="3200"/>
            </a:br>
            <a:endParaRPr b="0" lang="en-US" sz="2800" spc="-1" strike="noStrike">
              <a:solidFill>
                <a:srgbClr val="333333"/>
              </a:solidFill>
              <a:latin typeface="Times New Roman"/>
            </a:endParaRPr>
          </a:p>
        </p:txBody>
      </p:sp>
      <p:sp>
        <p:nvSpPr>
          <p:cNvPr id="1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51AC4A9-4ECE-45D4-B4E3-5BA4260B61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c"/>
                </a:solidFill>
                <a:latin typeface="Times New Roman"/>
              </a:rPr>
              <a:t>What legislative requirements might you have to consider?</a:t>
            </a:r>
            <a:endParaRPr b="0" lang="en-US" sz="4400" spc="-1" strike="noStrike">
              <a:solidFill>
                <a:srgbClr val="333333"/>
              </a:solidFill>
              <a:latin typeface="Times New Roman"/>
            </a:endParaRPr>
          </a:p>
        </p:txBody>
      </p:sp>
      <p:sp>
        <p:nvSpPr>
          <p:cNvPr id="12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4A034107-5852-4315-B8DF-C73A6DC94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risk management issues are important in the process?</a:t>
            </a:r>
            <a:br>
              <a:rPr sz="3200"/>
            </a:br>
            <a:endParaRPr b="0" lang="en-US" sz="3200" spc="-1" strike="noStrike">
              <a:solidFill>
                <a:srgbClr val="333333"/>
              </a:solidFill>
              <a:latin typeface="Times New Roman"/>
            </a:endParaRPr>
          </a:p>
        </p:txBody>
      </p:sp>
      <p:sp>
        <p:nvSpPr>
          <p:cNvPr id="12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C33E6FA-637F-4F74-ADFE-7445F5B4C9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dentify the relevant groups and individuals you consider should be consulted</a:t>
            </a:r>
            <a:endParaRPr b="0" lang="en-US" sz="3200" spc="-1" strike="noStrike">
              <a:solidFill>
                <a:srgbClr val="333333"/>
              </a:solidFill>
              <a:latin typeface="Times New Roman"/>
            </a:endParaRPr>
          </a:p>
        </p:txBody>
      </p:sp>
      <p:sp>
        <p:nvSpPr>
          <p:cNvPr id="12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7C796CE8-623B-4186-ABDA-0D5678412F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lect and justify strategies intend to adopt to gain and maintain commitment from these groups and individuals to this new work structure.</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5AA7EB7C-0883-4836-A194-91C13936A57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analysis</a:t>
            </a:r>
            <a:endParaRPr b="0" lang="en-US" sz="4400" spc="-1" strike="noStrike">
              <a:solidFill>
                <a:srgbClr val="333333"/>
              </a:solidFill>
              <a:latin typeface="Times New Roman"/>
            </a:endParaRPr>
          </a:p>
        </p:txBody>
      </p:sp>
      <p:sp>
        <p:nvSpPr>
          <p:cNvPr id="1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Risk analysis refers to a process of identifying the likelihood of a negative event occurring that prevents the organisation achieving its objectiv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What sorts of people performance events could occur that have a potential to impact negatively on organisational performanc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C3F2064-3998-4FC8-A535-8CB30899F5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g</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t may be crucial to recruit and retain the right people to provide customer servic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aving the right organisational culture (staff behaviours) would be crucial for quality, customer service or safety</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4ECFCAF3-24BC-47A2-A6DF-6DFED61D83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management standard</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stablish context</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dentify risks</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nalyse risks (likelihood/ consequences)</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valuate risks</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reat risks</a:t>
            </a:r>
            <a:endParaRPr b="0" lang="en-US" sz="3200" spc="-1" strike="noStrike">
              <a:solidFill>
                <a:srgbClr val="00264c"/>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nitor and evaluat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74850910-A794-4B4C-A1D9-402403D879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isk analysis and management is relevant to many aspects of HRM. </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g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ailing to properly induct employe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 providing ongoing training or skills to staff in a changing environment.</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B7AFB77-DB93-4B40-995E-AB8BEA7C00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are the risks involved in not having an effective PMS? </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1153D058-2C1A-4180-A616-EFC3C3F0E9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t>
            </a:r>
            <a:r>
              <a:rPr b="0" lang="en-US" sz="4400" spc="-1" strike="noStrike">
                <a:solidFill>
                  <a:srgbClr val="333333"/>
                </a:solidFill>
                <a:latin typeface="Times New Roman"/>
              </a:rPr>
              <a:t>Or not getting it working /accepted soon enough?</a:t>
            </a:r>
            <a:endParaRPr b="0" lang="en-US" sz="4400" spc="-1" strike="noStrike">
              <a:solidFill>
                <a:srgbClr val="333333"/>
              </a:solidFill>
              <a:latin typeface="Times New Roman"/>
            </a:endParaRPr>
          </a:p>
        </p:txBody>
      </p:sp>
      <p:sp>
        <p:nvSpPr>
          <p:cNvPr id="11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6788480-AA10-4E3D-AD87-ED03BB42A4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cenario</a:t>
            </a:r>
            <a:br>
              <a:rPr sz="4400"/>
            </a:br>
            <a:endParaRPr b="0" lang="en-US" sz="4400" spc="-1" strike="noStrike">
              <a:solidFill>
                <a:srgbClr val="333333"/>
              </a:solidFill>
              <a:latin typeface="Times New Roman"/>
            </a:endParaRPr>
          </a:p>
        </p:txBody>
      </p:sp>
      <p:sp>
        <p:nvSpPr>
          <p:cNvPr id="11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ssume that you have just been appointed as the Customer Service Manager for ABC Building Products. You have been chosen for this position because of your experience in setting up new work teams and determining the scope of various job roles. All current roles are to be redesigned in consultation with the relevant groups and individuals. This is particularly important as there has been a history of poor morale reflected in various performance indicators of absenteeism, wastage, customer complaints, industrial disputes.</a:t>
            </a:r>
            <a:endParaRPr b="0" lang="en-US" sz="28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A98692D-80E7-4CFA-B2E9-FF19C85C24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Your divisional manager is determined mistakes of the past are not repeated and this reallocation of job roles is seen as part of the introduction of a formal performance management system.</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47BF1A3B-9344-46ED-8458-22B492433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3:46:35Z</dcterms:created>
  <dc:creator>Stephen Ford</dc:creator>
  <dc:description/>
  <dc:language>en-US</dc:language>
  <cp:lastModifiedBy>Stephen Ford</cp:lastModifiedBy>
  <dcterms:modified xsi:type="dcterms:W3CDTF">2009-03-12T04:13:50Z</dcterms:modified>
  <cp:revision>2</cp:revision>
  <dc:subject/>
  <dc:title>Planning and risk management</dc:title>
</cp:coreProperties>
</file>