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6D285D-3A82-4684-AAF7-11591FBE85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EA52A-FB62-45CE-A324-AF5D83C04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E56DC1-A2C6-4894-ACE3-6A6CA967E1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0F5318-CBE8-4BF9-A4BA-3A9D0236E7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028146-AF55-475C-9A08-0CC3AFCF08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0B89B3-3DF9-49C0-9C4E-3029AE445C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471D82-514A-415C-8ED7-F295DDEEDB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9D6BD4-A7C1-41E5-A7EF-9C04BD7F59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ED6E18-A899-402F-84F1-58AA8B2A1C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165F29-5564-4703-B3A2-AFD2765361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E623F3-337B-4ADD-9EA4-78CFB3834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360F0-C4AE-4118-9423-EF29C82C5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D08D83-AECC-4737-B697-1C61982FB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F8860-E6AD-4262-9FB6-BD487F4754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59544A-29CF-42A5-A5DE-B519D299D4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51BA3B-EBDF-4301-90D8-C57BF54FB0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466683-BBD4-4AB0-A8B8-291706BA51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C2C47-7328-4B4E-BAB3-A2769F937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22E41-F5E3-479C-B1AA-DE37BF445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A4CD5-2103-475E-8FF4-4BB87539B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FDCF8-CF79-4D1E-B460-C9114373A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ECB4C-C0FB-447C-BAC7-0395BDFB1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05052-4F99-4F6F-98B1-74CEF6908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F4909-901F-4D56-B7F8-0CE40CB7A9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D56AD-F073-45CF-A132-66078BAAE1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minispir"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1F8C8-A77F-4CAC-8E21-5CCE483F69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2057040"/>
            <a:ext cx="772164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actical exercise -Appraisal</a:t>
            </a:r>
            <a:br>
              <a:rPr sz="4400"/>
            </a:br>
            <a:endParaRPr b="0" lang="en-US" sz="4400" spc="-1" strike="noStrike">
              <a:solidFill>
                <a:srgbClr val="221304"/>
              </a:solidFill>
              <a:latin typeface="Times New Roman"/>
            </a:endParaRPr>
          </a:p>
        </p:txBody>
      </p:sp>
      <p:sp>
        <p:nvSpPr>
          <p:cNvPr id="91" name="PlaceHolder 2"/>
          <p:cNvSpPr>
            <a:spLocks noGrp="1"/>
          </p:cNvSpPr>
          <p:nvPr>
            <p:ph type="subTitle"/>
          </p:nvPr>
        </p:nvSpPr>
        <p:spPr>
          <a:xfrm>
            <a:off x="1625760" y="3885840"/>
            <a:ext cx="6400800" cy="1771560"/>
          </a:xfrm>
          <a:prstGeom prst="rect">
            <a:avLst/>
          </a:prstGeom>
          <a:solidFill>
            <a:srgbClr val="ffffff"/>
          </a:solidFill>
          <a:ln w="9360">
            <a:solidFill>
              <a:srgbClr val="000000"/>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e people performa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oor performance appraisal</a:t>
            </a:r>
            <a:endParaRPr b="0" lang="en-US" sz="4400" spc="-1" strike="noStrike">
              <a:solidFill>
                <a:srgbClr val="221304"/>
              </a:solidFill>
              <a:latin typeface="Times New Roman"/>
            </a:endParaRPr>
          </a:p>
        </p:txBody>
      </p:sp>
      <p:sp>
        <p:nvSpPr>
          <p:cNvPr id="9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
          <p:cNvSpPr/>
          <p:nvPr/>
        </p:nvSpPr>
        <p:spPr>
          <a:xfrm>
            <a:off x="2214720" y="2128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5" name="Perf_app_screenshot2" descr=""/>
          <p:cNvPicPr/>
          <p:nvPr/>
        </p:nvPicPr>
        <p:blipFill>
          <a:blip r:embed="rId1"/>
          <a:stretch/>
        </p:blipFill>
        <p:spPr>
          <a:xfrm>
            <a:off x="1295280" y="1905120"/>
            <a:ext cx="7086600" cy="3886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erformance appraisal that produces results</a:t>
            </a:r>
            <a:endParaRPr b="0" lang="en-US" sz="4400" spc="-1" strike="noStrike">
              <a:solidFill>
                <a:srgbClr val="221304"/>
              </a:solidFill>
              <a:latin typeface="Times New Roman"/>
            </a:endParaRPr>
          </a:p>
        </p:txBody>
      </p:sp>
      <p:sp>
        <p:nvSpPr>
          <p:cNvPr id="9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
          <p:cNvSpPr/>
          <p:nvPr/>
        </p:nvSpPr>
        <p:spPr>
          <a:xfrm>
            <a:off x="2162160" y="2147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9" name="Perf_app_screenshot1" descr=""/>
          <p:cNvPicPr/>
          <p:nvPr/>
        </p:nvPicPr>
        <p:blipFill>
          <a:blip r:embed="rId1"/>
          <a:stretch/>
        </p:blipFill>
        <p:spPr>
          <a:xfrm>
            <a:off x="1523880" y="1828800"/>
            <a:ext cx="6553440" cy="3962520"/>
          </a:xfrm>
          <a:prstGeom prst="rect">
            <a:avLst/>
          </a:prstGeom>
          <a:ln w="0">
            <a:noFill/>
          </a:ln>
        </p:spPr>
      </p:pic>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A68472E8-5A2C-481E-95CC-80CF3F29247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21304"/>
                </a:solidFill>
                <a:uFillTx/>
                <a:latin typeface="Braggadocio"/>
              </a:rPr>
              <a:t>SCENARIO THE APPRAISAL INTERVIEW</a:t>
            </a:r>
            <a:br>
              <a:rPr sz="4400"/>
            </a:br>
            <a:endParaRPr b="0" lang="en-US" sz="4400" spc="-1" strike="noStrike">
              <a:solidFill>
                <a:srgbClr val="221304"/>
              </a:solidFill>
              <a:latin typeface="Times New Roman"/>
            </a:endParaRPr>
          </a:p>
        </p:txBody>
      </p:sp>
      <p:sp>
        <p:nvSpPr>
          <p:cNvPr id="10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LOYER’S ROL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are the supervisor of the Reception staff of the Palace Hotel. You have just completed the attached rating form on the performance of Mark/ Mary. This employee has seen the appraisal and the next step is to interview him/her to talk about any problems, training needs and career aspirations etc</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LOYEE’S ROLE </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are Mary/ Mark whose performance appraisal assessment is attached. You work in the Reception area of the Palace Hotel. You will be attending an interview to discuss your appraisal in a few minutes time. You feel your supervisor was a little unjust in his/her comments and you wish to dispute the telephone and independence  rating. You also want to discuss your opportunities for advancement in the hotel and what you can do to improve these chances.</a:t>
            </a:r>
            <a:endParaRPr b="0" lang="en-US" sz="2800" spc="-1" strike="noStrike">
              <a:solidFill>
                <a:srgbClr val="000000"/>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fter the role play review…..</a:t>
            </a:r>
            <a:endParaRPr b="0" lang="en-US" sz="4400" spc="-1" strike="noStrike">
              <a:solidFill>
                <a:srgbClr val="221304"/>
              </a:solidFill>
              <a:latin typeface="Times New Roman"/>
            </a:endParaRPr>
          </a:p>
        </p:txBody>
      </p:sp>
      <p:sp>
        <p:nvSpPr>
          <p:cNvPr id="10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Appropriate preparation undertaken (planning questions, materials and environment)</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Suitable questioning technique used</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Use of active listening skills</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Appropriate note taking</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Discretion and confidentiality used during the interview</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Proposal of appropriate follow up activities and summary</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nteraction consistent with the needs of the organisation and the participant</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 </a:t>
            </a: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8T19:32:51Z</dcterms:created>
  <dc:creator>Stephen Ford</dc:creator>
  <dc:description/>
  <dc:language>en-US</dc:language>
  <cp:lastModifiedBy>Stephen Ford</cp:lastModifiedBy>
  <dcterms:modified xsi:type="dcterms:W3CDTF">2009-03-08T20:03:18Z</dcterms:modified>
  <cp:revision>3</cp:revision>
  <dc:subject/>
  <dc:title>Practical exercise -Appraisal </dc:title>
</cp:coreProperties>
</file>