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21AE5-77AE-4B34-B553-9EFD35CF9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7A4677-1715-48B7-BB8E-CF050B7B3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F2D7-30BD-4692-8C42-B67D458E4D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3FA40-B093-43E6-A9B7-A52501835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96C431-F7EF-4141-A25D-3D0740FA7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B9216-2FB5-4175-B4AF-41E2B1F3E1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C9BCBB-D0D6-4E5B-92AB-38B2F57EF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6DE3F-E42F-49F4-BB71-C4493851AD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83E1C-151A-489B-95B2-EAC04D390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67681A-D14F-4148-A12D-2FB72570AB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1D9170-B024-4928-B881-D3DD623A70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FB8B1-8D23-4F78-98A2-2BB33B49D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B572C-D298-428E-820D-68B371CE1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329D1-A977-439C-B0FC-0F348F468B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5A860D-EBD7-4B54-9985-B266F351E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AA9C5D-C6D2-4F44-A63D-473119A659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80829-9FB8-4647-9EFD-4DE40CA295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D68D8-114E-460D-B072-619113BE48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E675C-99A8-4D73-8FB3-DCA4CAC8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3AC1C-F2DB-41DA-B01E-D9EDE212F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E363A-A3AA-4542-9A4F-15DE37CD1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F2402-49D3-4FB6-8391-6560E36EC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5557E4-2A50-400F-B381-9E8024FC6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2F338-2ACE-421F-B2A1-AC6C213C8D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49737-409A-409C-AB5C-31C848378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8B29B-90C6-4EFE-BEE2-432470AFE6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actical exercise -Appraisal</a:t>
            </a:r>
            <a:br>
              <a:rPr sz="4400"/>
            </a:b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peopl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or performance appraisal</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
          <p:cNvSpPr/>
          <p:nvPr/>
        </p:nvSpPr>
        <p:spPr>
          <a:xfrm>
            <a:off x="221472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Perf_app_screenshot2" descr=""/>
          <p:cNvPicPr/>
          <p:nvPr/>
        </p:nvPicPr>
        <p:blipFill>
          <a:blip r:embed="rId1"/>
          <a:stretch/>
        </p:blipFill>
        <p:spPr>
          <a:xfrm>
            <a:off x="1295280" y="1905120"/>
            <a:ext cx="70866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erformance appraisal that produces result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21621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Perf_app_screenshot1" descr=""/>
          <p:cNvPicPr/>
          <p:nvPr/>
        </p:nvPicPr>
        <p:blipFill>
          <a:blip r:embed="rId1"/>
          <a:stretch/>
        </p:blipFill>
        <p:spPr>
          <a:xfrm>
            <a:off x="1523880" y="1828800"/>
            <a:ext cx="6553440" cy="3962520"/>
          </a:xfrm>
          <a:prstGeom prst="rect">
            <a:avLst/>
          </a:prstGeom>
          <a:ln w="0">
            <a:noFill/>
          </a:ln>
        </p:spPr>
      </p:pic>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9B3CD541-6300-4290-A1BA-AB1F18B8F4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Braggadocio"/>
              </a:rPr>
              <a:t>SCENARIO THE APPRAISAL INTERVIEW</a:t>
            </a:r>
            <a:br>
              <a:rPr sz="4400"/>
            </a:b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RO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supervisor of the Reception staff of the Palace Hotel. You have just completed the attached rating form on the performance of Mark/ Mary. This employee has seen the appraisal and the next step is to interview him/her to talk about any problems, training needs and career aspiration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ROLE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Mary/ Mark whose performance appraisal assessment is attached. You work in the Reception area of the Palace Hotel. You will be attending an interview to discuss your appraisal in a few minutes time. You feel your supervisor was a little unjust in his/her comments and you wish to dispute the telephone and independence  rating. You also want to discuss your opportunities for advancement in the hotel and what you can do to improve these chance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ter the role play review…..</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preparation undertaken (planning questions, materials and environme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uitable questioning technique use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of active listening skill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note tak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scretion and confidentiality used during the interview</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posal of appropriate follow up activities and summa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raction consistent with the needs of the organisation and the participa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32:51Z</dcterms:created>
  <dc:creator>Stephen Ford</dc:creator>
  <dc:description/>
  <dc:language>en-US</dc:language>
  <cp:lastModifiedBy>Stephen Ford</cp:lastModifiedBy>
  <dcterms:modified xsi:type="dcterms:W3CDTF">2009-03-08T20:03:18Z</dcterms:modified>
  <cp:revision>3</cp:revision>
  <dc:subject/>
  <dc:title>Practical exercise -Appraisal </dc:title>
</cp:coreProperties>
</file>