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9D71-1496-40F9-A843-F5BC96DD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288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D63F-149B-416D-83D7-79717F2A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288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BE11-5642-4DF8-868B-B965CAFB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9276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5708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2880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9276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5708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CB2E-0764-426A-A966-D0CDE49B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247B-47F4-403A-A543-2BB8A0AD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8288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8A1F-61DF-41D5-89B4-5F5965A9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CFDB-61B5-4081-995A-8C15BCA1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8D92-08A0-4766-BA82-AABF4DF7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17C4-CF87-412D-91BE-87CE85CB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8EEF-E111-4363-9D1A-FC05CF20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288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0020-711D-4A10-A271-DD43BC02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288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4C5-10ED-4CAC-971D-F5B623EA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087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525B-DB68-4092-B88E-E6B61210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8288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F0A6-0FE1-42D9-B11F-F688C7D2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288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1B0E-67F6-4A55-B38A-78EDF246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8288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087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F4B5-7B51-40E7-9F81-11F2AF27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9276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708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82880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9276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708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A4F2-D14B-4CA2-9333-3086FF05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912E-E748-48F0-8F98-44F636A1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1923-5A50-45BA-8D1E-C8504405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F45-3490-4AC0-89B7-EFFB6CF3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56EE-F123-4451-8FD6-3CE38B23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288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FBC0-88EB-49BB-81ED-FF61AA09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80C6-F6E9-4E77-B44C-F29D9884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288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48A9-75D2-4898-AF73-6384D758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8DDB-388A-4182-91E5-4D99BBC918F1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228600"/>
            <a:ext cx="8763120" cy="6553080"/>
            <a:chOff x="228600" y="228600"/>
            <a:chExt cx="8763120" cy="6553080"/>
          </a:xfrm>
        </p:grpSpPr>
        <p:sp>
          <p:nvSpPr>
            <p:cNvPr id="6" name=""/>
            <p:cNvSpPr/>
            <p:nvPr/>
          </p:nvSpPr>
          <p:spPr>
            <a:xfrm>
              <a:off x="1600200" y="228600"/>
              <a:ext cx="7391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8600" y="1752480"/>
              <a:ext cx="76320" cy="50292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1680" y="0"/>
            <a:ext cx="1720800" cy="175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454C-8581-40C2-A92D-C7C4FCCD0CCB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2457360"/>
            <a:ext cx="9067680" cy="4324320"/>
            <a:chOff x="0" y="2457360"/>
            <a:chExt cx="9067680" cy="4324320"/>
          </a:xfrm>
        </p:grpSpPr>
        <p:sp>
          <p:nvSpPr>
            <p:cNvPr id="50" name=""/>
            <p:cNvSpPr/>
            <p:nvPr/>
          </p:nvSpPr>
          <p:spPr>
            <a:xfrm>
              <a:off x="1676520" y="2666880"/>
              <a:ext cx="739116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600" y="4038480"/>
              <a:ext cx="76320" cy="27432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0" y="2457360"/>
              <a:ext cx="1552680" cy="15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288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3:27:05Z</dcterms:created>
  <dc:creator>SHGG21-06</dc:creator>
  <dc:description/>
  <cp:keywords/>
  <dc:language>en-US</dc:language>
  <cp:lastModifiedBy>SHGG21-06</cp:lastModifiedBy>
  <dcterms:modified xsi:type="dcterms:W3CDTF">2008-10-22T23:43:46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9231033</vt:lpwstr>
  </property>
</Properties>
</file>