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E4DF-D206-4072-89D9-BF2E15FC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288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3D97-FF52-4103-9E70-9B5D8ACA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288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F82B-555C-489C-A842-CABE6FFEF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9276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5708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2880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9276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5708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AEDB-0D0F-4CAA-BB63-5579E2B63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0E09-B259-4A14-B959-9FF0C537D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8288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3EF2-4B7D-4C70-8666-E3148B978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8A68-3A4C-490D-8C61-18033D34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4727-3299-42CB-837E-05D47B78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A2F9-0DAA-4BCD-88DA-2530DDEA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E3CD-46E7-466F-89F3-A7C9DD1D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288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71E0-0970-41D9-AB7B-E0F02E39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288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AB1-D6AE-415D-8D6F-40A23E46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087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2DE9D-3DD9-40DF-8BF2-34AC1D925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8288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5B0A-4194-4689-90CB-B42C711A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288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2CE6-E3E8-4B9E-AA26-ADA1D140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8288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087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935C3-46BD-421D-9BAF-6D3CBE83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9276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708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82880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9276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708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820E0-FD3D-48D1-8CDB-5D617A3A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8748-8280-459D-980C-DC40DA34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F625-B843-4D8D-8596-81B2D6209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BDE7-EC06-469A-BD40-6EA94759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9CB4-7E48-462A-9EF1-247D342F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288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79D5-AC74-4512-B59B-2C1536FD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C76F-93AD-41C3-BDA4-A372B5A4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288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C756-450E-42AB-93E5-96A1F33A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C6EE-B850-4B4B-99B3-CB7774BA229B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228600"/>
            <a:ext cx="8763120" cy="6553080"/>
            <a:chOff x="228600" y="228600"/>
            <a:chExt cx="8763120" cy="6553080"/>
          </a:xfrm>
        </p:grpSpPr>
        <p:sp>
          <p:nvSpPr>
            <p:cNvPr id="6" name=""/>
            <p:cNvSpPr/>
            <p:nvPr/>
          </p:nvSpPr>
          <p:spPr>
            <a:xfrm>
              <a:off x="1600200" y="228600"/>
              <a:ext cx="7391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8600" y="1752480"/>
              <a:ext cx="76320" cy="50292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1680" y="0"/>
            <a:ext cx="1720800" cy="175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C076-745B-4F32-984E-8B1E82F971ED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2457360"/>
            <a:ext cx="9067680" cy="4324320"/>
            <a:chOff x="0" y="2457360"/>
            <a:chExt cx="9067680" cy="4324320"/>
          </a:xfrm>
        </p:grpSpPr>
        <p:sp>
          <p:nvSpPr>
            <p:cNvPr id="50" name=""/>
            <p:cNvSpPr/>
            <p:nvPr/>
          </p:nvSpPr>
          <p:spPr>
            <a:xfrm>
              <a:off x="1676520" y="2666880"/>
              <a:ext cx="739116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600" y="4038480"/>
              <a:ext cx="76320" cy="27432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0" y="2457360"/>
              <a:ext cx="1552680" cy="15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288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3:27:05Z</dcterms:created>
  <dc:creator>SHGG21-06</dc:creator>
  <dc:description/>
  <cp:keywords/>
  <dc:language>en-US</dc:language>
  <cp:lastModifiedBy>SHGG21-06</cp:lastModifiedBy>
  <dcterms:modified xsi:type="dcterms:W3CDTF">2008-10-22T23:43:46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9231033</vt:lpwstr>
  </property>
</Properties>
</file>