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387-D220-4C8F-8BEC-6CBC4040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F1E-9541-44F2-A3E2-4458E0D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954-1AE4-4712-945E-30C922B9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1F6-99BF-4727-AEAD-85F9B9C6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1A8D-4D93-4212-8288-09C5D8B2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8A7-B762-4243-8BC4-4707EFF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59CA-4D99-4625-9AE1-84B924E7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E61-76B7-41B3-890A-76A99DB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B56D-C0E0-41A9-8CD5-6516EA13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A3D-EA9E-410D-A70A-EC25973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A91-B6BA-4BC4-807E-29A7378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408-947F-45D9-A9C8-9D69D16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36A4-0858-4364-932B-A2DE04FB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F9A4-49C5-4325-AA21-9436BFE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E317-6EA7-4D88-9DBD-05BE64C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3497-7D5C-4EB6-AECD-010820FF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60C-E1AF-4085-96C0-B19B98D9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1BE-E34D-4883-828D-048EEFCE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84C-C9FD-4810-BB01-1C62C92A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6AB-B960-4EA1-B92E-50F967B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56A-14BB-4232-BE06-3CFED45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A2F-2586-4F42-947C-DC05765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D0E-E8E9-4ECC-83F2-1506C94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255-357D-4DC7-85E9-01A32EBA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CEE-4EFC-4C93-A7BE-DAB3FD03537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377-9A9D-4D3B-900A-A0FD9C7F181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50" name="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3:27:05Z</dcterms:created>
  <dc:creator>SHGG21-06</dc:creator>
  <dc:description/>
  <cp:keywords/>
  <dc:language>en-US</dc:language>
  <cp:lastModifiedBy>SHGG21-06</cp:lastModifiedBy>
  <dcterms:modified xsi:type="dcterms:W3CDTF">2008-10-22T23:43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231033</vt:lpwstr>
  </property>
</Properties>
</file>