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046D-B0BD-477C-9D44-F2265C21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5FD8-D4B5-4296-AC42-04396CCD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6E84-2C80-464B-BA28-E60B9410E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294-712F-4006-B46E-A61960D42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496A-15EC-4C54-A6B6-51328568B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07D5-756A-4669-93E2-5F80D835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DAB-FACA-4880-842D-3B560008C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B80-E589-410B-9783-3B3AF93A9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3E9F-6C02-41EF-8CF0-7DF4F2D8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6C06-52F8-4FE5-86A4-1F3C78AB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B0E1-0D2E-43C8-90FD-4E061956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93C8-7009-4820-90D7-C7488734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D044-C629-418D-B8BC-73CCC70D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E7BEA-EF28-422D-A06C-AFB7C637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3679-BC3D-4B4E-AFAC-C8AD043E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ACF1-CE82-405B-9265-D425C11AF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99276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7080" y="3276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82880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99276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7080" y="41925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73DD-A670-49FB-A553-ABE5FF52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1869-74C8-4D9B-8354-5D324847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23EB-9847-49C8-B3B3-5124F4ACC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FCD-9B85-47C0-AE04-B7FB4877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536E-4378-4D29-8E20-3B08E15A0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AE24-9BF4-40AE-B1F3-727B818E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1925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1370-EAAA-41B4-A58A-83C4FD6E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3276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828800" y="41925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8373-CE8B-4A8E-A6D1-E84C6257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7083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DD21C-EB41-4C9E-AE3F-17C946F2F510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228600"/>
            <a:ext cx="8763120" cy="6553080"/>
            <a:chOff x="228600" y="228600"/>
            <a:chExt cx="8763120" cy="6553080"/>
          </a:xfrm>
        </p:grpSpPr>
        <p:sp>
          <p:nvSpPr>
            <p:cNvPr id="6" name=""/>
            <p:cNvSpPr/>
            <p:nvPr/>
          </p:nvSpPr>
          <p:spPr>
            <a:xfrm>
              <a:off x="1600200" y="228600"/>
              <a:ext cx="739152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8600" y="1752480"/>
              <a:ext cx="76320" cy="5029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1680" y="0"/>
            <a:ext cx="1720800" cy="1752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CBDE-B6FB-40A3-8486-3D9624B22D3D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2457360"/>
            <a:ext cx="9067680" cy="4324320"/>
            <a:chOff x="0" y="2457360"/>
            <a:chExt cx="9067680" cy="4324320"/>
          </a:xfrm>
        </p:grpSpPr>
        <p:sp>
          <p:nvSpPr>
            <p:cNvPr id="50" name=""/>
            <p:cNvSpPr/>
            <p:nvPr/>
          </p:nvSpPr>
          <p:spPr>
            <a:xfrm>
              <a:off x="1676520" y="2666880"/>
              <a:ext cx="7391160" cy="76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30240" bIns="3024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8600" y="4038480"/>
              <a:ext cx="76320" cy="27432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2457360"/>
              <a:ext cx="1552680" cy="15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8288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3:27:05Z</dcterms:created>
  <dc:creator>SHGG21-06</dc:creator>
  <dc:description/>
  <cp:keywords/>
  <dc:language>en-US</dc:language>
  <cp:lastModifiedBy>SHGG21-06</cp:lastModifiedBy>
  <dcterms:modified xsi:type="dcterms:W3CDTF">2008-10-22T23:43:46Z</dcterms:modified>
  <cp:revision>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819231033</vt:lpwstr>
  </property>
</Properties>
</file>