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326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FBDA4-35C9-45B6-88DE-B63ACF5C1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9F86F-C9EF-4FAE-8E22-6B8CFDB22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9A414-A763-4F0B-BCF0-989B7D896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1D54B-6390-4FC7-ACB7-698DD8CA4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00D52-B2AD-4BE9-AF78-344DBBC97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15AE3-A359-4EF9-AD5B-C2632F7A4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287DD-E463-4B0D-A22B-42D9C4556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CDC27-A1D0-470B-BC92-7A14CF201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2F6B2-2E45-4900-8CD6-0FF952527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A74C0-95BB-41BA-BDF5-656182C28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9DC4B-9832-4922-ADC7-E45F62911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6430D-BB86-4A0E-90EB-83E1AA2A6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FAED7-39FA-4DEE-B5A8-803BD7613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81E96-EB75-4D99-924C-DDFEE8D0C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43483-7E07-4FA5-89AA-3463A1185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2A082-567B-4BF6-BD6B-316B1C0D5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C3159-7970-471E-81D3-D9924F8E4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EA35C-1805-44F1-9963-2642E7DC6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4A86C-74A3-4637-9A6A-0918D471B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E0F14-B130-459F-A687-DF9A41A00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AC524-1AEC-41EE-9E54-9C1D7E81D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7DCF7-40D4-4D7E-9BEF-15B2398E2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5BBA2-9D22-407C-8000-0ECDC8F2F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DD1D5-DD69-43A0-A724-F90B73AAE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DF3D0-615C-422F-B928-00CF9DF8427F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AC2A8-1A7B-4B9D-B7FD-101F39289FB3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iris.org.au/index.pl?page=248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aigroup.asn.au/scripts/cgiip.exe/WService=aigroup/ccms.r?Roxy=0x000a81c5&amp;PageId=962" TargetMode="External"/><Relationship Id="rId2" Type="http://schemas.openxmlformats.org/officeDocument/2006/relationships/hyperlink" Target="http://www.workplace.gov.au/workplace/Publications/LabourMarketAnalysis/" TargetMode="Externa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192320"/>
            <a:ext cx="8229600" cy="14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Research and Report on Labour Market Information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HCES502A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Look up the Key National Indicators on the ABS site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ook for labour force and demograph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ote job vacancy and Average Weekly Earnings AW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Other research sit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http://www.iris.org.au/index.pl?page=248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3366"/>
                </a:solidFill>
                <a:latin typeface="Arial"/>
              </a:rPr>
              <a:t>The Illawarra Regional Informational Servic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3366"/>
                </a:solidFill>
                <a:latin typeface="Arial"/>
              </a:rPr>
              <a:t>Google Access economics- what information od they collect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3366"/>
                </a:solidFill>
                <a:latin typeface="Arial"/>
              </a:rPr>
              <a:t>What information can you get on the aging workforce?  There are a couple of reports here to look at and Stats at the end of the paper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More sites.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3366"/>
                </a:solidFill>
                <a:latin typeface="Arial"/>
              </a:rPr>
              <a:t>Look up department of Employment and workplace Relations-Vacancy Repor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3366"/>
                </a:solidFill>
                <a:latin typeface="Arial"/>
              </a:rPr>
              <a:t>What other information is available on this site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3366"/>
                </a:solidFill>
                <a:latin typeface="Arial"/>
              </a:rPr>
              <a:t>Refer to EOWA site. What labour market information is contained here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3366"/>
                </a:solidFill>
                <a:latin typeface="Arial"/>
              </a:rPr>
              <a:t>Check out the following reports: analysis of te Labour Market2006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3366"/>
                </a:solidFill>
                <a:latin typeface="Arial"/>
              </a:rPr>
              <a:t>Reserve Bank Labour Market Report (has some good trend graphs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search lesson RAF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AC276-450F-45C9-8ACD-553EA2D082B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For Workforce Plann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ook at published reports at Australian Industry Group 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http://www.aigroup.asn.au/scripts/cgiip.exe/WService=aigroup/ccms.r?Roxy=0x000a81c5&amp;PageId=962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  <a:hlinkClick r:id="rId2"/>
              </a:rPr>
              <a:t>http://www.workplace.gov.au/workplace/Publications/LabourMarketAnalysis/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ook at vacancy reports etc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1192320"/>
            <a:ext cx="8229600" cy="14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Manage Workforce Planning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Topic- analysing the external labour force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Best practice in workforce planning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ata is collected from a range of sourc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is available data is incorporated into workforce plannin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xternal labour market and demographic profiles and trends  are projected and incorporated into workforce plannin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nformation may be included about the number of graduates or college enrolments and registration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esearch sess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o to Australian Bureau of Statistics site (6202.0) Labour force Australia latest figur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ook up employed persons and unemployment rates , comment on the graphs for unemployment rate and employed person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Use the glossary to find…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articipation rat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Underutilised labou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Look at the explanatory notes. Explain the following terms..</a:t>
            </a:r>
            <a:br>
              <a:rPr sz="2800"/>
            </a:b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asonal adjustme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ownload notes on these </a:t>
            </a:r>
            <a:br>
              <a:rPr sz="3600"/>
            </a:b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rend analysi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y should HR professional consider trends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6666"/>
                </a:solidFill>
                <a:latin typeface="Arial"/>
              </a:rPr>
              <a:t>Comment on casualisa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at are the trends? (Look up 6150.0- Labour market Statistics Oct 2007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1T21:53:02Z</dcterms:created>
  <dc:creator>Stephen Ford</dc:creator>
  <dc:description/>
  <dc:language>en-US</dc:language>
  <cp:lastModifiedBy>rford</cp:lastModifiedBy>
  <dcterms:modified xsi:type="dcterms:W3CDTF">2008-08-14T05:07:06Z</dcterms:modified>
  <cp:revision>6</cp:revision>
  <dc:subject/>
  <dc:title>Research and Report on Labour Market Information</dc:title>
</cp:coreProperties>
</file>