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326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B9336-F984-47DC-8638-4461F179A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ED5F8-8F81-48A7-B667-D26311DAF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A13DA-7589-479B-B64D-B5286E60E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ED08B-2A46-4982-9689-7A74078FF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34835-DCF8-4AE5-909B-BA329F2CB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A87E9-282E-4447-AC79-42C64981A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FC516-7463-455C-8FC7-021C2CE1F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BFF6D-5B1F-4442-84DA-8F399EDA3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20AF1-C28B-4F6A-976D-25F54BFDA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2811A-AC7A-4CBC-B569-D3E197921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2C005-6739-4D74-BD3A-6E2EBCC92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9B554-8565-4F1F-9135-7EF001CC9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AA766-6A09-40D4-826D-37EF08A59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9E171-ADC7-488C-90C5-A17319376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93E24-3AA4-4DD3-877F-6B478267B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38C5E-59C8-4DFA-BAE7-53ED3D757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C3E48-1743-4EB5-9CF9-C692AC210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6BECA-687A-4F8B-B330-966C553A6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D50C6-EC32-4ABD-AAFA-235C11CFC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733E7-0A1A-40DE-B752-10BA28AFB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819A3-E35B-479A-A16A-94C44B045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86D29-513C-4806-A5A2-6D3789B5E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2C6D7-5DC6-45FB-8037-45A8ED3B6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3F9A2-CC22-4B7A-A9AC-002D38415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13A70-8F47-494B-B6D4-82D265004DB4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7E95D-F61B-429C-9B95-6712DEF7085D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iris.org.au/index.pl?page=248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aigroup.asn.au/scripts/cgiip.exe/WService=aigroup/ccms.r?Roxy=0x000a81c5&amp;PageId=962" TargetMode="External"/><Relationship Id="rId2" Type="http://schemas.openxmlformats.org/officeDocument/2006/relationships/hyperlink" Target="http://www.workplace.gov.au/workplace/Publications/LabourMarketAnalysis/" TargetMode="Externa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192320"/>
            <a:ext cx="8229600" cy="14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Research and Report on Labour Market Information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HCES502A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Look up the Key National Indicators on the ABS site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ook for labour force and demograph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ote job vacancy and Average Weekly Earnings AW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Other research sit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http://www.iris.org.au/index.pl?page=248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3366"/>
                </a:solidFill>
                <a:latin typeface="Arial"/>
              </a:rPr>
              <a:t>The Illawarra Regional Informational Servic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3366"/>
                </a:solidFill>
                <a:latin typeface="Arial"/>
              </a:rPr>
              <a:t>Google Access economics- what information od they collect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3366"/>
                </a:solidFill>
                <a:latin typeface="Arial"/>
              </a:rPr>
              <a:t>What information can you get on the aging workforce?  There are a couple of reports here to look at and Stats at the end of the paper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More sites.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3366"/>
                </a:solidFill>
                <a:latin typeface="Arial"/>
              </a:rPr>
              <a:t>Look up department of Employment and workplace Relations-Vacancy Repor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3366"/>
                </a:solidFill>
                <a:latin typeface="Arial"/>
              </a:rPr>
              <a:t>What other information is available on this site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3366"/>
                </a:solidFill>
                <a:latin typeface="Arial"/>
              </a:rPr>
              <a:t>Refer to EOWA site. What labour market information is contained here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3366"/>
                </a:solidFill>
                <a:latin typeface="Arial"/>
              </a:rPr>
              <a:t>Check out the following reports: analysis of te Labour Market2006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3366"/>
                </a:solidFill>
                <a:latin typeface="Arial"/>
              </a:rPr>
              <a:t>Reserve Bank Labour Market Report (has some good trend graphs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search lesson RAF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6DB6F-4A59-4105-9414-A2BC93269A8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For Workforce Plann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ook at published reports at Australian Industry Group 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http://www.aigroup.asn.au/scripts/cgiip.exe/WService=aigroup/ccms.r?Roxy=0x000a81c5&amp;PageId=962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  <a:hlinkClick r:id="rId2"/>
              </a:rPr>
              <a:t>http://www.workplace.gov.au/workplace/Publications/LabourMarketAnalysis/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ook at vacancy reports etc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1192320"/>
            <a:ext cx="8229600" cy="14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Manage Workforce Planning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Topic- analysing the external labour force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Best practice in workforce planning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ata is collected from a range of sourc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is available data is incorporated into workforce plannin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xternal labour market and demographic profiles and trends  are projected and incorporated into workforce plannin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nformation may be included about the number of graduates or college enrolments and registration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esearch sess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o to Australian Bureau of Statistics site (6202.0) Labour force Australia latest figur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ook up employed persons and unemployment rates , comment on the graphs for unemployment rate and employed person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Use the glossary to find…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articipation rat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Underutilised labou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Look at the explanatory notes. Explain the following terms..</a:t>
            </a:r>
            <a:br>
              <a:rPr sz="2800"/>
            </a:b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asonal adjustme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ownload notes on these </a:t>
            </a:r>
            <a:br>
              <a:rPr sz="3600"/>
            </a:b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rend analysi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y should HR professional consider trends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6666"/>
                </a:solidFill>
                <a:latin typeface="Arial"/>
              </a:rPr>
              <a:t>Comment on casualisa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at are the trends? (Look up 6150.0- Labour market Statistics Oct 2007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1T21:53:02Z</dcterms:created>
  <dc:creator>Stephen Ford</dc:creator>
  <dc:description/>
  <dc:language>en-US</dc:language>
  <cp:lastModifiedBy>rford</cp:lastModifiedBy>
  <dcterms:modified xsi:type="dcterms:W3CDTF">2008-08-14T05:07:06Z</dcterms:modified>
  <cp:revision>6</cp:revision>
  <dc:subject/>
  <dc:title>Research and Report on Labour Market Information</dc:title>
</cp:coreProperties>
</file>