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F0DE-2609-4416-83BB-504B8A891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3FD2-C56C-4E46-9C58-4E1A0D91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3CBB-1666-4851-882C-11A8F7E50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819D-7A75-4C61-8689-26E83A5E1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2D69-28D4-402A-872A-BEDEF430A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FBB7-3CB9-40CE-8F40-91CE46295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F4F2-1BAE-4064-844E-2F18359B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A259-3976-46B2-83B4-72C02B70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08DD-4650-4873-96A0-2CAF4853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E0A6-C333-413B-8014-9769CEC3E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5544-9010-4FF0-8E70-41997D3DF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7EB5-D59A-46D7-B8CD-5545D627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CDB6-65E5-4EB2-8218-54CBB02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111B-79F7-4FC9-832E-165F4F9B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3DE1-9649-45DC-9087-62D6A145A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80F3-5553-4FEF-B264-D3770777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8641-CB09-4483-ACB9-DB0DA9AF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993F-DDBF-48D9-9504-0ADDCCD7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C9FA-2E3D-47CE-BCBD-47D701E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E5F8-C9B8-4EE3-A7D0-AEF8169D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5804-F41A-4F52-A418-FA5BB6B2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539-AF18-4949-8423-9F9263DF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7026-8957-4D48-8281-FEE294F6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0BF-E367-483F-90BB-99D4BC5E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FF557-F30F-46F1-A4CD-DF228A2BE997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91E-7883-4FF7-B638-25BC89B988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is.org.au/index.pl?page=248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igroup.asn.au/scripts/cgiip.exe/WService=aigroup/ccms.r?Roxy=0x000a81c5&amp;PageId=962" TargetMode="External"/><Relationship Id="rId2" Type="http://schemas.openxmlformats.org/officeDocument/2006/relationships/hyperlink" Target="http://www.workplace.gov.au/workplace/Publications/LabourMarketAnalysis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Research and Report on Labour Market Information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HCES502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ook up the Key National Indicators on the ABS sit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for labour force and demograph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te job vacancy and Average Weekly Earnings A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ther research si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iris.org.au/index.pl?page=24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The Illawarra Regional Informational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Google Access economics- what information od they collect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information can you get on the aging workforce?  There are a couple of reports here to look at and Stats at the end of the pap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ore sites.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Look up department of Employment and workplace Relations-Vacancy Re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What other information is available on this sit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fer to EOWA site. What labour market information is contained her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heck out the following reports: analysis of te Labour Market2006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Reserve Bank Labour Market Report (has some good trend graph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search lesson RAF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E55-A0C9-4D91-81DE-657F892859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Workforce Plan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published reports at Australian Industry Group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.aigroup.asn.au/scripts/cgiip.exe/WService=aigroup/ccms.r?Roxy=0x000a81c5&amp;PageId=96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www.workplace.gov.au/workplace/Publications/LabourMarketAnalysis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at vacancy reports et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19232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Manage Workforce Plan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Topic- analysing the external labour forc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Best practice in workforce planning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ata is collected from a range of sourc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s available data is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ternal labour market and demographic profiles and trends  are projected and incorporated into workforce plan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formation may be included about the number of graduates or college enrolments and registratio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Research sess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o to Australian Bureau of Statistics site (6202.0) Labour force Australia latest fig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ok up employed persons and unemployment rates , comment on the graphs for unemployment rate and employed perso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se the glossary to find…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articipation r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derutilised labou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Look at the explanatory notes. Explain the following terms..</a:t>
            </a:r>
            <a:br>
              <a:rPr sz="2800"/>
            </a:b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sonal adjust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wnload notes on these 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rend analy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y should HR professional consider trend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6666"/>
                </a:solidFill>
                <a:latin typeface="Arial"/>
              </a:rPr>
              <a:t>Comment on casuali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trends? (Look up 6150.0- Labour market Statistics Oct 200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1:53:02Z</dcterms:created>
  <dc:creator>Stephen Ford</dc:creator>
  <dc:description/>
  <dc:language>en-US</dc:language>
  <cp:lastModifiedBy>rford</cp:lastModifiedBy>
  <dcterms:modified xsi:type="dcterms:W3CDTF">2008-08-14T05:07:06Z</dcterms:modified>
  <cp:revision>6</cp:revision>
  <dc:subject/>
  <dc:title>Research and Report on Labour Market Information</dc:title>
</cp:coreProperties>
</file>