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485-6567-41BE-A408-BFF1C3DC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4D9-12CD-4B7D-9634-71D6AC20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243-CBA7-4170-9F68-E84BDAF8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E66-CD72-4DEA-A18A-E39EC33C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6BB3-71D3-4DBC-9A15-444A88DC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5813-589E-4AE3-BEC6-3CCC7A07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3B1-0390-45DE-AEAA-C9EE696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E5AA-B745-49ED-AE4D-C88F597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00A-C06E-46DA-B2C7-1ABE7867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66F8-A8F6-4FC0-87F8-085F7E0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8D84-CBDB-47C3-991D-35344AC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A12-79C0-4484-BDF0-0935E31A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F0CA-868E-4BB9-9881-51DE4CA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397-8522-4211-A997-FD13635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E7CC-F7C6-406B-8F24-95CCEDA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8DD-E54A-4D7B-B57F-2A57953C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CC2E-B255-4875-96D4-0FA2D17E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89C-EEE4-4E3D-8A9D-D0A42DAA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B0E-C77A-4B69-91AF-0454BCCC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C48-2CF5-4A2D-A2E2-DBD984D6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172-737F-4FA5-9F19-DFF4C812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6D9-FA91-424F-9EA5-0DE8A20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8A5-C111-4C39-8B9D-65F26C7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ACA-0FC2-4327-8EFC-174B396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986D-40DB-4B7C-8D1D-79AF4B6FE5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4A2E-0475-4672-A5A5-9C0DF86151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is.org.au/index.pl?page=248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group.asn.au/scripts/cgiip.exe/WService=aigroup/ccms.r?Roxy=0x000a81c5&amp;PageId=962" TargetMode="External"/><Relationship Id="rId2" Type="http://schemas.openxmlformats.org/officeDocument/2006/relationships/hyperlink" Target="http://www.workplace.gov.au/workplace/Publications/LabourMarketAnalysi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search and Report on Labour Market Inform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CES502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up the Key National Indicators on the ABS s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labour force and de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job vacancy and Average Weekly Earnings 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research 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iris.org.au/index.pl?page=24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he Illawarra Regional Informational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oogle Access economics- what information od they collec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information can you get on the aging workforce?  There are a couple of reports here to look at and Stats at the end of the pap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sites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Look up department of Employment and workplace Relations-Vacancy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other information is available on this si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fer to EOWA site. What labour market information is contained he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heck out the following reports: analysis of te Labour Market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erve Bank Labour Market Report (has some good trend graph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arch lesson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10C-EDB0-41CE-A98D-4282FA15F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Workforc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published reports at Australian Industry Group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igroup.asn.au/scripts/cgiip.exe/WService=aigroup/ccms.r?Roxy=0x000a81c5&amp;PageId=9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workplace.gov.au/workplace/Publications/LabourMarketAnalysis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vacancy reports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e Workforce Plan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ic- analysing the external labour for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 practice in workforce plann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collected from a range of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vailable data is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labour market and demographic profiles and trends  are projected and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may be included about the number of graduates or college enrolments and regist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Australian Bureau of Statistics site (6202.0) Labour force Australia latest fig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up employed persons and unemployment rates , comment on the graphs for unemployment rate and employed pers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glossary to f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utilised lab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ok at the explanatory notes. Explain the following terms.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l adju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wnload notes on these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nd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HR professional consider tre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ment on casua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rends? (Look up 6150.0- Labour market Statistics Oct 20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53:02Z</dcterms:created>
  <dc:creator>Stephen Ford</dc:creator>
  <dc:description/>
  <dc:language>en-US</dc:language>
  <cp:lastModifiedBy>rford</cp:lastModifiedBy>
  <dcterms:modified xsi:type="dcterms:W3CDTF">2008-08-14T05:07:06Z</dcterms:modified>
  <cp:revision>6</cp:revision>
  <dc:subject/>
  <dc:title>Research and Report on Labour Market Information</dc:title>
</cp:coreProperties>
</file>