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439E43-8FDD-49EE-9CC3-F0C73D6927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B83C1-ED39-475C-84D6-59C0DC69E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BC2EF4-BFE6-4BF3-9FAD-E5309E7FF0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245E12-2BF1-4D6C-B8C2-8F1FCECF7C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AFEA6F-4750-408D-B016-211D16285B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915567-E02C-4E68-B5E9-37D9C16F0B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230ACA-0B1B-41BC-92AA-F6F6FFEA23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877398-5111-4C8B-B9EA-6BE7C76C18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F10372-F5D0-45A9-A0DE-4B668127B8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618D74-49F4-43C6-80E3-4A24BA18FA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631A74-BD44-48A1-A10D-17AF0E3B84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B1B49-06C0-416F-A26E-4F1391485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674585-F0EB-4912-AB24-F35E26B210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5B7EF0-7A9F-4B90-822F-5B72FD3849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D96ACE-2AA6-409A-A8D1-C881FA379E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167D0B-A5A4-4D6E-B34D-FED14B7F05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5E961F-434D-46A8-AC1D-8111D92B6C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E50BD-9EE8-443E-A574-5176B0A1A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7E1C4-87C9-43B0-ADE0-A3306F3BB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E29D2-5332-450B-9186-BAE96A8CB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9B5DC-B977-42C1-942B-43431662D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E7AD0-A64F-4F4D-9A1A-16F978170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97A58-9D34-4276-92DB-902F4339B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08769-CE87-47EB-825B-A4522F29D7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CFDEA-5100-4258-ABBF-EB721ED9E38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672B8-1B96-4C9F-A91F-3ABE21A9EC86}"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lawful termination</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lies to all employees in Australia</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gardless of the number of persons employed</a:t>
            </a:r>
            <a:endParaRPr b="0" lang="en-US" sz="3200" spc="-1" strike="noStrike">
              <a:solidFill>
                <a:srgbClr val="000000"/>
              </a:solidFill>
              <a:latin typeface="Tahoma"/>
            </a:endParaRPr>
          </a:p>
        </p:txBody>
      </p:sp>
      <p:sp>
        <p:nvSpPr>
          <p:cNvPr id="4" name="PlaceHolder 3"/>
          <p:cNvSpPr>
            <a:spLocks noGrp="1"/>
          </p:cNvSpPr>
          <p:nvPr>
            <p:ph type="sldNum" idx="6"/>
          </p:nvPr>
        </p:nvSpPr>
        <p:spPr/>
        <p:txBody>
          <a:bodyPr/>
          <a:p>
            <a:fld id="{66F76190-47E1-45DF-85F6-C7E0D6AA5E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Summary Dismissal Process</a:t>
            </a:r>
            <a:br>
              <a:rPr sz="4000"/>
            </a:br>
            <a:r>
              <a:rPr b="0" lang="en-US" sz="4400" spc="-1" strike="noStrike">
                <a:solidFill>
                  <a:srgbClr val="333399"/>
                </a:solidFill>
                <a:latin typeface="Tahoma"/>
              </a:rPr>
              <a:t>Best Practice</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88000"/>
          </a:bodyPr>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organisation’s responsibilities involve:</a:t>
            </a:r>
            <a:endParaRPr b="0" lang="en-US" sz="2400" spc="-1" strike="noStrike">
              <a:solidFill>
                <a:srgbClr val="000000"/>
              </a:solidFill>
              <a:latin typeface="Tahoma"/>
            </a:endParaRPr>
          </a:p>
          <a:p>
            <a:pPr marL="301680" indent="-3016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ducting a full, objective investigation into the misconduct (witnesses, statements etc)</a:t>
            </a:r>
            <a:endParaRPr b="0" lang="en-US" sz="2400" spc="-1" strike="noStrike">
              <a:solidFill>
                <a:srgbClr val="000000"/>
              </a:solidFill>
              <a:latin typeface="Tahoma"/>
            </a:endParaRPr>
          </a:p>
          <a:p>
            <a:pPr marL="301680" indent="-3016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 the employee an opportunity to answer the allegations and have an advocate present at that meeting/investigation.</a:t>
            </a:r>
            <a:endParaRPr b="0" lang="en-US" sz="2400" spc="-1" strike="noStrike">
              <a:solidFill>
                <a:srgbClr val="000000"/>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4"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employer should consider the employee’s responses and take this into consideration before taking any action, bias and pre-judging should not be evident</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ten notice of termination with the reasons for termination</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ten final payment advice.</a:t>
            </a:r>
            <a:endParaRPr b="0" lang="en-US" sz="2400" spc="-1" strike="noStrike">
              <a:solidFill>
                <a:srgbClr val="000000"/>
              </a:solidFill>
              <a:latin typeface="Tahom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sldNum" idx="3"/>
          </p:nvPr>
        </p:nvSpPr>
        <p:spPr/>
        <p:txBody>
          <a:bodyPr/>
          <a:p>
            <a:fld id="{BEAA3A24-1F8C-41D2-9011-EB42130C34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or dismissal to be deemed fair….</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sufficient , though not essential that an allegation of theft, fraud or violence be reported to the police. (with reasonable grounds for making the report)</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B4078807-5408-4621-BAD9-3F8F380FC8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fair dismissal</a:t>
            </a:r>
            <a:endParaRPr b="0" lang="en-US" sz="4400" spc="-1" strike="noStrike">
              <a:solidFill>
                <a:srgbClr val="333399"/>
              </a:solidFill>
              <a:latin typeface="Tahoma"/>
            </a:endParaRPr>
          </a:p>
        </p:txBody>
      </p:sp>
      <p:sp>
        <p:nvSpPr>
          <p:cNvPr id="12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jor changes to unfair dismissal commence July 1 2009.</a:t>
            </a:r>
            <a:endParaRPr b="0" lang="en-US" sz="28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rrent exemptions from unfair dismissal for businesses with less than 100 employees will be abolished</a:t>
            </a:r>
            <a:r>
              <a:rPr b="0" lang="en-US" sz="3200" spc="-1" strike="noStrike">
                <a:solidFill>
                  <a:srgbClr val="000000"/>
                </a:solidFill>
                <a:latin typeface="Tahoma"/>
              </a:rPr>
              <a:t> </a:t>
            </a:r>
            <a:endParaRPr b="0" lang="en-US" sz="3200" spc="-1" strike="noStrike">
              <a:solidFill>
                <a:srgbClr val="000000"/>
              </a:solidFill>
              <a:latin typeface="Tahoma"/>
            </a:endParaRPr>
          </a:p>
        </p:txBody>
      </p:sp>
      <p:sp>
        <p:nvSpPr>
          <p:cNvPr id="4" name="PlaceHolder 3"/>
          <p:cNvSpPr>
            <a:spLocks noGrp="1"/>
          </p:cNvSpPr>
          <p:nvPr>
            <p:ph type="sldNum" idx="6"/>
          </p:nvPr>
        </p:nvSpPr>
        <p:spPr/>
        <p:txBody>
          <a:bodyPr/>
          <a:p>
            <a:fld id="{D8B831EA-BA49-4F40-A60C-C9852CBDA8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fair dismissal</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 Fair Work Australia …Who do unfair dismissal laws apply to :</a:t>
            </a:r>
            <a:endParaRPr b="0" lang="en-US" sz="2800" spc="-1" strike="noStrike">
              <a:solidFill>
                <a:srgbClr val="000000"/>
              </a:solidFill>
              <a:latin typeface="Tahoma"/>
            </a:endParaRPr>
          </a:p>
        </p:txBody>
      </p:sp>
      <p:sp>
        <p:nvSpPr>
          <p:cNvPr id="131"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constitutional corporation employers in Australia with more than 15 employe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employees in Victoria, the Act and NT</a:t>
            </a:r>
            <a:endParaRPr b="0" lang="en-US" sz="2800" spc="-1" strike="noStrike">
              <a:solidFill>
                <a:srgbClr val="000000"/>
              </a:solidFill>
              <a:latin typeface="Tahoma"/>
            </a:endParaRPr>
          </a:p>
        </p:txBody>
      </p:sp>
      <p:sp>
        <p:nvSpPr>
          <p:cNvPr id="5" name="PlaceHolder 4"/>
          <p:cNvSpPr>
            <a:spLocks noGrp="1"/>
          </p:cNvSpPr>
          <p:nvPr>
            <p:ph type="sldNum" idx="3"/>
          </p:nvPr>
        </p:nvSpPr>
        <p:spPr/>
        <p:txBody>
          <a:bodyPr/>
          <a:p>
            <a:fld id="{5B8DDF96-5D99-41F0-93F5-2A0C36CE39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For first 18 months fulltime equivalent will be use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Ie all hours divided by 38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expires July 2011)</a:t>
            </a:r>
            <a:endParaRPr b="0" lang="en-US" sz="2800" spc="-1" strike="noStrike">
              <a:solidFill>
                <a:srgbClr val="000000"/>
              </a:solidFill>
              <a:latin typeface="Tahoma"/>
            </a:endParaRPr>
          </a:p>
        </p:txBody>
      </p:sp>
      <p:sp>
        <p:nvSpPr>
          <p:cNvPr id="134"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unt will eventually include casuals who have regular and systematic employment</a:t>
            </a:r>
            <a:endParaRPr b="0" lang="en-US" sz="2800" spc="-1" strike="noStrike">
              <a:solidFill>
                <a:srgbClr val="000000"/>
              </a:solidFill>
              <a:latin typeface="Tahoma"/>
            </a:endParaRPr>
          </a:p>
        </p:txBody>
      </p:sp>
      <p:sp>
        <p:nvSpPr>
          <p:cNvPr id="5" name="PlaceHolder 4"/>
          <p:cNvSpPr>
            <a:spLocks noGrp="1"/>
          </p:cNvSpPr>
          <p:nvPr>
            <p:ph type="sldNum" idx="3"/>
          </p:nvPr>
        </p:nvSpPr>
        <p:spPr/>
        <p:txBody>
          <a:bodyPr/>
          <a:p>
            <a:fld id="{281A44B1-F036-4CB7-8057-E4B87D1F31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smissal is unfair if ….</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sh , unjust or unreasonabl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 a genuine redundanc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onsistent with Fair Dismissal Code (for Small Businesses)</a:t>
            </a:r>
            <a:endParaRPr b="0" lang="en-US" sz="2800" spc="-1" strike="noStrike">
              <a:solidFill>
                <a:srgbClr val="000000"/>
              </a:solidFill>
              <a:latin typeface="Tahoma"/>
            </a:endParaRPr>
          </a:p>
        </p:txBody>
      </p:sp>
      <p:sp>
        <p:nvSpPr>
          <p:cNvPr id="137"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3"/>
          </p:nvPr>
        </p:nvSpPr>
        <p:spPr/>
        <p:txBody>
          <a:bodyPr/>
          <a:p>
            <a:fld id="{1A69A9CD-02A2-4FE2-A502-D38FD47C52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clusions based on genuine redundancies, seasonal employment and specified task employment remain.</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81B01D2C-5A38-4233-912B-FEA3A4DAAA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lso….</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there are fewer than 15 employees people can be dismissed within a 12 month qualifying period.</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5+ a 6 month qualifying period applies</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uring the qualifying period an employee is not able to claim unfair dismissal if they are terminated.</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BEBB6542-D86D-4007-87C5-7D7C9AF9EA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ote unfair dismissal provisions also cover remaining workers in NSW</a:t>
            </a:r>
            <a:endParaRPr b="0" lang="en-US" sz="4400" spc="-1" strike="noStrike">
              <a:solidFill>
                <a:srgbClr val="333399"/>
              </a:solidFill>
              <a:latin typeface="Tahoma"/>
            </a:endParaRPr>
          </a:p>
        </p:txBody>
      </p:sp>
      <p:sp>
        <p:nvSpPr>
          <p:cNvPr id="1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6"/>
          </p:nvPr>
        </p:nvSpPr>
        <p:spPr/>
        <p:txBody>
          <a:bodyPr/>
          <a:p>
            <a:fld id="{9E8BEB29-5259-4FE1-94F9-86F53D11FB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fair dismissal </a:t>
            </a:r>
            <a:endParaRPr b="0" lang="en-US" sz="4400" spc="-1" strike="noStrike">
              <a:solidFill>
                <a:srgbClr val="333399"/>
              </a:solidFill>
              <a:latin typeface="Tahoma"/>
            </a:endParaRPr>
          </a:p>
        </p:txBody>
      </p:sp>
      <p:sp>
        <p:nvSpPr>
          <p:cNvPr id="14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fair dismissals are terminations that ar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harsh unjust or unreasonabl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FA6E3934-70DE-4B9B-97EA-CCF65DCF5E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tection against unlawful termination</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der Fair Work Australia it will continue to be unlawful for an employer to terminate an employees employment on discriminatory grounds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AF4F7636-BCE3-4DF7-B819-B8F0F711B4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air Dismissal Code</a:t>
            </a:r>
            <a:endParaRPr b="0" lang="en-US" sz="4400" spc="-1" strike="noStrike">
              <a:solidFill>
                <a:srgbClr val="333399"/>
              </a:solidFill>
              <a:latin typeface="Tahoma"/>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a small business(&lt;15 employees)can demonstrate to have followed the FDC a dismissal will not be considered unfai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FDC sets out the circumstances  in which a summary dismissal is warranted. Eg fraud, theft , violenc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27EAB413-3A9E-4BA8-912F-79E0F6661E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The FDC also allows for termination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due to genuine redundancy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and</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 </a:t>
            </a:r>
            <a:r>
              <a:rPr b="0" lang="en-AU" sz="2800" spc="-1" strike="noStrike">
                <a:solidFill>
                  <a:srgbClr val="000000"/>
                </a:solidFill>
                <a:latin typeface="Tahoma"/>
              </a:rPr>
              <a:t>termination for poor performance or conduct provided the employee has been warned and given a chance to improve ie clarifying expectations, standards of work, additional training.</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BD00B09C-2BBC-4EBC-A4E0-9A48F19927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aturally</a:t>
            </a:r>
            <a:endParaRPr b="0" lang="en-US" sz="4400" spc="-1" strike="noStrike">
              <a:solidFill>
                <a:srgbClr val="333399"/>
              </a:solidFill>
              <a:latin typeface="Tahoma"/>
            </a:endParaRPr>
          </a:p>
        </p:txBody>
      </p:sp>
      <p:sp>
        <p:nvSpPr>
          <p:cNvPr id="1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a claim is brought against a small business the employer should provide evidence that they have complied with the FDC. See cod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vidence would be completed checklist , copies of written warnings etc</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BD69C753-8E3A-4378-915E-730AEB0A50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does this effect the HR department? </a:t>
            </a:r>
            <a:endParaRPr b="0" lang="en-US" sz="4400" spc="-1" strike="noStrike">
              <a:solidFill>
                <a:srgbClr val="333399"/>
              </a:solidFill>
              <a:latin typeface="Tahoma"/>
            </a:endParaRPr>
          </a:p>
        </p:txBody>
      </p:sp>
      <p:sp>
        <p:nvSpPr>
          <p:cNvPr id="15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As there substantial changes in the legislation since the commencement of Workchoices HR departments should be reviewing their policies and procedures, training staff etc in new processes/legislation (including the FDC)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2B6F6557-478F-4E5E-A78C-4DEC43F0AB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333399"/>
                </a:solidFill>
                <a:latin typeface="Tahoma"/>
              </a:rPr>
              <a:t>Performance or conduct not considered serious enough for on the spot dismissal – some considerations…….</a:t>
            </a:r>
            <a:endParaRPr b="0" lang="en-US" sz="3200" spc="-1" strike="noStrike">
              <a:solidFill>
                <a:srgbClr val="333399"/>
              </a:solidFill>
              <a:latin typeface="Tahoma"/>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ss gross, serious and/or wilful examples of misconduct or poor performance may not warrant summary dismissal</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incident of poor performance or unacceptable performance may be investigated/ document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683A5141-A0D3-4889-A037-2C5DEB7157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cedural Fairness and Natural Justice demand that the person complained of is made aware of the allegations or poor performance.</a:t>
            </a:r>
            <a:endParaRPr b="0" lang="en-US" sz="2400" spc="-1" strike="noStrike">
              <a:solidFill>
                <a:srgbClr val="000000"/>
              </a:solidFill>
              <a:latin typeface="Tahoma"/>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must have an opportunity to answer the allegations.</a:t>
            </a:r>
            <a:endParaRPr b="0" lang="en-US" sz="2400" spc="-1" strike="noStrike">
              <a:solidFill>
                <a:srgbClr val="000000"/>
              </a:solidFill>
              <a:latin typeface="Tahoma"/>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may have a support person or an advocate present with them at time of interview</a:t>
            </a:r>
            <a:endParaRPr b="0" lang="en-US" sz="2400" spc="-1" strike="noStrike">
              <a:solidFill>
                <a:srgbClr val="000000"/>
              </a:solidFill>
              <a:latin typeface="Tahoma"/>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must not be pre-judged by the decision makers.</a:t>
            </a:r>
            <a:endParaRPr b="0" lang="en-US" sz="2400" spc="-1" strike="noStrike">
              <a:solidFill>
                <a:srgbClr val="000000"/>
              </a:solidFill>
              <a:latin typeface="Tahoma"/>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jectivity, respect and consideration must be displayed at all times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B2BBAB84-B70D-4FDF-BD2D-960FA38249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warranted ‘Warnings’ flow from investigation, preferably in writing and delivered to employe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nerally 3 ‘Warnings’ are issued. The 3</a:t>
            </a:r>
            <a:r>
              <a:rPr b="0" lang="en-US" sz="2800" spc="-1" strike="noStrike" baseline="30000">
                <a:solidFill>
                  <a:srgbClr val="000000"/>
                </a:solidFill>
                <a:latin typeface="Tahoma"/>
              </a:rPr>
              <a:t>rd</a:t>
            </a:r>
            <a:r>
              <a:rPr b="0" lang="en-US" sz="2800" spc="-1" strike="noStrike">
                <a:solidFill>
                  <a:srgbClr val="000000"/>
                </a:solidFill>
                <a:latin typeface="Tahoma"/>
              </a:rPr>
              <a:t> Warning letter must state that employment is in jeopardy if there are further examples of unacceptable performance etc.</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2E5DA1C6-DF01-43DC-B242-75C271A838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rning letters must describe the unacceptable performance etc, the standards expected, the support offered and time to rectify issu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 written letter of dismissal with reasons for dismissal must be provide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final payments must be made upon termination with a written advice as to make-up of payment.</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7DC53B3D-6E82-416F-AD64-67149F61D5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cess when lodging claim</a:t>
            </a:r>
            <a:endParaRPr b="0" lang="en-US" sz="4400" spc="-1" strike="noStrike">
              <a:solidFill>
                <a:srgbClr val="333399"/>
              </a:solidFill>
              <a:latin typeface="Tahoma"/>
            </a:endParaRPr>
          </a:p>
        </p:txBody>
      </p:sp>
      <p:sp>
        <p:nvSpPr>
          <p:cNvPr id="1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ee lodges claim within 14 day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there are disputed facts Fair Work Australia will hold a conference to try and mediate a solution.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earing may be held.</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wyers or paid agents will only be allowed to represent employee in event of efficiency or fairness issues. (allowed if union/ employer lawyer or agent)</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85844BF1-875F-4516-A2BD-1701BF41A2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medies for unfair dismissal</a:t>
            </a:r>
            <a:endParaRPr b="0" lang="en-US" sz="4400" spc="-1" strike="noStrike">
              <a:solidFill>
                <a:srgbClr val="333399"/>
              </a:solidFill>
              <a:latin typeface="Tahoma"/>
            </a:endParaRPr>
          </a:p>
        </p:txBody>
      </p:sp>
      <p:sp>
        <p:nvSpPr>
          <p:cNvPr id="1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dismissal found to be unfair then the Fair Work Authority can order:</a:t>
            </a:r>
            <a:endParaRPr b="0" lang="en-US" sz="2800" spc="-1" strike="noStrike">
              <a:solidFill>
                <a:srgbClr val="000000"/>
              </a:solidFill>
              <a:latin typeface="Tahoma"/>
            </a:endParaRPr>
          </a:p>
          <a:p>
            <a:pPr marL="322200" indent="-3222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instatement to former position or one no less favourable</a:t>
            </a:r>
            <a:endParaRPr b="0" lang="en-US" sz="2800" spc="-1" strike="noStrike">
              <a:solidFill>
                <a:srgbClr val="000000"/>
              </a:solidFill>
              <a:latin typeface="Tahoma"/>
            </a:endParaRPr>
          </a:p>
          <a:p>
            <a:pPr marL="322200" indent="-3222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uity of employment(continuous service)</a:t>
            </a:r>
            <a:endParaRPr b="0" lang="en-US" sz="2800" spc="-1" strike="noStrike">
              <a:solidFill>
                <a:srgbClr val="000000"/>
              </a:solidFill>
              <a:latin typeface="Tahoma"/>
            </a:endParaRPr>
          </a:p>
          <a:p>
            <a:pPr marL="322200" indent="-3222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ensation for lost pay (capped at 6 months pay)</a:t>
            </a:r>
            <a:endParaRPr b="0" lang="en-US" sz="2800" spc="-1" strike="noStrike">
              <a:solidFill>
                <a:srgbClr val="000000"/>
              </a:solidFill>
              <a:latin typeface="Tahoma"/>
            </a:endParaRPr>
          </a:p>
          <a:p>
            <a:pPr marL="322200" indent="-32220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ompensation if reinstatement is not possible</a:t>
            </a:r>
            <a:endParaRPr b="0" lang="en-US" sz="2800" spc="-1" strike="noStrike">
              <a:solidFill>
                <a:srgbClr val="000000"/>
              </a:solidFill>
              <a:latin typeface="Tahoma"/>
            </a:endParaRPr>
          </a:p>
          <a:p>
            <a:pPr marL="322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84CF92EB-5483-4A02-9FBD-29A773D36C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en can’t I dismiss an employee?</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not dismiss an employee based on a range of factors, including: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ac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lou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x</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xual preference</a:t>
            </a:r>
            <a:endParaRPr b="0" lang="en-US" sz="2800" spc="-1" strike="noStrike">
              <a:solidFill>
                <a:srgbClr val="000000"/>
              </a:solidFill>
              <a:latin typeface="Tahoma"/>
            </a:endParaRPr>
          </a:p>
        </p:txBody>
      </p:sp>
      <p:sp>
        <p:nvSpPr>
          <p:cNvPr id="105"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hysical or mental disability</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rital statu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g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thnicity</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ligio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mily responsibilitie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litical opinion</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sldNum" idx="3"/>
          </p:nvPr>
        </p:nvSpPr>
        <p:spPr/>
        <p:txBody>
          <a:bodyPr/>
          <a:p>
            <a:fld id="{6EECAFCF-77EB-4EFC-BE3F-BE54EAB5BD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Injured Employees</a:t>
            </a:r>
            <a:br>
              <a:rPr sz="4400"/>
            </a:b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9000"/>
          </a:bodyPr>
          <a:p>
            <a:pPr marL="3052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employer cannot dismiss an injured worker within six months of the occurrence of a work- related injury or illness for reasons associated with the injury.</a:t>
            </a:r>
            <a:endParaRPr b="0" lang="en-US" sz="2800" spc="-1" strike="noStrike">
              <a:solidFill>
                <a:srgbClr val="000000"/>
              </a:solidFill>
              <a:latin typeface="Tahoma"/>
            </a:endParaRPr>
          </a:p>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missal for other reasons within the six months following an injury can occur but if disputed by the employee, the employer must prove that the reason for dismissal is not injury related.</a:t>
            </a:r>
            <a:endParaRPr b="0" lang="en-US" sz="2800" spc="-1" strike="noStrike">
              <a:solidFill>
                <a:srgbClr val="000000"/>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974E1308-5E58-40ED-A325-7E2B38F2DB9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an employee is dismissed after six months from the date of injury the employee can claim reinstatement within two years of the dismissal. </a:t>
            </a:r>
            <a:endParaRPr b="0" lang="en-US" sz="2800" spc="-1" strike="noStrike">
              <a:solidFill>
                <a:srgbClr val="000000"/>
              </a:solidFill>
              <a:latin typeface="Tahoma"/>
            </a:endParaRPr>
          </a:p>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dical evidence must be supplied to terminate the employee and medical evidence must be supplied upon request for reinstatement that the injured worker is now fit for duty. Always make decisions based on medical evidence in these cases. </a:t>
            </a:r>
            <a:endParaRPr b="0" lang="en-US" sz="2800" spc="-1" strike="noStrike">
              <a:solidFill>
                <a:srgbClr val="000000"/>
              </a:solidFill>
              <a:latin typeface="Tahoma"/>
            </a:endParaRPr>
          </a:p>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r opinion, hearsay, etc are no substitute for professional opinion.</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27514CAB-7610-4AC4-AD04-AB40641E7D00}"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d /or because he or she …</a:t>
            </a: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emporarily absent from work because of illness or injury</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a member of a union</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ticipates in union activities outside working hours or with your consent within working hours</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s taken or wants to take parental leave</a:t>
            </a:r>
            <a:endParaRPr b="0" lang="en-US" sz="2400" spc="-1" strike="noStrike">
              <a:solidFill>
                <a:srgbClr val="000000"/>
              </a:solidFill>
              <a:latin typeface="Tahoma"/>
            </a:endParaRPr>
          </a:p>
        </p:txBody>
      </p:sp>
      <p:sp>
        <p:nvSpPr>
          <p:cNvPr id="108"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es or does not want to be a member of a union</a:t>
            </a:r>
            <a:endParaRPr b="0" lang="en-US" sz="2400" spc="-1" strike="noStrike">
              <a:solidFill>
                <a:srgbClr val="000000"/>
              </a:solidFill>
              <a:latin typeface="Tahoma"/>
            </a:endParaRPr>
          </a:p>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seeking election or is elected rep of employees</a:t>
            </a:r>
            <a:endParaRPr b="0" lang="en-US" sz="2400" spc="-1" strike="noStrike">
              <a:solidFill>
                <a:srgbClr val="000000"/>
              </a:solidFill>
              <a:latin typeface="Tahoma"/>
            </a:endParaRPr>
          </a:p>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s filed a complaint against you or another employer about non compliance with any laws or regulations</a:t>
            </a:r>
            <a:endParaRPr b="0" lang="en-US" sz="2400" spc="-1" strike="noStrike">
              <a:solidFill>
                <a:srgbClr val="000000"/>
              </a:solidFill>
              <a:latin typeface="Tahoma"/>
            </a:endParaRPr>
          </a:p>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s participated in legal proceedings against you or another employer</a:t>
            </a:r>
            <a:endParaRPr b="0" lang="en-US" sz="2400" spc="-1" strike="noStrike">
              <a:solidFill>
                <a:srgbClr val="000000"/>
              </a:solidFill>
              <a:latin typeface="Tahoma"/>
            </a:endParaRPr>
          </a:p>
        </p:txBody>
      </p:sp>
      <p:sp>
        <p:nvSpPr>
          <p:cNvPr id="5" name="PlaceHolder 4"/>
          <p:cNvSpPr>
            <a:spLocks noGrp="1"/>
          </p:cNvSpPr>
          <p:nvPr>
            <p:ph type="sldNum" idx="3"/>
          </p:nvPr>
        </p:nvSpPr>
        <p:spPr/>
        <p:txBody>
          <a:bodyPr/>
          <a:p>
            <a:fld id="{4C55AA3C-FB61-4DD7-81B3-CDA3413A85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r because….</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sence from work during maternity leave or other parental leave</a:t>
            </a:r>
            <a:endParaRPr b="0" lang="en-US" sz="2800" spc="-1" strike="noStrike">
              <a:solidFill>
                <a:srgbClr val="000000"/>
              </a:solidFill>
              <a:latin typeface="Tahoma"/>
            </a:endParaRPr>
          </a:p>
        </p:txBody>
      </p:sp>
      <p:sp>
        <p:nvSpPr>
          <p:cNvPr id="111"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mporary absence from work because of carrying out of a voluntary emergency management activity where the absence is reasonable having regard to all circumstances</a:t>
            </a:r>
            <a:endParaRPr b="0" lang="en-US" sz="2800" spc="-1" strike="noStrike">
              <a:solidFill>
                <a:srgbClr val="000000"/>
              </a:solidFill>
              <a:latin typeface="Tahoma"/>
            </a:endParaRPr>
          </a:p>
        </p:txBody>
      </p:sp>
      <p:sp>
        <p:nvSpPr>
          <p:cNvPr id="5" name="PlaceHolder 4"/>
          <p:cNvSpPr>
            <a:spLocks noGrp="1"/>
          </p:cNvSpPr>
          <p:nvPr>
            <p:ph type="sldNum" idx="3"/>
          </p:nvPr>
        </p:nvSpPr>
        <p:spPr/>
        <p:txBody>
          <a:bodyPr/>
          <a:p>
            <a:fld id="{36726026-7700-45BF-B38C-9DF7A14839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an employee is over 45 years old and has completed at least 2 years of continuous employment – the required period of notice must be increased by 1 week</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EDE5D11B-5D56-4DB4-B85E-957CB55434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ummary Dismissal</a:t>
            </a:r>
            <a:br>
              <a:rPr sz="3200"/>
            </a:br>
            <a:r>
              <a:rPr b="0" lang="en-US" sz="3200" spc="-1" strike="noStrike">
                <a:solidFill>
                  <a:srgbClr val="333399"/>
                </a:solidFill>
                <a:latin typeface="Tahoma"/>
              </a:rPr>
              <a:t>(</a:t>
            </a:r>
            <a:r>
              <a:rPr b="1" lang="en-US" sz="3200" spc="-1" strike="noStrike">
                <a:solidFill>
                  <a:srgbClr val="333399"/>
                </a:solidFill>
                <a:latin typeface="Tahoma"/>
              </a:rPr>
              <a:t>dismissal without notice)</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mmary dismissal is generally used only when an employees conduct is characterised as being gross, serious and wilful misconduct. This conduct must really evidence an intention by the employee not to be bound by the contract of employment any longer.</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22CDA1BC-17A9-4A31-9292-5FC1E9CEDD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ommon reasons that are used for summary dismissal include:</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uct that threatens someone’s health &amp; safety</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8"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uct that threatens the organisations reputation, viability or profitability.</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sldNum" idx="3"/>
          </p:nvPr>
        </p:nvSpPr>
        <p:spPr/>
        <p:txBody>
          <a:bodyPr/>
          <a:p>
            <a:fld id="{0D3C9FDB-EF6C-4E1C-BC88-887D6673DC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amples might be …..</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oss insubordination</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busive language</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atening behaviour</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olence</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scenity</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xual harassment</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eeping on the job</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oss dishonesty</a:t>
            </a: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1"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runkenness or drug taking</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rious and wilful disobedienc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rious incompetence or neglect of du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rious breach of confidentiality or good faith</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iminal offence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sldNum" idx="3"/>
          </p:nvPr>
        </p:nvSpPr>
        <p:spPr/>
        <p:txBody>
          <a:bodyPr/>
          <a:p>
            <a:fld id="{9FE1734F-4C90-4E8E-AABE-4043A34CF8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4T19:13:42Z</dcterms:created>
  <dc:creator>The Fords</dc:creator>
  <dc:description/>
  <dc:language>en-US</dc:language>
  <cp:lastModifiedBy>rford</cp:lastModifiedBy>
  <dcterms:modified xsi:type="dcterms:W3CDTF">2009-10-28T05:45:36Z</dcterms:modified>
  <cp:revision>13</cp:revision>
  <dc:subject/>
  <dc:title>Unlawful termination</dc:title>
</cp:coreProperties>
</file>