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6C87C-15BC-4385-A5B5-AEF9DBC50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02106-43DD-4D87-B44C-6691733B38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CF2CF7-247B-4E8B-9105-00685DBE8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AB3B48-6478-440D-BE32-C23395B34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327B92-F039-4AE9-8B76-FFA3C7AAEB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FC76DF-01D8-4C1D-9E36-CF66A1AC0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1649D-EA71-4FA4-95C2-404235941C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543FA-1210-4584-B269-2E72D3FA7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D24A01-7251-4CE6-88D2-6DD176D6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AFB87-E53C-47EA-9AA3-F9C4E5F761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A0598-AECF-4AAE-8098-A3D094CD52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682BE-9A8B-4258-B428-9AC2D7D0B7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1C56C8-FF96-4AFC-843D-8E806A6FA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46F26-8CB9-417D-B7C0-9B359C6F5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D2BD0-D417-4F36-8F63-7F22CE4D03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B616FE-75D7-417E-A114-8A4BE017C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00FBB4-7732-48B4-9340-8ED633EC7B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3967-08FF-4B4A-8603-4A47DBAD2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6094D-8A1F-4087-8931-B9747E0D3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88056-A21C-4669-888E-9BF036315D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BD6E-37D6-4E39-9508-DD3944767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A6CCD-CA01-4CED-A16A-9302106C6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E6CDD-75F9-4622-B5CD-8F2D4D14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2C62C-C3E2-4F8A-926C-A7201C7EF3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83C49-2E3D-4FD2-849A-31E77AD8946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1A372-0C91-422E-90CF-89D2D3EFC00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lawful termination</a:t>
            </a:r>
            <a:endParaRPr b="0" lang="en-US" sz="4400" spc="-1" strike="noStrike">
              <a:solidFill>
                <a:srgbClr val="333399"/>
              </a:solidFill>
              <a:latin typeface="Tahoma"/>
            </a:endParaRPr>
          </a:p>
        </p:txBody>
      </p:sp>
      <p:sp>
        <p:nvSpPr>
          <p:cNvPr id="10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plies to all employees in Australia</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gardless of the number of persons employed</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2FA53870-3752-4A95-AA22-641015437B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Summary Dismissal Process</a:t>
            </a:r>
            <a:br>
              <a:rPr sz="4000"/>
            </a:br>
            <a:r>
              <a:rPr b="0" lang="en-US" sz="4400" spc="-1" strike="noStrike">
                <a:solidFill>
                  <a:srgbClr val="333399"/>
                </a:solidFill>
                <a:latin typeface="Tahoma"/>
              </a:rPr>
              <a:t>Best Practice</a:t>
            </a:r>
            <a:endParaRPr b="0" lang="en-US" sz="4400" spc="-1" strike="noStrike">
              <a:solidFill>
                <a:srgbClr val="333399"/>
              </a:solidFill>
              <a:latin typeface="Tahoma"/>
            </a:endParaRPr>
          </a:p>
        </p:txBody>
      </p:sp>
      <p:sp>
        <p:nvSpPr>
          <p:cNvPr id="12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organisation’s responsibilities involve:</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ing a full, objective investigation into the misconduct (witnesses, statements etc)</a:t>
            </a:r>
            <a:endParaRPr b="0" lang="en-US" sz="2400" spc="-1" strike="noStrike">
              <a:solidFill>
                <a:srgbClr val="000000"/>
              </a:solidFill>
              <a:latin typeface="Tahoma"/>
            </a:endParaRPr>
          </a:p>
          <a:p>
            <a:pPr marL="301680" indent="-3016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ive the employee an opportunity to answer the allegations and have an advocate present at that meeting/investigation.</a:t>
            </a:r>
            <a:endParaRPr b="0" lang="en-US" sz="2400" spc="-1" strike="noStrike">
              <a:solidFill>
                <a:srgbClr val="000000"/>
              </a:solidFill>
              <a:latin typeface="Tahoma"/>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0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employer should consider the employee’s responses and take this into consideration before taking any action, bias and pre-judging should not be evident</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notice of termination with the reasons for termination</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ritten final payment advice.</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5947185A-8C5A-43CD-88A6-859274B93FF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or dismissal to be deemed fair….</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t is sufficient , though not essential that an allegation of theft, fraud or violence be reported to the police. (with reasonable grounds for making the repor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C426F0F-EE35-4446-9BAD-C10DFD4AE6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2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jor changes to unfair dismissal commence July 1 2009.</a:t>
            </a:r>
            <a:endParaRPr b="0" lang="en-US" sz="28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exemptions from unfair dismissal for businesses with less than 100 employees will be abolished</a:t>
            </a: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78818F52-B145-445F-8E42-CA5DE3E555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der Fair Work Australia …Who do unfair dismissal laws apply to :</a:t>
            </a:r>
            <a:endParaRPr b="0" lang="en-US" sz="2800" spc="-1" strike="noStrike">
              <a:solidFill>
                <a:srgbClr val="000000"/>
              </a:solidFill>
              <a:latin typeface="Tahoma"/>
            </a:endParaRPr>
          </a:p>
        </p:txBody>
      </p:sp>
      <p:sp>
        <p:nvSpPr>
          <p:cNvPr id="13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constitutional corporation employers in Australia with more than 15 employe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employees in Victoria, the Act and 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C29CF0E4-A04D-448D-BFE0-6CD365EC8C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or first 18 months fulltime equivalent will be us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Ie all hours divided by 38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ires July 2011)</a:t>
            </a:r>
            <a:endParaRPr b="0" lang="en-US" sz="2800" spc="-1" strike="noStrike">
              <a:solidFill>
                <a:srgbClr val="000000"/>
              </a:solidFill>
              <a:latin typeface="Tahoma"/>
            </a:endParaRPr>
          </a:p>
        </p:txBody>
      </p:sp>
      <p:sp>
        <p:nvSpPr>
          <p:cNvPr id="134"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unt will eventually include casuals who have regular and systematic employment</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6F59957A-735A-495A-9C68-0E5AC664EB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Dismissal is unfair if ….</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arsh , unjust or unreasonabl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t a genuine redundancy</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onsistent with Fair Dismissal Code (for Small Businesses)</a:t>
            </a:r>
            <a:endParaRPr b="0" lang="en-US" sz="2800" spc="-1" strike="noStrike">
              <a:solidFill>
                <a:srgbClr val="000000"/>
              </a:solidFill>
              <a:latin typeface="Tahoma"/>
            </a:endParaRPr>
          </a:p>
        </p:txBody>
      </p:sp>
      <p:sp>
        <p:nvSpPr>
          <p:cNvPr id="137"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3"/>
          </p:nvPr>
        </p:nvSpPr>
        <p:spPr/>
        <p:txBody>
          <a:bodyPr/>
          <a:p>
            <a:fld id="{A0E53781-F3F1-442D-B773-3D1D40A6F9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clusions based on genuine redundancies, seasonal employment and specified task employment remai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6E6E357-2668-4489-A327-6D24E62B63C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lso….</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re there are fewer than 15 employees people can be dismissed within a 12 month qualifying perio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5+ a 6 month qualifying period applie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uring the qualifying period an employee is not able to claim unfair dismissal if they are terminated.</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5707E96B-F852-4140-8582-535CC67901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ote unfair dismissal provisions also cover remaining workers in NSW</a:t>
            </a:r>
            <a:endParaRPr b="0" lang="en-US" sz="4400" spc="-1" strike="noStrike">
              <a:solidFill>
                <a:srgbClr val="333399"/>
              </a:solidFill>
              <a:latin typeface="Tahoma"/>
            </a:endParaRPr>
          </a:p>
        </p:txBody>
      </p:sp>
      <p:sp>
        <p:nvSpPr>
          <p:cNvPr id="1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6"/>
          </p:nvPr>
        </p:nvSpPr>
        <p:spPr/>
        <p:txBody>
          <a:bodyPr/>
          <a:p>
            <a:fld id="{06B779BF-60A1-434D-8E11-5F45B93AF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nfair dismissal </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fair dismissals are terminations that are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en-US" sz="3200" spc="-1" strike="noStrike">
                <a:solidFill>
                  <a:srgbClr val="000000"/>
                </a:solidFill>
                <a:latin typeface="Tahoma"/>
              </a:rPr>
              <a:t>harsh unjust or unreasonabl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5A39284-C18E-4232-98DE-C6BF7ECC68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tection against unlawful termination</a:t>
            </a: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nder Fair Work Australia it will continue to be unlawful for an employer to terminate an employees employment on discriminatory grounds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CA2BB45-4961-4C72-9F24-16749DE8DFD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air Dismissal Code</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small business(&lt;15 employees)can demonstrate to have followed the FDC a dismissal will not be considered unfai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FDC sets out the circumstances  in which a summary dismissal is warranted. Eg fraud, theft , violenc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C38FD156-FEB4-4E44-AA9B-D9A3FF917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he FDC also allows for termina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ue to genuine redundancy </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and</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termination for poor performance or conduct provided the employee has been warned and given a chance to improve ie clarifying expectations, standards of work, additional training.</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26983563-F353-4633-AAFB-8644A50416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Naturally</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 claim is brought against a small business the employer should provide evidence that they have complied with the FDC. See cod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vidence would be completed checklist , copies of written warnings etc</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441F5A0-ECDB-4B68-B56B-5AB73D739C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How does this effect the HR department? </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s there substantial changes in the legislation since the commencement of Workchoices HR departments should be reviewing their policies and procedures, training staff etc in new processes/legislation (including the FDC)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6EA212A6-59E4-41A2-A3E9-6BF4909595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99"/>
                </a:solidFill>
                <a:latin typeface="Tahoma"/>
              </a:rPr>
              <a:t>Performance or conduct not considered serious enough for on the spot dismissal – some considerations…….</a:t>
            </a: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ss gross, serious and/or wilful examples of misconduct or poor performance may not warrant summary dismissal</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ach incident of poor performance or unacceptable performance may be investigated/ documented</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F45FD4D9-9B43-481E-85DA-C50D4163AE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dural Fairness and Natural Justice demand that the person complained of is made aware of the allegations or poor performance.</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have an opportunity to answer the allegation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ay have a support person or an advocate present with them at time of interview</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y must not be pre-judged by the decision makers.</a:t>
            </a:r>
            <a:endParaRPr b="0" lang="en-US" sz="2400" spc="-1" strike="noStrike">
              <a:solidFill>
                <a:srgbClr val="000000"/>
              </a:solidFill>
              <a:latin typeface="Tahoma"/>
            </a:endParaRPr>
          </a:p>
          <a:p>
            <a:pPr marL="322200" indent="-32220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ity, respect and consideration must be displayed at all times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B4250E2-1E16-406B-A2EF-5B415348BE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en warranted ‘Warnings’ flow from investigation, preferably in writing and delivered to employe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erally 3 ‘Warnings’ are issued. The 3</a:t>
            </a:r>
            <a:r>
              <a:rPr b="0" lang="en-US" sz="2800" spc="-1" strike="noStrike" baseline="30000">
                <a:solidFill>
                  <a:srgbClr val="000000"/>
                </a:solidFill>
                <a:latin typeface="Tahoma"/>
              </a:rPr>
              <a:t>rd</a:t>
            </a:r>
            <a:r>
              <a:rPr b="0" lang="en-US" sz="2800" spc="-1" strike="noStrike">
                <a:solidFill>
                  <a:srgbClr val="000000"/>
                </a:solidFill>
                <a:latin typeface="Tahoma"/>
              </a:rPr>
              <a:t> Warning letter must state that employment is in jeopardy if there are further examples of unacceptable performance et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40AA3DB-E125-4AB1-87CE-F0891C9F7D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arning letters must describe the unacceptable performance etc, the standards expected, the support offered and time to rectify issues.</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A written letter of dismissal with reasons for dismissal must be provided.</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ll final payments must be made upon termination with a written advice as to make-up of paym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CFC8543F-13B5-4FF5-87BE-D40679DB1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rocess when lodging claim</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mployee lodges claim within 14 day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there are disputed facts Fair Work Australia will hold a conference to try and mediate a solution.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earing may be hel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wyers or paid agents will only be allowed to represent employee in event of efficiency or fairness issues. (allowed if union/ employer lawyer or agent)</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14C49AD-1E13-42F5-BEBE-5C72EB60460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medies for unfair dismissal</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dismissal found to be unfair then the Fair Work Authority can order:</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instatement to former position or one no less favourabl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tinuity of employment(continuous service)</a:t>
            </a:r>
            <a:endParaRPr b="0" lang="en-US" sz="2800" spc="-1" strike="noStrike">
              <a:solidFill>
                <a:srgbClr val="000000"/>
              </a:solidFill>
              <a:latin typeface="Tahoma"/>
            </a:endParaRPr>
          </a:p>
          <a:p>
            <a:pPr marL="322200" indent="-3222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ensation for lost pay (capped at 6 months pay)</a:t>
            </a:r>
            <a:endParaRPr b="0" lang="en-US" sz="2800" spc="-1" strike="noStrike">
              <a:solidFill>
                <a:srgbClr val="000000"/>
              </a:solidFill>
              <a:latin typeface="Tahoma"/>
            </a:endParaRPr>
          </a:p>
          <a:p>
            <a:pPr marL="322200" indent="-322200" algn="just">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ompensation if reinstatement is not possible</a:t>
            </a:r>
            <a:endParaRPr b="0" lang="en-US" sz="2800" spc="-1" strike="noStrike">
              <a:solidFill>
                <a:srgbClr val="000000"/>
              </a:solidFill>
              <a:latin typeface="Tahoma"/>
            </a:endParaRPr>
          </a:p>
          <a:p>
            <a:pPr marL="322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80A1DB9-696D-436A-844A-A795A969DF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When can’t I dismiss an employee?</a:t>
            </a:r>
            <a:endParaRPr b="0" lang="en-US" sz="4400" spc="-1" strike="noStrike">
              <a:solidFill>
                <a:srgbClr val="333399"/>
              </a:solidFill>
              <a:latin typeface="Tahoma"/>
            </a:endParaRPr>
          </a:p>
        </p:txBody>
      </p:sp>
      <p:sp>
        <p:nvSpPr>
          <p:cNvPr id="104"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 cannot dismiss an employee based on a range of factors, including: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c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lou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xual preference</a:t>
            </a:r>
            <a:endParaRPr b="0" lang="en-US" sz="2800" spc="-1" strike="noStrike">
              <a:solidFill>
                <a:srgbClr val="000000"/>
              </a:solidFill>
              <a:latin typeface="Tahoma"/>
            </a:endParaRPr>
          </a:p>
        </p:txBody>
      </p:sp>
      <p:sp>
        <p:nvSpPr>
          <p:cNvPr id="105"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hysical or mental disabil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rital statu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thnicity</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ligion</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amily responsibilitie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litical opinion</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E4826FA3-A23F-4C72-884B-08021FD28A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Injured Employees</a:t>
            </a:r>
            <a:br>
              <a:rPr sz="4400"/>
            </a:b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9000"/>
          </a:bodyPr>
          <a:p>
            <a:pPr marL="3052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n employer cannot dismiss an injured worker within six months of the occurrence of a work- related injury or illness for reasons associated with the injury.</a:t>
            </a:r>
            <a:endParaRPr b="0" lang="en-US" sz="2800" spc="-1" strike="noStrike">
              <a:solidFill>
                <a:srgbClr val="000000"/>
              </a:solidFill>
              <a:latin typeface="Tahoma"/>
            </a:endParaRPr>
          </a:p>
          <a:p>
            <a:pPr marL="305280" indent="-3052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missal for other reasons within the six months following an injury can occur but if disputed by the employee, the employer must prove that the reason for dismissal is not injury related.</a:t>
            </a:r>
            <a:endParaRPr b="0" lang="en-US" sz="2800" spc="-1" strike="noStrike">
              <a:solidFill>
                <a:srgbClr val="000000"/>
              </a:solidFill>
              <a:latin typeface="Tahoma"/>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0F011E2A-72B7-4EEE-AF88-472982360B4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f an employee is dismissed after six months from the date of injury the employee can claim reinstatement within two years of the dismissal.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cal evidence must be supplied to terminate the employee and medical evidence must be supplied upon request for reinstatement that the injured worker is now fit for duty. Always make decisions based on medical evidence in these cases. </a:t>
            </a:r>
            <a:endParaRPr b="0" lang="en-US" sz="2800" spc="-1" strike="noStrike">
              <a:solidFill>
                <a:srgbClr val="000000"/>
              </a:solidFill>
              <a:latin typeface="Tahoma"/>
            </a:endParaRPr>
          </a:p>
          <a:p>
            <a:pPr marL="308520" indent="-30852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our opinion, hearsay, etc are no substitute for professional opinion.</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D14AE71-1A39-40FD-9527-E7AA53792A3E}"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d /or because he or she …</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temporarily absent from work because of illness or injury</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a member of a union</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articipates in union activities outside working hours or with your consent within working hours</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taken or wants to take parental leave</a:t>
            </a:r>
            <a:endParaRPr b="0" lang="en-US" sz="2400" spc="-1" strike="noStrike">
              <a:solidFill>
                <a:srgbClr val="000000"/>
              </a:solidFill>
              <a:latin typeface="Tahoma"/>
            </a:endParaRPr>
          </a:p>
        </p:txBody>
      </p:sp>
      <p:sp>
        <p:nvSpPr>
          <p:cNvPr id="10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es or does not want to be a member of a union</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s seeking election or is elected rep of employee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filed a complaint against you or another employer about non compliance with any laws or regulations</a:t>
            </a:r>
            <a:endParaRPr b="0" lang="en-US" sz="2400" spc="-1" strike="noStrike">
              <a:solidFill>
                <a:srgbClr val="000000"/>
              </a:solidFill>
              <a:latin typeface="Tahoma"/>
            </a:endParaRPr>
          </a:p>
          <a:p>
            <a:pPr marL="312120" indent="-31212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s participated in legal proceedings against you or another employer</a:t>
            </a: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725E58B8-C94E-482D-8BA5-3F665D364A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Or becaus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bsence from work during maternity leave or other parental leave</a:t>
            </a:r>
            <a:endParaRPr b="0" lang="en-US" sz="2800" spc="-1" strike="noStrike">
              <a:solidFill>
                <a:srgbClr val="000000"/>
              </a:solidFill>
              <a:latin typeface="Tahoma"/>
            </a:endParaRPr>
          </a:p>
        </p:txBody>
      </p:sp>
      <p:sp>
        <p:nvSpPr>
          <p:cNvPr id="11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mporary absence from work because of carrying out of a voluntary emergency management activity where the absence is reasonable having regard to all circumstances</a:t>
            </a: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175EF44C-07F9-4D87-A914-99108008FE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n employee is over 45 years old and has completed at least 2 years of continuous employment – the required period of notice must be increased by 1 week</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78DDA29-E12C-47EF-A191-BF7CB0672B5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Summary Dismissal</a:t>
            </a:r>
            <a:br>
              <a:rPr sz="3200"/>
            </a:br>
            <a:r>
              <a:rPr b="0" lang="en-US" sz="3200" spc="-1" strike="noStrike">
                <a:solidFill>
                  <a:srgbClr val="333399"/>
                </a:solidFill>
                <a:latin typeface="Tahoma"/>
              </a:rPr>
              <a:t>(</a:t>
            </a:r>
            <a:r>
              <a:rPr b="1" lang="en-US" sz="3200" spc="-1" strike="noStrike">
                <a:solidFill>
                  <a:srgbClr val="333399"/>
                </a:solidFill>
                <a:latin typeface="Tahoma"/>
              </a:rPr>
              <a:t>dismissal without notic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mmary dismissal is generally used only when an employees conduct is characterised as being gross, serious and wilful misconduct. This conduct must really evidence an intention by the employee not to be bound by the contract of employment any longer.</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16D2987-E407-4C55-9051-252494B005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Common reasons that are used for summary dismissal include:</a:t>
            </a:r>
            <a:r>
              <a:rPr b="0" lang="en-US" sz="4400" spc="-1" strike="noStrike">
                <a:solidFill>
                  <a:srgbClr val="333399"/>
                </a:solidFill>
                <a:latin typeface="Tahoma"/>
              </a:rPr>
              <a:t>	</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someone’s health &amp; safe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8"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duct that threatens the organisations reputation, viability or profitabil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sldNum" idx="3"/>
          </p:nvPr>
        </p:nvSpPr>
        <p:spPr/>
        <p:txBody>
          <a:bodyPr/>
          <a:p>
            <a:fld id="{1D416E97-D68F-438A-9E64-38B97843A0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xamples might be …..</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insubordination</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busive languag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tening behaviour</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iolence</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scenity</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xual harassment</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leeping on the job</a:t>
            </a:r>
            <a:endParaRPr b="0" lang="en-US" sz="2400" spc="-1" strike="noStrike">
              <a:solidFill>
                <a:srgbClr val="000000"/>
              </a:solidFill>
              <a:latin typeface="Tahoma"/>
            </a:endParaRPr>
          </a:p>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ross dishonesty</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1"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runkenness or drug tak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and wilful disobedi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incompetence or neglect of duty</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ious breach of confidentiality or good faith</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riminal offenc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PlaceHolder 4"/>
          <p:cNvSpPr>
            <a:spLocks noGrp="1"/>
          </p:cNvSpPr>
          <p:nvPr>
            <p:ph type="sldNum" idx="3"/>
          </p:nvPr>
        </p:nvSpPr>
        <p:spPr/>
        <p:txBody>
          <a:bodyPr/>
          <a:p>
            <a:fld id="{4D2C4005-95C6-413F-AB83-01EE232B42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4T19:13:42Z</dcterms:created>
  <dc:creator>The Fords</dc:creator>
  <dc:description/>
  <dc:language>en-US</dc:language>
  <cp:lastModifiedBy>rford</cp:lastModifiedBy>
  <dcterms:modified xsi:type="dcterms:W3CDTF">2009-10-28T05:45:36Z</dcterms:modified>
  <cp:revision>13</cp:revision>
  <dc:subject/>
  <dc:title>Unlawful termination</dc:title>
</cp:coreProperties>
</file>