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7F1-A0DD-4B09-BBC6-2A1E435D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D2A4-52A7-40E6-AA40-6DAD4C32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9B5A-DFCF-4825-8D81-9CA8A359C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3F42-872F-400D-BD31-3DEC24E46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EDC3-552D-4BF8-957A-B4FE16E8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28EC3-C3AC-4D56-88A6-5A523504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5690-FB40-4FF4-B11F-C431AD10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30CF-0931-4AAC-8706-3833383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AD8AC-C0AF-4118-9DC0-9B579506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F398F-493A-47CB-9C0A-920C0A63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92FA-6966-4EB3-9AB9-053C5B5A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8C78-58F5-4992-A938-008AC283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85F2-6800-4862-97D9-145215AB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A35F-20FB-4159-939D-9F8EEE41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4594-DD93-429F-8C78-EF2E2ED5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D0B1-3E7D-43D6-914D-6B5E43A0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DE555-3EBD-4210-AB2C-5349B3AB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D577-742A-48FF-BE35-D4C73CCF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481-6B3D-4369-A0A8-E8D6BDC6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DF36-941C-42AF-BD6E-DBBC975E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201-2EE1-42FB-B38B-A01B8A9A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1CED-A5A2-40EF-8D23-E05A49F7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F292-0DE7-4472-8290-8C86F4910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711-5D6D-4851-B135-F6181E11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7AEC-6671-4429-B4E6-057CF221F9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EC9A-2D9D-4C0F-A94E-6821E4D82BA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17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kforce plan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ear understanding of organisation’s direction, strengths and weaknesses, internal and extern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organisation strategy and external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internal and external labour fo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going to change that will affect service delivery and our capacity and capability to meet our service require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 You have just taken on a 10 year contract and the average age of our technical staff is 50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 our future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our future competenc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a forecasting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forecasting assumptions and scenario build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and forecast the difference between the demand for labour to provide goods and services and the supply of  labour to meet the projected dema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 co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is stage we would identify the gaps  and analyse the problems eg no experience in major infrastructure project manag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ay mean prioritising work eg XXX project needs to be delay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potential directions for action. Eg contracting out projects to firms with qualified staff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we plan for specific strategies and programs that will enable the organisation to develop and /or maintain a workforce that will be able to deliver the requirements of the organisation’s goals and objec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ally the organization wil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ate staffing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 for this change in the organis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involved in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Conduct an environmental scan (SWO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eview planning strategies, services, products,budget,benchmarking info and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Identify critical staff capabilities required to meet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Discuss forecasting impact in light of turnover , absenteeism, survey results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Supply impact- do succession planning, retirement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capabilities matrix and redeployment strategies. Look at timing for gap clos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stigate current practices and how they can close gaps eg job design, flexible employment, development et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new programs eg cadet program or improvements to existing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new HR programs or pract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e results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workforce plan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ing the right people, in the right place, with the right capabilities at the right time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ing and shaping the capacity and capability of the workforce that is needed to achieve an organisation’s goals, objectives and direction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planning is a tool that assists organizations and managers plan for the future, anticipate change, manage the workforce and meet business go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ensures that there is a proactive approach to future staffing needs avoiding situations of talent surpluses and short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 of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bility to identify more effective and efficient use of people at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ffective planning of “demographics” of the workfo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 vs management by crisis or just in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, responsive and flexible response to environmental chan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evelop alternative courses of action to different sit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we don’t plan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dhoc and reactionary decision m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Lack of necessary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Operational goals that don’t match strategic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ability to attract and retain quality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nderutilisation of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blems with succession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creased staffing c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force which lacks diversity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sts in management and planning of le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for skills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get training expenditure to achieve value for mo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retention and turnover strategies develo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rdination of HR strategies in  line with business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plann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the ga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 and evalu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4:23:15Z</dcterms:created>
  <dc:creator>Stephen Ford</dc:creator>
  <dc:description/>
  <dc:language>en-US</dc:language>
  <cp:lastModifiedBy>rford</cp:lastModifiedBy>
  <dcterms:modified xsi:type="dcterms:W3CDTF">2008-08-14T05:06:58Z</dcterms:modified>
  <cp:revision>2</cp:revision>
  <dc:subject/>
  <dc:title>Workforce planning</dc:title>
</cp:coreProperties>
</file>