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326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66F-3DB5-4DE6-9F4D-0AA3DA84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8E5A-F480-4418-B141-EDE05FD0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23B-E036-4DE6-9452-0330514B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028-FA81-47C5-B022-B29B8BEB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6EFB-457A-438B-B29E-0BBCCAE7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0252-27DE-477D-AA8A-FA78E9E7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C7BA-8712-4DA1-BEC8-21409B83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9C7D-B6F1-4B7F-B5E2-6475D3B2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C052-9ED4-4185-91C2-220CED7F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7DE3-C978-48BB-9232-E461172E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8303-2BB0-460C-A15B-E057D9CF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BA3-604F-4A40-A662-32F08EB4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65E2-793A-427D-916E-05265D16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2918-C35D-4387-9543-EAD2D122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29AF-9DCE-45AD-A85D-89BD8544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7DE6-421F-464A-9442-9F0DF7D2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317E-1E45-4656-A2E3-E5500B47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550-7DC2-49FC-BD48-77A10611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D83-0754-4F32-8711-3A88B252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971-42A0-47A8-9F0E-57D0E20A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29F-4130-4B1D-8260-C6237FAC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3F6-051F-4225-8D4C-49311C83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003-9484-4DD8-8688-FA8B09C7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82C0-1C1C-4497-8989-A132D3C3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ABAE-BEEA-4317-A9B5-2A0055DC412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C879-10A6-493F-8DC8-25BE7F7FDD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6400800" cy="1766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orkforce plannin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force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ear understanding of organisation’s direction, strengths and weaknesses, internal and external fa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 organisation strategy and external enviro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se internal and external labour for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ecast future nee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going to change that will affect service delivery and our capacity and capability to meet our service requirem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g You have just taken on a 10 year contract and the average age of our technical staff is 50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stand our future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our future competenc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a forecasting mod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forecasting assumptions and scenario build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e ga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se and forecast the difference between the demand for labour to provide goods and services and the supply of  labour to meet the projected dema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e gaps co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this stage we would identify the gaps  and analyse the problems eg no experience in major infrastructure project manage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ay mean prioritising work eg XXX project needs to be delay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potential directions for action. Eg contracting out projects to firms with qualified staff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elop strateg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 we plan for specific strategies and programs that will enable the organisation to develop and /or maintain a workforce that will be able to deliver the requirements of the organisation’s goals and objectiv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fically the organization wil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ate staffing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 for this change in the organis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involved in workforce plan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Conduct an environmental scan (SWO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Review planning strategies, services, products,budget,benchmarking info and KP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Identify critical staff capabilities required to meet KP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Discuss forecasting impact in light of turnover , absenteeism, survey results et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 Supply impact- do succession planning, retirement pla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capabilities matrix and redeployment strategies. Look at timing for gap closu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estigate current practices and how they can close gaps eg job design, flexible employment, development et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new programs eg cadet program or improvements to existing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 new HR programs or pract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e results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workforce planning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ing the right people, in the right place, with the right capabilities at the right time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ing and shaping the capacity and capability of the workforce that is needed to achieve an organisation’s goals, objectives and direction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force planning is a tool that assists organizations and managers plan for the future, anticipate change, manage the workforce and meet business goa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ensures that there is a proactive approach to future staffing needs avoiding situations of talent surpluses and shortag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 of workforce plan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bility to identify more effective and efficient use of people at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Effective planning of “demographics” of the workfor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active vs management by crisis or just in ti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active, responsive and flexible response to environmental chan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Develop alternative courses of action to different sit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we don’t plan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dhoc and reactionary decision ma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Lack of necessary cap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Operational goals that don’t match strategic 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nability to attract and retain quality sta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Underutilisation of sta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blems with succession pla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ncreased staffing co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orkforce which lacks diversity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sts in management and planning of lea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ning for skills 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rget training expenditure to achieve value for mon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ter retention and turnover strategies develo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rdination of HR strategies in  line with business 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force planning Fra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force analy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cast Future nee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se the ga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itor and evalu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04:23:15Z</dcterms:created>
  <dc:creator>Stephen Ford</dc:creator>
  <dc:description/>
  <dc:language>en-US</dc:language>
  <cp:lastModifiedBy>rford</cp:lastModifiedBy>
  <dcterms:modified xsi:type="dcterms:W3CDTF">2008-08-14T05:06:58Z</dcterms:modified>
  <cp:revision>2</cp:revision>
  <dc:subject/>
  <dc:title>Workforce planning</dc:title>
</cp:coreProperties>
</file>