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326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86E-20D9-43C2-A5C7-CDFFDFF03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A966-677F-4B87-92A5-1DED0FC4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77E7-5929-4BA0-AA7E-F9F8C426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AF7-7519-4EF6-BD9C-34D19F53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DF6E-3EBE-438B-B33C-D5E4D21A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F47B-71C5-4207-9F78-F6C5CE44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F6C5-46F1-4DBD-A409-BEF3764F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23F8-F8DA-4201-8C6D-D1C7EFED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0804-4C8D-4CE3-8686-EA485526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DB47-D6DA-4CAA-84FE-977141EA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13826-273E-454B-B21A-D908B3A8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DE24-00A0-4A18-976E-9C1CB0C4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97F0-1220-4BC0-B2DD-2FE12799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B2C0-8069-45A3-8E4C-5F6776CA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5C66-83DC-488E-9768-B9845935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A06D6-0F46-466A-8C83-A8B0C7B0F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D548-0170-4A06-9B48-FF289BA0D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3ACD-E262-40DE-81F6-8B75F3AB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260-C65C-43E3-8749-FCF4B490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6EE-EEC3-421C-AD63-F2ADA4E9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672A-DE2A-4D73-BA49-82CEE2F5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4EA1-D758-4700-9FFB-97CCF178B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F21C-767D-4BB7-B312-2950444E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0AE3-F4F9-40DE-8FAD-CD7737AA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B6AA-F6A7-42C6-9694-697CDC03174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0F357-8C29-4FBC-9F6B-B82F52265CD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752480"/>
            <a:ext cx="6400800" cy="1766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orkforce plannin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force 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ear understanding of organisation’s direction, strengths and weaknesses, internal and external fa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 organisation strategy and external enviro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se internal and external labour for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ecast future nee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going to change that will affect service delivery and our capacity and capability to meet our service requireme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g You have just taken on a 10 year contract and the average age of our technical staff is 50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stand our future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our future competenc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a forecasting mod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forecasting assumptions and scenario build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e ga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se and forecast the difference between the demand for labour to provide goods and services and the supply of  labour to meet the projected dema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e gaps co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this stage we would identify the gaps  and analyse the problems eg no experience in major infrastructure project managem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ay mean prioritising work eg XXX project needs to be delay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potential directions for action. Eg contracting out projects to firms with qualified staff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velop strateg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 we plan for specific strategies and programs that will enable the organisation to develop and /or maintain a workforce that will be able to deliver the requirements of the organisation’s goals and objectiv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fically the organization wil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ate staffing strateg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 for this change in the organis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involved in workforce plan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Conduct an environmental scan (SWO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Review planning strategies, services, products,budget,benchmarking info and KP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Identify critical staff capabilities required to meet KP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Discuss forecasting impact in light of turnover , absenteeism, survey results et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ss Supply impact- do succession planning, retirement pla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capabilities matrix and redeployment strategies. Look at timing for gap closu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vestigate current practices and how they can close gaps eg job design, flexible employment, development et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new programs eg cadet program or improvements to existing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 new HR programs or practi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e results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workforce planning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ing the right people, in the right place, with the right capabilities at the right time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ing and shaping the capacity and capability of the workforce that is needed to achieve an organisation’s goals, objectives and direction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force planning is a tool that assists organizations and managers plan for the future, anticipate change, manage the workforce and meet business goa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ensures that there is a proactive approach to future staffing needs avoiding situations of talent surpluses and shortag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 of workforce plan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Ability to identify more effective and efficient use of people at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Effective planning of “demographics” of the workfor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roactive vs management by crisis or just in tim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roactive, responsive and flexible response to environmental chan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Develop alternative courses of action to different sit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we don’t plan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Adhoc and reactionary decision ma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Lack of necessary cap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Operational goals that don’t match strategic go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Inability to attract and retain quality sta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Underutilisation of sta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roblems with succession pla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Increased staffing co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orkforce which lacks diversity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sts in management and planning of lea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ning for skills develo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rget training expenditure to achieve value for mon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tter retention and turnover strategies develo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rdination of HR strategies in  line with business go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force planning Fra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force analy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ecast Future nee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se the ga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strateg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 strateg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itor and evalu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04:23:15Z</dcterms:created>
  <dc:creator>Stephen Ford</dc:creator>
  <dc:description/>
  <dc:language>en-US</dc:language>
  <cp:lastModifiedBy>rford</cp:lastModifiedBy>
  <dcterms:modified xsi:type="dcterms:W3CDTF">2008-08-14T05:06:58Z</dcterms:modified>
  <cp:revision>2</cp:revision>
  <dc:subject/>
  <dc:title>Workforce planning</dc:title>
</cp:coreProperties>
</file>