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326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A94-92A2-439A-A6EA-5F6656A7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D69F-F694-4E40-B65A-8031E281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E818-0A89-4DF2-9F62-D3A73397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AC90-BF0D-4BB2-BF8A-38EC0D50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9943-1E7A-40BB-8995-5D45CE0B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B82D-3CD3-4C53-B04C-4B5E17C0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25C9-E068-4D37-9E91-B1DD78FA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3B04-B8B0-4B4C-835B-48DB39A0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E965-0CDC-4346-8FC0-F772E473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7061-02A1-4B68-BF30-9D1EBC22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3F01-F0E9-452B-99ED-1ABD189B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7A3F-8A84-4CC5-AFF3-653C692F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0723-CFC1-45E9-9DA5-4BBB0F44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E5DC-3F08-4888-9166-3F8855D8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3422-1360-49BD-86AB-7B644163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45B0-26BA-4160-8BA3-B04D240A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E745-66F5-40E6-94F9-222B07ED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525-27F8-4C61-A0B9-B93AFB75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5F5C-9E56-498E-98D4-7FE9991A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F7CA-DCA7-4F51-9BC5-AE7839CE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CB1-0DD3-45D7-B6A8-BB45023A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3C31-2BCA-480E-ACB8-F93FA75E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FFC-3FBD-45AC-AE82-A5A59990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6EF3-791E-4004-8015-ED0D1271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02FB-02A8-4722-947B-369F90AA4E5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D39A-0EC6-42E9-9560-4B8302F1C2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752480"/>
            <a:ext cx="6400800" cy="1766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orkforce plannin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force 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ear understanding of organisation’s direction, strengths and weaknesses, internal and external fa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 organisation strategy and external enviro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se internal and external labour for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ecast future nee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going to change that will affect service delivery and our capacity and capability to meet our service requireme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g You have just taken on a 10 year contract and the average age of our technical staff is 50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stand our future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our future competenc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a forecasting mod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forecasting assumptions and scenario build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e ga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se and forecast the difference between the demand for labour to provide goods and services and the supply of  labour to meet the projected dema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e gaps co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this stage we would identify the gaps  and analyse the problems eg no experience in major infrastructure project managem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ay mean prioritising work eg XXX project needs to be delay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potential directions for action. Eg contracting out projects to firms with qualified staff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velop strateg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 we plan for specific strategies and programs that will enable the organisation to develop and /or maintain a workforce that will be able to deliver the requirements of the organisation’s goals and objectiv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fically the organization wil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ate staffing strateg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 for this change in the organis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involved in workforce plan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Conduct an environmental scan (SWO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Review planning strategies, services, products,budget,benchmarking info and KP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Identify critical staff capabilities required to meet KP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Discuss forecasting impact in light of turnover , absenteeism, survey results et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ss Supply impact- do succession planning, retirement pla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capabilities matrix and redeployment strategies. Look at timing for gap closu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vestigate current practices and how they can close gaps eg job design, flexible employment, development et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new programs eg cadet program or improvements to existing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 new HR programs or practi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e results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workforce planning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ing the right people, in the right place, with the right capabilities at the right time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ing and shaping the capacity and capability of the workforce that is needed to achieve an organisation’s goals, objectives and direction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force planning is a tool that assists organizations and managers plan for the future, anticipate change, manage the workforce and meet business goa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ensures that there is a proactive approach to future staffing needs avoiding situations of talent surpluses and shortag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 of workforce plan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Ability to identify more effective and efficient use of people at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Effective planning of “demographics” of the workfor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roactive vs management by crisis or just in tim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roactive, responsive and flexible response to environmental chan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Develop alternative courses of action to different sit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we don’t plan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Adhoc and reactionary decision ma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Lack of necessary cap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Operational goals that don’t match strategic go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Inability to attract and retain quality sta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Underutilisation of sta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roblems with succession pla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Increased staffing co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orkforce which lacks diversity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sts in management and planning of lea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ning for skills develo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rget training expenditure to achieve value for mon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tter retention and turnover strategies develo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rdination of HR strategies in  line with business go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force planning Fra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force analy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ecast Future nee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se the ga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strateg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 strateg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itor and evalu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04:23:15Z</dcterms:created>
  <dc:creator>Stephen Ford</dc:creator>
  <dc:description/>
  <dc:language>en-US</dc:language>
  <cp:lastModifiedBy>rford</cp:lastModifiedBy>
  <dcterms:modified xsi:type="dcterms:W3CDTF">2008-08-14T05:06:58Z</dcterms:modified>
  <cp:revision>2</cp:revision>
  <dc:subject/>
  <dc:title>Workforce planning</dc:title>
</cp:coreProperties>
</file>