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326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9111-CCFC-4B02-9F44-479F1E4E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619-AA02-4E6B-BAB7-D31557047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C9AE-6D64-4B38-BEA1-9706333B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0CB9-7FC6-406E-8BFE-8CEA06F4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7C989-B163-45FC-ABB6-19CA6DBC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D607-22B0-4E38-ACC5-C6F70BA48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940A-CEDE-416D-A6DB-41FB701B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0D39-901C-489D-9DFF-E20E646B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3E94-6CCD-478A-9EED-CBB1EABF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4FF5-F1AB-416D-A852-36C3F707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6E94-911F-496C-9C98-B250902B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670C-FB82-4128-A7D1-7B9378D8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6361-9EE0-4272-997D-E2D95326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CEC8B-1945-49EE-AAFD-5965EB3A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21E6-B37E-41E0-A444-B1FEE353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EF144-0F8A-4620-90D9-DDBA3EB1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2851-883C-4CF7-8EA4-65ED1342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0861-0007-4AEF-AE0B-9B22D181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874F-E442-48B4-9CE3-2B5260C6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6084-6719-4BE3-AF04-2BBBA00D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0207-63DF-4852-977F-E466944B9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E79-4E98-4001-8C39-6EA12C77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0E3-70FD-4D67-BAB7-39293207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FB02-B363-481A-A8BF-393C0BB5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EBF8-E12A-4A84-92D2-8B60822CA8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BB68E-4786-4C5E-BF3C-638773CEC0E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752480"/>
            <a:ext cx="6400800" cy="17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Workforce planning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ear understanding of organisation’s direction, strengths and weaknesses, internal and external facto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organisation strategy and external environ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internal and external labour for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going to change that will affect service delivery and our capacity and capability to meet our service requir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g You have just taken on a 10 year contract and the average age of our technical staff is 50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derstand our future require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our future competenc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a forecasting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forecasting assumptions and scenario build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and forecast the difference between the demand for labour to provide goods and services and the supply of  labour to meet the projected dema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e gaps co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is stage we would identify the gaps  and analyse the problems eg no experience in major infrastructure project managem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s may mean prioritising work eg XXX project needs to be delay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dentify potential directions for action. Eg contracting out projects to firms with qualified staff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re we plan for specific strategies and programs that will enable the organisation to develop and /or maintain a workforce that will be able to deliver the requirements of the organisation’s goals and objectiv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pecifically the organization will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mulate staffing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n for this change in the organis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involved in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Conduct an environmental scan (SWOT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Review planning strategies, services, products,budget,benchmarking info and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Identify critical staff capabilities required to meet KP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omic Sans MS"/>
              </a:rPr>
              <a:t>Discuss forecasting impact in light of turnover , absenteeism, survey results et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cuss Supply impact- do succession planning, retirement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capabilities matrix and redeployment strategies. Look at timing for gap closur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vestigate current practices and how they can close gaps eg job design, flexible employment, development et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dentify new programs eg cadet program or improvements to existing syste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mplement new HR programs or practic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-260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e result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60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workforce planni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ing the right people, in the right place, with the right capabilities at the right time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termining and shaping the capacity and capability of the workforce that is needed to achieve an organisation’s goals, objectives and direction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planning is a tool that assists organizations and managers plan for the future, anticipate change, manage the workforce and meet business goal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ensures that there is a proactive approach to future staffing needs avoiding situations of talent surpluses and shortag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 of workforce plann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bility to identify more effective and efficient use of people at 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Effective planning of “demographics” of the workfor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 vs management by crisis or just in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active, responsive and flexible response to environmental chang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Develop alternative courses of action to different situ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f we don’t plan…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Adhoc and reactionary decision ma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Lack of necessary capabi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Operational goals that don’t match strategic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ability to attract and retain quality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Underutilisation of staf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Problems with succession plann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Increased staffing co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omic Sans MS"/>
              </a:rPr>
              <a:t>Workforce which lacks diversity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ssists in management and planning of leav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nning for skills develop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rget training expenditure to achieve value for mone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tter retention and turnover strategies develop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ordination of HR strategies in  line with business goa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force planning Framewor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force analys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cast Future nee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alyse the gap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velop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mplement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nitor and evalua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2T04:23:15Z</dcterms:created>
  <dc:creator>Stephen Ford</dc:creator>
  <dc:description/>
  <dc:language>en-US</dc:language>
  <cp:lastModifiedBy>rford</cp:lastModifiedBy>
  <dcterms:modified xsi:type="dcterms:W3CDTF">2008-08-14T05:06:58Z</dcterms:modified>
  <cp:revision>2</cp:revision>
  <dc:subject/>
  <dc:title>Workforce planning</dc:title>
</cp:coreProperties>
</file>