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ED0-AC07-43CF-8528-B8FB1E97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D7F-88FA-4FF9-B878-89FA07C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D07-6616-4FD3-B1DE-A60DAF70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1DE-5082-4786-8554-9F9A23E7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B9A-8030-4945-B19E-C3BB5BE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2F6-3BCE-45CC-9674-F80622CA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B86-A18C-4E3E-A765-E77C8A1A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62B-F98C-43BF-A174-C69F6306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82E-40E5-4134-BDF6-FFB9BC1A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14D-6D58-450D-BCC7-F3820993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B23-AEE6-4B2A-BCD6-EA4E485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E97-C633-40B9-AABA-5E50859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00F-F85C-43EF-91F8-2D4E355C69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everyone who has ever had an evaluation - just remember, it could have been worse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actual quotes taken from Federal  Government employee performance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. "This employee should go far, and the sooner he star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bett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. "Got a full 6-pack, but lack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plastic thingy to hold it all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geth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1. "A gross ignoramu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– 144 times worse than a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rdinary ignoramus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. "He doesn't have ulcers, but he's a carri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. "I would like to go hunting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ith him sometim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. "He's been working with glue too much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. "He would argue with a signpos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. "He brings a lot of jo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enever he leaves the roo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. "When his IQ reaches 50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 should sell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.  "If you see two people talking and one looks bored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's the other on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. "Since my last report, this employee has reached rock-bottom and has started to di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. "A photographic memory but with the lens cover glued 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. "A prime candidate fo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atural de-selecti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1. "Donated his brain to science before he was done using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. "Gates are down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lights are flashing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ut the train isn't comin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. "He's got two brains cell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e is lost and the othe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out looking for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4. "If he were any more stupid, he'd have to be watere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ice a week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. "If you gave him a penn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his though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'd get chang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6. "If you stand close enough to him, you can hear the ocean.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. "It's hard to believe he beat out 1,000,000 other sper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. "One neuron short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synaps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. "I would not allow this employee to bre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. "Some drink from the fountain of knowledge; he only gargl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. "Takes him 2 hours to watch '60-minutes'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1. "The wheel is turning, but the hamster has fallen off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. . and my personal favourite 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2. "Got into the gene pool when the Lifeguard wasn't looking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eople like tha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n’t you glad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ork f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a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. "This employee is really not so much of a has-been, but more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definite won't b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. "Works well when under constant supervision an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rnered like a rat in a trap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. "When she opens her mouth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 seems that it is onl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change fee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. "This young lady has delusions of adequacy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. "He sets low personal standards and then consistently fails to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chieve the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. "This employee is depriving a village somewhere of an idio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6:29:46Z</dcterms:created>
  <dc:creator>JDUXFIELD</dc:creator>
  <dc:description/>
  <dc:language>en-US</dc:language>
  <cp:lastModifiedBy>Stephen Ford</cp:lastModifiedBy>
  <dcterms:modified xsi:type="dcterms:W3CDTF">2010-03-06T04:49:39Z</dcterms:modified>
  <cp:revision>3</cp:revision>
  <dc:subject/>
  <dc:title>For everyone who has ever had an evaluation - just remember, it could have been worse. </dc:title>
</cp:coreProperties>
</file>