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A9E1-87B9-46BF-AA7A-4F0633341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0B1F-AC6D-4FF3-87EA-B900547ED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A16-C2B8-4869-BFD5-D114428E5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025C-A44C-47EA-B8F8-19E16D6D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B686-23CE-4720-A748-97CC70B7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76B-A8BD-4E01-8912-CDEC312E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E4F6-33DE-4303-A254-C0914C41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9FDD-CB6C-4973-A481-58CC3C40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FFB9-F742-4810-B63F-714705D3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8B06-01C6-4304-AF17-10CA2710C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CEAE-4D6E-42E5-AC5F-01375D56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447-E7AE-4DD9-9F64-88395314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C374-1DA4-489B-87B3-612A89C0F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everyone who has ever had an evaluation - just remember, it could have been worse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actual quotes taken from Federal  Government employee performance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. "This employee should go far, and the sooner he star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bett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. "Got a full 6-pack, but lack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plastic thingy to hold it all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geth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1. "A gross ignoramu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– 144 times worse than a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rdinary ignoramus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. "He doesn't have ulcers, but he's a carri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. "I would like to go hunting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ith him sometim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. "He's been working with glue too much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. "He would argue with a signpos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. "He brings a lot of jo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enever he leaves the roo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. "When his IQ reaches 50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 should sell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.  "If you see two people talking and one looks bored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's the other on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. "Since my last report, this employee has reached rock-bottom and has started to di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. "A photographic memory but with the lens cover glued 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. "A prime candidate fo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atural de-selecti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1. "Donated his brain to science before he was done using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. "Gates are down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lights are flashing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ut the train isn't comin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. "He's got two brains cell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e is lost and the othe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out looking for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4. "If he were any more stupid, he'd have to be watere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ice a week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. "If you gave him a penn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his though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'd get chang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6. "If you stand close enough to him, you can hear the ocean.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. "It's hard to believe he beat out 1,000,000 other sper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. "One neuron short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synaps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. "I would not allow this employee to bre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. "Some drink from the fountain of knowledge; he only gargl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. "Takes him 2 hours to watch '60-minutes'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1. "The wheel is turning, but the hamster has fallen off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. . and my personal favourite 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2. "Got into the gene pool when the Lifeguard wasn't looking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eople like tha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n’t you glad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ork f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a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. "This employee is really not so much of a has-been, but more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definite won't b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. "Works well when under constant supervision an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rnered like a rat in a trap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. "When she opens her mouth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 seems that it is onl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change fee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. "This young lady has delusions of adequacy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. "He sets low personal standards and then consistently fails to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chieve the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. "This employee is depriving a village somewhere of an idio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6:29:46Z</dcterms:created>
  <dc:creator>JDUXFIELD</dc:creator>
  <dc:description/>
  <dc:language>en-US</dc:language>
  <cp:lastModifiedBy>Stephen Ford</cp:lastModifiedBy>
  <dcterms:modified xsi:type="dcterms:W3CDTF">2010-03-06T04:49:39Z</dcterms:modified>
  <cp:revision>3</cp:revision>
  <dc:subject/>
  <dc:title>For everyone who has ever had an evaluation - just remember, it could have been worse. </dc:title>
</cp:coreProperties>
</file>