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A51-F874-48D6-A1A8-C84B448A5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BC3D-5AF8-4BF1-9678-7755C7F3D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D59E-F65F-4807-AC85-615E95ED9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3278-81A3-495D-9F3D-8ACA805C4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C2BD-FE81-4ED5-8DDF-1E945EEDF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241E-7BC0-445F-8D6B-13D8B899D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BA8-2D50-4E28-9AA0-0C20707D1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686CF-B85D-476D-94A4-2533D07F0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C60C-5319-4D56-A6FB-BABB83C6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1984-0ADE-4A5B-A4E0-2AC1BACF5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4DA7-80B8-49C9-926F-C9C8EE0A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E7C3-7ADC-407B-8BEC-7A42ED441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391F-06B7-4E75-B991-ACD4AE54FD3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or everyone who has ever had an evaluation - just remember, it could have been worse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se are actual quotes taken from Federal  Government employee performance eval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. "This employee should go far, and the sooner he start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bett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. "Got a full 6-pack, but lack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plastic thingy to hold it all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geth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1. "A gross ignoramu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– 144 times worse than an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rdinary ignoramus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2. "He doesn't have ulcers, but he's a carri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3. "I would like to go hunting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ith him sometim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. "He's been working with glue too much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. "He would argue with a signpos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. "He brings a lot of jo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enever he leaves the roo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7. "When his IQ reaches 50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e should sell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.  "If you see two people talking and one looks bored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e's the other on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. "Since my last report, this employee has reached rock-bottom and has started to dig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9. "A photographic memory but with the lens cover glued on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0. "A prime candidate for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atural de-selection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1. "Donated his brain to science before he was done using i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2. "Gates are down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lights are flashing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but the train isn't coming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3. "He's got two brains cell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ne is lost and the other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s out looking for i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4. "If he were any more stupid, he'd have to be watered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wice a week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5. "If you gave him a penn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or his thought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you'd get chang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6. "If you stand close enough to him, you can hear the ocean."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7. "It's hard to believe he beat out 1,000,000 other sper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8. "One neuron short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f a synaps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. "I would not allow this employee to breed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9. "Some drink from the fountain of knowledge; he only gargled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0. "Takes him 2 hours to watch '60-minutes'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1. "The wheel is turning, but the hamster has fallen off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. . and my personal favourite . .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2. "Got into the gene pool when the Lifeguard wasn't looking"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people like that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n’t you glad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work f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an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. "This employee is really not so much of a has-been, but more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f a definite won't b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. "Works well when under constant supervision and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rnered like a rat in a trap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. "When she opens her mouth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t seems that it is onl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change fee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. "This young lady has delusions of adequacy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. "He sets low personal standards and then consistently fails to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chieve the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. "This employee is depriving a village somewhere of an idio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6:29:46Z</dcterms:created>
  <dc:creator>JDUXFIELD</dc:creator>
  <dc:description/>
  <dc:language>en-US</dc:language>
  <cp:lastModifiedBy>Stephen Ford</cp:lastModifiedBy>
  <dcterms:modified xsi:type="dcterms:W3CDTF">2010-03-06T04:49:39Z</dcterms:modified>
  <cp:revision>3</cp:revision>
  <dc:subject/>
  <dc:title>For everyone who has ever had an evaluation - just remember, it could have been worse. </dc:title>
</cp:coreProperties>
</file>