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A8F-6B01-45C0-BB5B-39E9334A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A06-F110-45E3-9293-7821777E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00E-8A8A-41BB-9FF0-A30D0BCF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F11-6210-49A3-9A95-A0201106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607-A2BE-4FD4-B0A6-EA4DFDFB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4C4-28AF-4B91-BEA1-52A70738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AB4-FC4C-49F7-AA6A-4F8BBE31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694-D7F9-42BD-835C-6D0CB59F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982-42F7-4906-84D6-05F5F46C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A87-33F1-4725-A165-FBEE2EC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E7B-9598-4D48-9CF3-6EBD32F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9A9-92AF-407D-B6A8-62B4777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8405-CA9E-452A-BF39-C066560D8B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everyone who has ever had an evaluation - just remember, it could have been worse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se are actual quotes taken from Federal  Government employee performance eval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. "This employee should go far, and the sooner he star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bett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. "Got a full 6-pack, but lack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plastic thingy to hold it all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geth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1. "A gross ignoramu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– 144 times worse than an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rdinary ignoramus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2. "He doesn't have ulcers, but he's a carri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. "I would like to go hunting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ith him sometim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. "He's been working with glue too much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. "He would argue with a signpos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. "He brings a lot of jo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enever he leaves the roo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7. "When his IQ reaches 50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 should sell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.  "If you see two people talking and one looks bored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's the other on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. "Since my last report, this employee has reached rock-bottom and has started to di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9. "A photographic memory but with the lens cover glued 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0. "A prime candidate fo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atural de-selecti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1. "Donated his brain to science before he was done using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2. "Gates are down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lights are flashing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ut the train isn't comin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3. "He's got two brains cell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ne is lost and the othe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out looking for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4. "If he were any more stupid, he'd have to be watere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ice a week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. "If you gave him a penn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his though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you'd get chang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6. "If you stand close enough to him, you can hear the ocean.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. "It's hard to believe he beat out 1,000,000 other sper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. "One neuron short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synaps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. "I would not allow this employee to bre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9. "Some drink from the fountain of knowledge; he only gargl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0. "Takes him 2 hours to watch '60-minutes'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1. "The wheel is turning, but the hamster has fallen off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. . and my personal favourite . .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2. "Got into the gene pool when the Lifeguard wasn't looking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people like tha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n’t you glad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ork f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an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. "This employee is really not so much of a has-been, but more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definite won't b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. "Works well when under constant supervision an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rnered like a rat in a trap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. "When she opens her mouth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t seems that it is onl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change fee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. "This young lady has delusions of adequacy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. "He sets low personal standards and then consistently fails to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chieve the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. "This employee is depriving a village somewhere of an idio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6:29:46Z</dcterms:created>
  <dc:creator>JDUXFIELD</dc:creator>
  <dc:description/>
  <dc:language>en-US</dc:language>
  <cp:lastModifiedBy>Stephen Ford</cp:lastModifiedBy>
  <dcterms:modified xsi:type="dcterms:W3CDTF">2010-03-06T04:49:39Z</dcterms:modified>
  <cp:revision>3</cp:revision>
  <dc:subject/>
  <dc:title>For everyone who has ever had an evaluation - just remember, it could have been worse. </dc:title>
</cp:coreProperties>
</file>