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4583-9BE3-47F7-AF6B-E49976C0F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6D1D-DCC5-4F66-817B-0D96050F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4D40-F6E9-4BB4-B988-7C2F0F4A9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357D0-C636-4495-96BE-353DA6248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3A3B-07D7-4490-B081-2C0F383CD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5A7E-97C5-4844-BB59-E6713F777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AA15-ABD7-43D4-B80A-9EB795B2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924F-CCC3-42ED-B65A-4CD40C2AE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9DDE-61A2-406A-BA10-6ED96E5E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0E21-815A-412A-BA05-E98050B2D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B2D2-BCD5-4678-8378-62581281F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19F0-50E7-4B7E-B2C9-168CED1C6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E3892-CCD2-4A65-AFF2-58826D78524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For everyone who has ever had an evaluation - just remember, it could have been worse.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These are actual quotes taken from Federal  Government employee performance evalu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9. "This employee should go far, and the sooner he starts,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he better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27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0. "Got a full 6-pack, but lacks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he plastic thingy to hold it all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ogether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1. "A gross ignoramus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– 144 times worse than an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ordinary ignoramus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2. "He doesn't have ulcers, but he's a carrier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52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3. "I would like to go hunting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with him sometime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7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4. "He's been working with glue too much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5. "He would argue with a signpost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6. "He brings a lot of joy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whenever he leaves the room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7. "When his IQ reaches 50,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he should sell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520" y="3276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8.  "If you see two people talking and one looks bored,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he's the other one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. "Since my last report, this employee has reached rock-bottom and has started to dig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19. "A photographic memory but with the lens cover glued on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0. "A prime candidate for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natural de-selection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1. "Donated his brain to science before he was done using it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2. "Gates are down,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he lights are flashing,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but the train isn't coming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3. "He's got two brains cells,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one is lost and the other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is out looking for it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4. "If he were any more stupid, he'd have to be watered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wice a week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200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5. "If you gave him a penny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for his thoughts,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you'd get change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6. "If you stand close enough to him, you can hear the ocean."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7. "It's hard to believe he beat out 1,000,000 other sperm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8. "One neuron short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of a synapse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971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. "I would not allow this employee to breed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29. "Some drink from the fountain of knowledge; he only gargled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30. "Takes him 2 hours to watch '60-minutes'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31. "The wheel is turning, but the hamster has fallen off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. . . and my personal favourite . . 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32. "Got into the gene pool when the Lifeguard wasn't looking"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th people like that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ren’t you glad,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work for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th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pany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3. "This employee is really not so much of a has-been, but more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of a definite won't be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81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4. "Works well when under constant supervision and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cornered like a rat in a trap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895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5. "When she opens her mouth,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it seems that it is only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to change feet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6. "This young lady has delusions of adequacy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123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7. "He sets low personal standards and then consistently fails to </a:t>
            </a:r>
            <a:br>
              <a:rPr sz="4000"/>
            </a:b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achieve them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566768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4000" spc="-1" strike="noStrike">
                <a:solidFill>
                  <a:srgbClr val="000000"/>
                </a:solidFill>
                <a:latin typeface="Arial"/>
              </a:rPr>
              <a:t>8. "This employee is depriving a village somewhere of an idiot.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6T16:29:46Z</dcterms:created>
  <dc:creator>JDUXFIELD</dc:creator>
  <dc:description/>
  <dc:language>en-US</dc:language>
  <cp:lastModifiedBy>Stephen Ford</cp:lastModifiedBy>
  <dcterms:modified xsi:type="dcterms:W3CDTF">2010-03-06T04:49:39Z</dcterms:modified>
  <cp:revision>3</cp:revision>
  <dc:subject/>
  <dc:title>For everyone who has ever had an evaluation - just remember, it could have been worse. </dc:title>
</cp:coreProperties>
</file>