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C23-9136-4A65-83AD-08CC1065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AB4-7F6B-431A-B398-9D5F35BA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9678-022D-4CB7-9A17-330FA03B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07DE-3E99-44E6-AD92-C78023B6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C6EA-23CD-4FE2-B2FB-A5499A36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282-FBD2-4539-8973-5E8EC1B4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1D3A-3D2E-4BF6-8221-15BA7117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9864-AB47-4851-A49A-8B21A79C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8A47-7FF2-4B19-867F-E6044E6C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61F4-EE5C-4236-9D3B-1F902E62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961-255D-48E5-B407-F8ADC0C9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745-8AFB-4F32-BE3D-7906EDD5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7108-A46D-44E0-A76E-77DE477064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For everyone who has ever had an evaluation - just remember, it could have been worse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se are actual quotes taken from Federal  Government employee performance eval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. "This employee should go far, and the sooner he starts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better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0. "Got a full 6-pack, but lacks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plastic thingy to hold it all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gether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1. "A gross ignoramus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– 144 times worse than an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rdinary ignoramus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2. "He doesn't have ulcers, but he's a carrier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5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3. "I would like to go hunting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ith him sometim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4. "He's been working with glue too much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5. "He would argue with a signpos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6. "He brings a lot of joy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henever he leaves the room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7. "When his IQ reaches 50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he should sell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8.  "If you see two people talking and one looks bored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he's the other on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. "Since my last report, this employee has reached rock-bottom and has started to dig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9. "A photographic memory but with the lens cover glued on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0. "A prime candidate for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natural de-selection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1. "Donated his brain to science before he was done using i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2. "Gates are down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lights are flashing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but the train isn't coming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3. "He's got two brains cells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ne is lost and the other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s out looking for i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4. "If he were any more stupid, he'd have to be watered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wice a week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5. "If you gave him a penny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for his thoughts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you'd get chang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6. "If you stand close enough to him, you can hear the ocean."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7. "It's hard to believe he beat out 1,000,000 other sperm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8. "One neuron short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f a synaps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. "I would not allow this employee to breed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9. "Some drink from the fountain of knowledge; he only gargled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0. "Takes him 2 hours to watch '60-minutes'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1. "The wheel is turning, but the hamster has fallen off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. . and my personal favourite . .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2. "Got into the gene pool when the Lifeguard wasn't looking"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people like that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n’t you glad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work fo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pan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. "This employee is really not so much of a has-been, but more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f a definite won't b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. "Works well when under constant supervision and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cornered like a rat in a trap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. "When she opens her mouth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t seems that it is only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 change fee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. "This young lady has delusions of adequacy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. "He sets low personal standards and then consistently fails to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chieve them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. "This employee is depriving a village somewhere of an idio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6:29:46Z</dcterms:created>
  <dc:creator>JDUXFIELD</dc:creator>
  <dc:description/>
  <dc:language>en-US</dc:language>
  <cp:lastModifiedBy>Stephen Ford</cp:lastModifiedBy>
  <dcterms:modified xsi:type="dcterms:W3CDTF">2010-03-06T04:49:39Z</dcterms:modified>
  <cp:revision>3</cp:revision>
  <dc:subject/>
  <dc:title>For everyone who has ever had an evaluation - just remember, it could have been worse. </dc:title>
</cp:coreProperties>
</file>