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CAE-DB5C-4E59-8716-2A339CEF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76E-AC98-48E1-9212-4CEE70B3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1D4-6310-4ED4-8F77-8648B1FA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198-8382-46B6-9987-25F94F66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6A6C-9C29-4FA2-B505-E2292198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9D94-E9F1-4D74-B5AC-60B0E093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70EA-68F8-43DB-9F1E-66F4A821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3E67-D1A0-46E1-9F71-01E63DA3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DE48-3C30-4C3D-803B-411EF993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CFEB-6EAA-4164-813B-86687547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4D62-4480-428C-8466-F3020D2B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4C7-058A-4E86-B085-1BDFCA59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C3DD-4E7B-4325-9189-00A88C66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F7BF-4C4D-431C-8E04-2B2B5B56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00B5-BD5E-47C0-ADAC-2EC81FE9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7D3E-34D2-46DC-BC76-0861D411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1101-1D24-4F51-AAE6-C7734A21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D54-A06E-48D9-B15E-49657C91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1DE-BE6D-4ACF-AEE5-BA0ED7E7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9EB-14BD-4113-9D0C-D63D852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D3F-43C2-4234-9BEB-F0C92ABF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5A1-2E2D-4FB7-B3B5-28B4D254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378-B621-45DE-AB1C-56C532C6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B78-4C1D-4FC4-996F-4CD80861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0BB5-F6EE-4A36-9D92-8FD3999672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3B9-8451-48E4-A8F9-C41E6EA72A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nage workforce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orkforce planning  interacts with other HR and management prac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61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ive some examples of these situation in the Illawarra or NS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me objectives may include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coming an employer of ch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pecific objectives for the organisation for recruitment, training, redeployment, 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riple bottom line (social, environmental, financial accountabilit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uilding business capabi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’s growth</a:t>
            </a:r>
            <a:br>
              <a:rPr sz="3200"/>
            </a:b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rganisational renew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implications of the aging workforce profi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resignation/ retirement patterns or mature aged  work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patterns of new/graduate entra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fin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e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432720"/>
            <a:ext cx="8163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mmunicating workforce planning to stakeholders see Standard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or exampl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e the workforce from the begi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form/explain  eg intra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Provide access to planning tools/ information (both for external and external market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Diffuse mis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Make sure data collection takes into account diversity of workforce eg surveys vs focus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onstrate the benefits of participating in the process of workplace prof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ay fears of downsizing and going offshore if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e line managers in the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 employee representatives eg un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loss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lanning -The ongoing process of planning so business operators are able to remain in control of the direction a business takes, and to be able to effectively respond to issues as they ar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of cho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loyer who attracts, retains and motivates employees through factors such as reputation, development opportunities, work environment including facilities, work arrangements, recognition and reward and leadership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on plann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and tracking of employees potentially capable of filling other roles or higher level managerial positions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planning-The process of forecasting workforce needs and determining the broad range of policies and systems that will create and sustain the workforce in line with business strategy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cruitment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ing the right numbers and types of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s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ad articles and summaris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formance manage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ing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roving employee contrib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ing employe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dentify employee potenti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rganisations and employees capitalise on opportunities eg develop graduate programs and allowing gap year training overs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raining and development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place rel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sues might be change management, expansion or downsizing, technological change, remuneration management, rewards systems, flexible work o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uccession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ing the necessary suitable employees to cover retirements and resignations, paternity le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/life balance issu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g offering paid parental leave or study leave  so that employees can pursue personal commitments  and thereby maximising usefulness of  employee ski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-480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ning objectives and strateg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tuations which will require attention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ifications to the number of workforce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ention  of the work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acceptably high staff turn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rcing skilled labo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7:08:39Z</dcterms:created>
  <dc:creator>Stephen Ford</dc:creator>
  <dc:description/>
  <dc:language>en-US</dc:language>
  <cp:lastModifiedBy>Stephen Ford</cp:lastModifiedBy>
  <dcterms:modified xsi:type="dcterms:W3CDTF">2009-04-26T23:12:27Z</dcterms:modified>
  <cp:revision>7</cp:revision>
  <dc:subject/>
  <dc:title>Manage workforce planning</dc:title>
</cp:coreProperties>
</file>