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FC24-787B-44A7-988C-264A8D02C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94EE-E80C-45BB-9166-3BB0C825F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DB82-C8AE-4CB4-9F56-39B2BAA7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6C25-D058-4628-8D69-623A0D81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DF5B-66F0-414C-83DC-E629A7E7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6908-3BE5-4D81-915C-EA20E4CC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4FC7-371C-4193-8B58-C603E2E9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15238-6E90-4513-BD14-393EBD70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4B72-B6DB-44BD-B053-E88BA0B8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71FE-0675-4CC7-9828-5F508B0F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F85F3-4B3D-4FAE-99A7-26ECC137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AB9-FD6F-44A9-9A4A-63BFFFAE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96C11-C30F-4132-9BFB-278D94535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452E-8B27-421B-887F-721F7FAF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DE592-C57B-48A9-BAA3-AB5E7227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F1F7-6C47-4BE8-AB4E-1487E1EF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CDDEE-41A9-4731-8905-AA94863B8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E0D5-9B4F-459E-B5B9-AEA06EC6B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2A49-87C4-4E62-9F33-FCEAE1AE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2699-DB52-4B44-8F71-9FB6E6443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63F-847A-4EC2-A3FD-788A6CBC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5E20-5DDA-4434-91AC-DDBB7C20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2CF6-38CF-41A2-BC5D-931CBFE3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A84D-F0D8-4A06-B363-A1E38B9F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C589E-83D3-453B-B733-ADDC7A09CE4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B9D63-9842-45F5-8630-FC07EBBB68A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6920"/>
            <a:ext cx="7678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anage workforce plann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w workforce planning  interacts with other HR and management practi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561960"/>
            <a:ext cx="8163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ive some examples of these situation in the Illawarra or NSW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ome objectives may include: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coming an employer of cho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pecific objectives for the organisation for recruitment, training, redeployment, redunda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triple bottom line (social, environmental, financial accountability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Building business capability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Forecast the need for talent –variation in the market and factors likely to chang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dict the organisation’s growth</a:t>
            </a:r>
            <a:br>
              <a:rPr sz="3200"/>
            </a:b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Organisational renew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are the implications of the aging workforce profil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are the resignation/ retirement patterns or mature aged  work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are the patterns of new/graduate entra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efine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undanc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deploy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432720"/>
            <a:ext cx="81630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Communicating workforce planning to stakeholders see Standard</a:t>
            </a: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Verdana"/>
              </a:rPr>
              <a:t>for examples</a:t>
            </a:r>
            <a:endParaRPr b="0" lang="en-US" sz="2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e the workforce from the begin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Inform/explain  eg intran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Provide access to planning tools/ information (both for external and external markets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Diffuse mis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Make sure data collection takes into account diversity of workforce eg surveys vs focus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monstrate the benefits of participating in the process of workplace profil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ay fears of downsizing and going offshore if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olve line managers in the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lude employee representatives eg un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lossar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planning -The ongoing process of planning so business operators are able to remain in control of the direction a business takes, and to be able to effectively respond to issues as they aris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of choi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mployer who attracts, retains and motivates employees through factors such as reputation, development opportunities, work environment including facilities, work arrangements, recognition and reward and leadership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ion plann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ntification and tracking of employees potentially capable of filling other roles or higher level managerial positions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force planning-The process of forecasting workforce needs and determining the broad range of policies and systems that will create and sustain the workforce in line with business strategy.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cruitment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ing the right numbers and types of employ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Forecast the need for talent –variation in the market and factors likely to chan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dict the organisations grow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ad articles and summarise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erformance managemen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ing employe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roving employee contrib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ing employe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Identify employee potential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rganisations and employees capitalise on opportunities eg develop graduate programs and allowing gap year training overse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Training and development 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n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orkplace relatio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sues might be change management, expansion or downsizing, technological change, remuneration management, rewards systems, flexible work op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uccession planning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ing the necessary suitable employees to cover retirements and resignations, paternity le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Work/life balance issu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g offering paid parental leave or study leave  so that employees can pursue personal commitments  and thereby maximising usefulness of  employee skil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-480960"/>
            <a:ext cx="81630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lanning objectives and strategi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tuations which will require attention inclu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ifications to the number of workforce requi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tention  of the workfor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acceptably high staff turno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urcing skilled labo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orkforce planning RAF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07:08:39Z</dcterms:created>
  <dc:creator>Stephen Ford</dc:creator>
  <dc:description/>
  <dc:language>en-US</dc:language>
  <cp:lastModifiedBy>Stephen Ford</cp:lastModifiedBy>
  <dcterms:modified xsi:type="dcterms:W3CDTF">2009-04-26T23:12:27Z</dcterms:modified>
  <cp:revision>7</cp:revision>
  <dc:subject/>
  <dc:title>Manage workforce planning</dc:title>
</cp:coreProperties>
</file>