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5A2C-6B91-49A5-A1CF-E00A2106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C811-4B20-4793-ADBF-0886718F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E5E8-0CAE-41C3-9303-4404FF577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0828-BA91-47A0-A624-A79A6D5C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201F-8CFC-4D1F-B786-0CB04A4E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EABF8-0F96-435E-9383-6DD47630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E482-FF4F-441D-9EE3-A7358D4C7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E9B8-CCEC-45A1-AEFD-BC3ED206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1ED9-5BFF-4A6E-9390-1FD8BE18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120D-9E9C-437D-BB31-4566D0E8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52F4-2440-4974-B140-D95F3A14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943-1984-438F-AB43-F0FD7EC5F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2BB5-D995-48F8-B09F-99649C32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EB72-5511-4024-A667-CBF38CD0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3537-3940-414F-A784-2F9D9C9B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80B36-B74C-4717-9FE9-0585ED04F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1F1F-22C3-4F0C-B5BF-0E4307C2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F3E9-CD0A-42B1-B856-D2D34654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FF16-FFF0-42C4-B0C4-DF4CC9A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2A5C-BE0B-430E-BF28-404CDB25E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EB86-EC4D-41BA-914E-C3B9769B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5B0B-7911-406D-ABA7-712D22DD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DF6A-D9B5-49BB-B77C-947C0D4A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37D9-09AB-4554-ACDC-4F38D7FE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05BE-C008-44C8-AF34-1CC6183A677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6234-99D7-4766-86B5-5D71CE64C423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nage workforce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rkforce planning  interacts with other HR and management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61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ive some examples of these situation in the Illawarra or NS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me objectives may include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coming an employer of ch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pecific objectives for the organisation for recruitment, training, redeployment, 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riple bottom line (social, environmental, financial accountabilit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uilding business capa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’s growth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rganisational renew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implications of the aging workforce profi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resignation/ retirement patterns or mature aged  work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patterns of new/graduate entra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fin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e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432720"/>
            <a:ext cx="8163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ng workforce planning to stakeholders see Standard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r examp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e the workforce from the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form/explain  eg intra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ovide access to planning tools/ information (both for external and external market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iffuse mis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Make sure data collection takes into account diversity of workforce eg surveys vs focus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e the benefits of participating in the process of workplace prof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ay fears of downsizing and going offshore if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 line managers in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employee representatives eg un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ss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ning -The ongoing process of planning so business operators are able to remain in control of the direction a business takes, and to be able to effectively respond to issues as they ar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of cho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loyer who attracts, retains and motivates employees through factors such as reputation, development opportunities, work environment including facilities, work arrangements, recognition and reward and leadership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and tracking of employees potentially capable of filling other roles or higher level managerial position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planning-The process of forecasting workforce needs and determining the broad range of policies and systems that will create and sustain the workforce in line with business strateg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cruitment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ing the right numbers and types of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s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ad articles and summaris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ing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ing employee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ing employe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dentify employee potent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rganisations and employees capitalise on opportunities eg develop graduate programs and allowing gap year training overs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raining and developmen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place rel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s might be change management, expansion or downsizing, technological change, remuneration management, rewards systems, flexible work 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ion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the necessary suitable employees to cover retirements and resignations, paternity le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/life balance iss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 offering paid parental leave or study leave  so that employees can pursue personal commitments  and thereby maximising usefulness of  employee ski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-480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ning objectives and strateg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s which will require attention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ifications to the number of workforce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ention  of the work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acceptably high staff turn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ing skilled lab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7:08:39Z</dcterms:created>
  <dc:creator>Stephen Ford</dc:creator>
  <dc:description/>
  <dc:language>en-US</dc:language>
  <cp:lastModifiedBy>Stephen Ford</cp:lastModifiedBy>
  <dcterms:modified xsi:type="dcterms:W3CDTF">2009-04-26T23:12:27Z</dcterms:modified>
  <cp:revision>7</cp:revision>
  <dc:subject/>
  <dc:title>Manage workforce planning</dc:title>
</cp:coreProperties>
</file>