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9E5-0357-4C11-95E4-464630D9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094-A724-476E-92AC-00A69388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D69-7492-433C-835E-1DC254E3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A77-065D-4F3F-B21B-CBACB35D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6ACF-AE3A-4B59-86AB-59DB3EF3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1503-FCD7-42E3-9763-DFE331C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44AE-7ECC-4E5C-82FF-07FF7EF3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4868-BEBF-4C0A-8928-BF319C23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435F-1B18-4DC6-B159-3849B699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FCD2-355E-4C80-8893-058C6FAE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35E6-168F-4CB7-9488-6533706D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4F0-1AB7-427B-98FC-841EEC32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AB7C-133E-4030-BB58-FD3418D2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0D1E-D97A-4439-BA24-5004A85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28CB-584F-470A-9AD8-930714BE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747F-8A5C-4ED0-BC05-4829976A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41CE-AB60-44FA-A2C6-77CBC6A1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33B-BD38-4202-8F60-2F5FB99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F23-54D4-4C53-8F0D-DCC0FE0E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6F0-4FC0-45DF-A6DE-C619AB41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2CE-CC9E-4C43-826A-2B1740B2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FF7-0A14-49B5-914C-24E5E382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930-147D-415E-8D4B-9D89F9A7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6CC-54A6-4B1A-9795-1D3BEAED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A752-EA08-4041-880F-629681A544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75C1-301B-4599-B528-DD1FEF56E96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nage workforce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orkforce planning  interacts with other HR and management prac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61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ive some examples of these situation in the Illawarra or NS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me objectives may include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coming an employer of ch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pecific objectives for the organisation for recruitment, training, redeployment, 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riple bottom line (social, environmental, financial accountabilit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uilding business capabi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’s growth</a:t>
            </a:r>
            <a:br>
              <a:rPr sz="3200"/>
            </a:b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rganisational renew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implications of the aging workforce profi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resignation/ retirement patterns or mature aged  work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patterns of new/graduate entra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fin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e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432720"/>
            <a:ext cx="8163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mmunicating workforce planning to stakeholders see Standard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or exampl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e the workforce from the begi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form/explain  eg intra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Provide access to planning tools/ information (both for external and external market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Diffuse mis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Make sure data collection takes into account diversity of workforce eg surveys vs focus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onstrate the benefits of participating in the process of workplace prof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ay fears of downsizing and going offshore if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e line managers in the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 employee representatives eg un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loss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lanning -The ongoing process of planning so business operators are able to remain in control of the direction a business takes, and to be able to effectively respond to issues as they ar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of cho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loyer who attracts, retains and motivates employees through factors such as reputation, development opportunities, work environment including facilities, work arrangements, recognition and reward and leadership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on plann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and tracking of employees potentially capable of filling other roles or higher level managerial positions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planning-The process of forecasting workforce needs and determining the broad range of policies and systems that will create and sustain the workforce in line with business strategy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cruitment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ing the right numbers and types of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s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ad articles and summaris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formance manage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ing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roving employee contrib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ing employe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dentify employee potenti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rganisations and employees capitalise on opportunities eg develop graduate programs and allowing gap year training overs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raining and development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place rel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sues might be change management, expansion or downsizing, technological change, remuneration management, rewards systems, flexible work o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uccession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ing the necessary suitable employees to cover retirements and resignations, paternity le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/life balance issu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g offering paid parental leave or study leave  so that employees can pursue personal commitments  and thereby maximising usefulness of  employee ski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-480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ning objectives and strateg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tuations which will require attention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ifications to the number of workforce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ention  of the work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acceptably high staff turn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rcing skilled labo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7:08:39Z</dcterms:created>
  <dc:creator>Stephen Ford</dc:creator>
  <dc:description/>
  <dc:language>en-US</dc:language>
  <cp:lastModifiedBy>Stephen Ford</cp:lastModifiedBy>
  <dcterms:modified xsi:type="dcterms:W3CDTF">2009-04-26T23:12:27Z</dcterms:modified>
  <cp:revision>7</cp:revision>
  <dc:subject/>
  <dc:title>Manage workforce planning</dc:title>
</cp:coreProperties>
</file>