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06D-BD87-4ADD-A70B-22CCD612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765-54EB-4CA9-B77F-55BC7553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485-7B4D-4F52-80E8-D27CE74CA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A449-3AD7-450C-B69E-31FA6DB3E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F8E9-67AC-4E19-B564-CC7AA454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A9E1-6A19-4E8C-8A16-3D369995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4A6F-F3C8-4DFF-8202-41996AA0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E70C-D441-4422-8772-26BDF8A3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1470-C793-4F75-8886-1CCA421B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6D1A-D716-42A4-9569-8EA64673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3866-2D58-443D-B9DD-FE59DF20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D756-0321-4674-A3ED-5D9FBE9C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3F94-16A4-47E7-B42F-46347016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F318-0A3B-4922-874C-831CC70F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3DEB-DBDF-47FA-BAF7-9CF9C319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0650-6E57-446C-BC96-816B01EEC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9FFC-ADB6-4FC4-AE67-E52E5F86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ED6B-DE3D-4729-AF4D-3D2588A1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032C-9D2D-4107-97A5-32DA69EA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A035-EAA9-477F-B36C-07A39C13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D0D1-C77E-4AAD-9EBB-CD544FD3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DB66-A532-4F31-93C3-B3FCA05B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D29A-AAC1-4580-9354-F3A9AD54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234B-E940-4782-96C4-F733B9D00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C52C-C765-4C47-87E7-7932B8AC88B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7DF70-CDE9-469C-BA67-22C4314003B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6920"/>
            <a:ext cx="7678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nage workforce plan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workforce planning  interacts with other HR and management prac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61960"/>
            <a:ext cx="8163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ive some examples of these situation in the Illawarra or NS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ome objectives may include: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coming an employer of cho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pecific objectives for the organisation for recruitment, training, redeployment, redunda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triple bottom line (social, environmental, financial accountabilit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uilding business capabilit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Forecast the need for talent –variation in the market and factors likely to chang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dict the organisation’s growth</a:t>
            </a:r>
            <a:br>
              <a:rPr sz="3200"/>
            </a:b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rganisational renew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implications of the aging workforce profil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resignation/ retirement patterns or mature aged  work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patterns of new/graduate entra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efine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nda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eplo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432720"/>
            <a:ext cx="8163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ommunicating workforce planning to stakeholders see Standard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for exampl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e the workforce from the begi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Inform/explain  eg intra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Provide access to planning tools/ information (both for external and external market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Diffuse mis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Make sure data collection takes into account diversity of workforce eg surveys vs focus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monstrate the benefits of participating in the process of workplace prof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ay fears of downsizing and going offshore if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olve line managers in the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 employee representatives eg un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lossar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lanning -The ongoing process of planning so business operators are able to remain in control of the direction a business takes, and to be able to effectively respond to issues as they aris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of choi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mployer who attracts, retains and motivates employees through factors such as reputation, development opportunities, work environment including facilities, work arrangements, recognition and reward and leadership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ion plann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ntification and tracking of employees potentially capable of filling other roles or higher level managerial positions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orce planning-The process of forecasting workforce needs and determining the broad range of policies and systems that will create and sustain the workforce in line with business strategy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cruitment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ing the right numbers and types of employ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Forecast the need for talent –variation in the market and factors likely to 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dict the organisations grow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ad articles and summarise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erformance managemen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ing employ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roving employee contrib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ing employe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dentify employee potenti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rganisations and employees capitalise on opportunities eg develop graduate programs and allowing gap year training overs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raining and development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n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orkplace relat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sues might be change management, expansion or downsizing, technological change, remuneration management, rewards systems, flexible work op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uccession plan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ing the necessary suitable employees to cover retirements and resignations, paternity le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ork/life balance issu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g offering paid parental leave or study leave  so that employees can pursue personal commitments  and thereby maximising usefulness of  employee ski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-480960"/>
            <a:ext cx="8163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ning objectives and strategi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tuations which will require attention inclu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ifications to the number of workforce requi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tention  of the work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acceptably high staff turno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urcing skilled labo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7:08:39Z</dcterms:created>
  <dc:creator>Stephen Ford</dc:creator>
  <dc:description/>
  <dc:language>en-US</dc:language>
  <cp:lastModifiedBy>Stephen Ford</cp:lastModifiedBy>
  <dcterms:modified xsi:type="dcterms:W3CDTF">2009-04-26T23:12:27Z</dcterms:modified>
  <cp:revision>7</cp:revision>
  <dc:subject/>
  <dc:title>Manage workforce planning</dc:title>
</cp:coreProperties>
</file>