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1B33-F24E-45C3-B798-D97342DC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F785-B628-4122-83A3-21328A6B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FDF7-68B0-4A5F-8528-AEFFB5BF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DCCC-EF8F-49E1-BF55-3FC5591C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A641-3F1A-4920-A3C0-52F7D29E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4095-34B5-4F3D-B84A-91CD2263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2579-61B6-4210-B518-65FB39A2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9D3C-24DA-4358-8952-028AA413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392A-BC8C-48E4-929E-AC3AFB5A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0279-8BF6-4315-A84B-D348C187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42B5-9826-4048-AE0A-7233176A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0B82-066B-4A10-81EC-2549D226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AD23-A5D1-4549-84E2-DADAB890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B769-4C8F-4A46-BC04-3592CC18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5129-8776-4D59-809D-3D4A9C74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57E9-DE42-4D1C-BADE-EF610132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FB05-EF0C-42FD-9B3A-E509C195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6F70-592C-462E-B286-30B99BC4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3ADF-5108-41BE-9F8C-B840202E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F079-37A8-4D31-B29B-4C3D02B1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73A5-66CF-43E6-9DA7-FCD02276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5DD0-559C-4044-882F-7F8B95D1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4898-9C4B-41A3-B3F8-D4D2526D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EC0C-2F75-41F4-B2BB-CC1A17EA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E5E5-B85E-440B-9A40-4C6FFC4EFB6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C16C-9FF1-48CF-B84E-7C94EDD77A7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096920"/>
            <a:ext cx="7678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anage workforce plann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workforce planning  interacts with other HR and management practi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561960"/>
            <a:ext cx="8163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ive some examples of these situation in the Illawarra or NSW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ome objectives may include: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coming an employer of cho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pecific objectives for the organisation for recruitment, training, redeployment, redundan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triple bottom line (social, environmental, financial accountability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uilding business capabilit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Forecast the need for talent –variation in the market and factors likely to chang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dict the organisation’s growth</a:t>
            </a:r>
            <a:br>
              <a:rPr sz="3200"/>
            </a:b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Organisational renew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are the implications of the aging workforce profil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are the resignation/ retirement patterns or mature aged  work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are the patterns of new/graduate entra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efine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undan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eploy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432720"/>
            <a:ext cx="81630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ommunicating workforce planning to stakeholders see Standard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for example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e the workforce from the begin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Inform/explain  eg intran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Provide access to planning tools/ information (both for external and external market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Diffuse mis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Make sure data collection takes into account diversity of workforce eg surveys vs focus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monstrate the benefits of participating in the process of workplace prof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ay fears of downsizing and going offshore if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olve line managers in the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lude employee representatives eg un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lossary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planning -The ongoing process of planning so business operators are able to remain in control of the direction a business takes, and to be able to effectively respond to issues as they aris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r of choi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mployer who attracts, retains and motivates employees through factors such as reputation, development opportunities, work environment including facilities, work arrangements, recognition and reward and leadership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ion plannin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ntification and tracking of employees potentially capable of filling other roles or higher level managerial positions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force planning-The process of forecasting workforce needs and determining the broad range of policies and systems that will create and sustain the workforce in line with business strategy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cruitment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ing the right numbers and types of employe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Forecast the need for talent –variation in the market and factors likely to chan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dict the organisations grow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ad articles and summarise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erformance managemen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ing employe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roving employee contrib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ing employe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dentify employee potenti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rganisations and employees capitalise on opportunities eg develop graduate programs and allowing gap year training overse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raining and development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n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Workplace relatio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sues might be change management, expansion or downsizing, technological change, remuneration management, rewards systems, flexible work op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uccession plann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ing the necessary suitable employees to cover retirements and resignations, paternity lea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Work/life balance issu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g offering paid parental leave or study leave  so that employees can pursue personal commitments  and thereby maximising usefulness of  employee skil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-480960"/>
            <a:ext cx="8163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lanning objectives and strategi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tuations which will require attention inclu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ifications to the number of workforce requir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tention  of the workfor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acceptably high staff turno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urcing skilled labo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07:08:39Z</dcterms:created>
  <dc:creator>Stephen Ford</dc:creator>
  <dc:description/>
  <dc:language>en-US</dc:language>
  <cp:lastModifiedBy>Stephen Ford</cp:lastModifiedBy>
  <dcterms:modified xsi:type="dcterms:W3CDTF">2009-04-26T23:12:27Z</dcterms:modified>
  <cp:revision>7</cp:revision>
  <dc:subject/>
  <dc:title>Manage workforce planning</dc:title>
</cp:coreProperties>
</file>