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CD89-3C0C-4E90-B29B-B191ADF8D34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DD89-A012-4F05-8D03-E92FB7729AA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85A3-EF3A-4572-8A38-63A4ACECA8B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16E8-9553-45EE-B3A0-725C55A10EC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DC42-5085-489F-ADAE-968559C2AC4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A0E4-9C4C-42E2-8FEB-E37F84809E3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D8D8-8ACD-48FF-9CE5-9BCA28E52CF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3F02-D767-45F1-ABE7-0E20BC719C7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D4620-A792-4134-8F55-0AEA161FB3B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082B-6A9B-4666-A34A-84D30FC08A1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1BA7-919A-4739-8615-FE4EEDE3032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ABEE-9D9E-4A5D-A40B-856767754F6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D96E-E59B-42B4-B1D1-28AEC5ADD4B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D5D6-219B-4E71-A1E2-B4BDC92E866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006A-3A3D-4D79-9660-82F741BECC2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2253-C171-4140-AD18-F2D0B4810F2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6253-066B-41B8-956A-4B11B368EC2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9694-94D8-47F6-BD4C-047627D2E2B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977F-D745-4ED8-87F3-499783B2C0F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C8F9-1131-40B1-B69C-9B810C71D9B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35D6-1F38-47B5-B8F6-388504084CA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89AC7-8F2B-43B8-A86A-F5D6E4E1A41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1E5D-EED2-4794-A0DD-D62CC979371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8292-089B-4DDD-86C0-A2DD802E563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58A3-0250-4820-9063-4D8B2C3A495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3CC3-3496-4F80-8C46-17E9689FC91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FFED-CD51-4AA6-9EFD-413A6AEF513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D3F7-446C-40A3-95A4-51E5DED7EF1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A0FB-E81B-4337-BEBD-EDC5173E199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789E2-C091-4A4B-BC59-73ED5A2BC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F6D59-6A41-4834-9AEA-24ED6A9A1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2B163-1F58-4F32-B1E1-096CC88D0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66BA0-D380-4FC7-A34A-CF28B0E09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95A53-FB68-414F-B50E-19A290F73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F75BF-791B-403A-B8BE-0B5B06B74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90A02-C6CE-4F99-8E10-B3F24AFDF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35091-0AF9-4CC5-907F-F42CEF8C4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CB1ED-C3F2-4685-8394-52EC7211B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5ACC8-7CEF-4B54-9946-B9AF81EC8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70A64-E4FE-453C-8E99-4D3FD368C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B9CFB-F82B-4844-82A6-9049FE16A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C5DCD-C7AC-4003-9148-273F36C54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C5880-DEA0-4351-A3D9-3FE6149C9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24520-4160-4E0A-B0EB-84FAD4D97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15D91-CC10-4EDA-AEB7-0BC6B54863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88671-4AB8-4AC7-9005-DF9ABF6AD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895EB-8685-4362-9311-4D078A71C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E7353-14EB-4C36-A43E-5DFE5D536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AED54-F3EA-4C06-8A29-882C7A8A5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9045A-17CB-40EB-9E45-27DA0D9AE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75ED2-4880-4A9E-81A7-9C313A296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CAA5-B0AA-49C7-8442-28AA8C34B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6C8BA-7570-45AA-A5CD-6213E758E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46DE-F411-479A-B1A8-8AADA9AF991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220C-A6EC-49DD-850B-A301BE67692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FC20-5799-4339-B208-11692428E30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at is performance management? </a:t>
            </a:r>
            <a:endParaRPr b="0" lang="en-US" sz="4400" spc="-1" strike="noStrike">
              <a:solidFill>
                <a:srgbClr val="482400"/>
              </a:solidFill>
              <a:latin typeface="Times New Roman"/>
            </a:endParaRPr>
          </a:p>
        </p:txBody>
      </p:sp>
      <p:sp>
        <p:nvSpPr>
          <p:cNvPr id="97"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33B3-587E-49BA-BEFB-5AE1F88031D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Strengths</a:t>
            </a:r>
            <a:br>
              <a:rPr sz="4400"/>
            </a:b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7769160" cy="4113360"/>
          </a:xfrm>
          <a:prstGeom prst="rect">
            <a:avLst/>
          </a:prstGeom>
          <a:noFill/>
          <a:ln w="0">
            <a:noFill/>
          </a:ln>
        </p:spPr>
        <p:txBody>
          <a:bodyPr anchor="t">
            <a:normAutofit fontScale="92000"/>
          </a:bodyPr>
          <a:p>
            <a:pPr marL="315360" indent="-3153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teams know what is expected</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y get feedback</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ids in planning. Targets and target dates are set</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mproves communication</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akes individuals more aware of organisation’s goals</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ore equitable performance evaluation process-(not subjective)</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dentifies training needs</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mproves performance appraisal</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9B37-4F69-4D45-B3E4-6B1DF185BF6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eaknesses</a:t>
            </a:r>
            <a:br>
              <a:rPr sz="4400"/>
            </a:br>
            <a:endParaRPr b="0" lang="en-US" sz="4400" spc="-1" strike="noStrike">
              <a:solidFill>
                <a:srgbClr val="482400"/>
              </a:solidFill>
              <a:latin typeface="Times New Roman"/>
            </a:endParaRPr>
          </a:p>
        </p:txBody>
      </p:sp>
      <p:sp>
        <p:nvSpPr>
          <p:cNvPr id="128" name="PlaceHolder 2"/>
          <p:cNvSpPr>
            <a:spLocks noGrp="1"/>
          </p:cNvSpPr>
          <p:nvPr>
            <p:ph/>
          </p:nvPr>
        </p:nvSpPr>
        <p:spPr>
          <a:xfrm>
            <a:off x="1061640" y="1766880"/>
            <a:ext cx="7769160" cy="4113360"/>
          </a:xfrm>
          <a:prstGeom prst="rect">
            <a:avLst/>
          </a:prstGeom>
          <a:noFill/>
          <a:ln w="0">
            <a:noFill/>
          </a:ln>
        </p:spPr>
        <p:txBody>
          <a:bodyPr anchor="t">
            <a:normAutofit fontScale="85000"/>
          </a:bodyPr>
          <a:p>
            <a:pPr marL="291600" indent="-2916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itially requires considerable time and effor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raining needs for managers and staff in interpersonal skill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oal setting appears difficult at firs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oblems occur if others let you down in the completion of your goal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r goals are achieved by unethical mean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ails due to inadequate training/ explanation/ management suppor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taff often have the perception that it makes you work hard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0E98B-9351-475E-886D-86D38F864C2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82400"/>
                </a:solidFill>
                <a:latin typeface="Times New Roman"/>
              </a:rPr>
              <a:t>In summary its purpose then is to:</a:t>
            </a:r>
            <a:br>
              <a:rPr sz="3600"/>
            </a:br>
            <a:endParaRPr b="0" lang="en-US" sz="3600" spc="-1" strike="noStrike">
              <a:solidFill>
                <a:srgbClr val="482400"/>
              </a:solidFill>
              <a:latin typeface="Times New Roman"/>
            </a:endParaRPr>
          </a:p>
        </p:txBody>
      </p:sp>
      <p:sp>
        <p:nvSpPr>
          <p:cNvPr id="13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ink staff’s work with performance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tivate</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ncrease feedback on performance and result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evelops management potenti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107A-4494-4D91-A524-B81AF566F69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y are key performance indicators needed? </a:t>
            </a:r>
            <a:endParaRPr b="0" lang="en-US" sz="4400" spc="-1" strike="noStrike">
              <a:solidFill>
                <a:srgbClr val="482400"/>
              </a:solidFill>
              <a:latin typeface="Times New Roman"/>
            </a:endParaRPr>
          </a:p>
        </p:txBody>
      </p:sp>
      <p:sp>
        <p:nvSpPr>
          <p:cNvPr id="13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KPIs are needed to focus all the individuals in an organisation on the vital aspects of its operation in order to achieve its desired and often publicly stated results. KPIs can be used in a number of way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8D28-5091-454B-89CD-008DDB90180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7" name="PlaceHolder 2"/>
          <p:cNvSpPr>
            <a:spLocks noGrp="1"/>
          </p:cNvSpPr>
          <p:nvPr>
            <p:ph/>
          </p:nvPr>
        </p:nvSpPr>
        <p:spPr>
          <a:xfrm>
            <a:off x="609480" y="609120"/>
            <a:ext cx="7772400" cy="5867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 To assess the current performance level of an organis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 To support a framework within an organisation that will foster best practic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3. To focus effort on particular areas of the organis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 To empower employees to make decisions and take appropriate ac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5. To underpin performance standards and objectives for the next business cycl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 To produce consistent and reliable management information on which to base decisio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7. To provide data on which to base training and development activiti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8. To identify areas in which interventions need to be mad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9. To identify and define new organisational purposes or directio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0. To provide criteria for job evalu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6CE8-D0D4-4FB8-B2F0-464AA7EDDC2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Common reasons why KPIs are developed</a:t>
            </a:r>
            <a:endParaRPr b="0" lang="en-US" sz="4400" spc="-1" strike="noStrike">
              <a:solidFill>
                <a:srgbClr val="482400"/>
              </a:solidFill>
              <a:latin typeface="Times New Roman"/>
            </a:endParaRPr>
          </a:p>
        </p:txBody>
      </p:sp>
      <p:sp>
        <p:nvSpPr>
          <p:cNvPr id="140"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Process improvement</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Benchmark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Strategic and business plann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Enterprise bargain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New remuneration system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Supporting the introduction of self-managed team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Black"/>
              </a:rPr>
              <a:t>Increasing productivity</a:t>
            </a:r>
            <a:r>
              <a:rPr b="0" lang="en-A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C83E-51CF-4A43-8645-25AAB30D40F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Steps in developing key performance indicators</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243F-3F01-4CB6-BDF6-87F709B2CEB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482400"/>
                </a:solidFill>
                <a:latin typeface="Arial Black"/>
              </a:rPr>
              <a:t>Step 1 Gather existing data</a:t>
            </a:r>
            <a:br>
              <a:rPr sz="3200"/>
            </a:br>
            <a:endParaRPr b="0" lang="en-US" sz="3200" spc="-1" strike="noStrike">
              <a:solidFill>
                <a:srgbClr val="482400"/>
              </a:solidFill>
              <a:latin typeface="Times New Roman"/>
            </a:endParaRPr>
          </a:p>
        </p:txBody>
      </p:sp>
      <p:sp>
        <p:nvSpPr>
          <p:cNvPr id="14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Identify and gather copies of the organisation</a:t>
            </a:r>
            <a:r>
              <a:rPr b="0" lang="en-AU" sz="3200" spc="-1" strike="noStrike">
                <a:solidFill>
                  <a:srgbClr val="000000"/>
                </a:solidFill>
                <a:latin typeface="Times New Roman"/>
              </a:rPr>
              <a:t>’</a:t>
            </a:r>
            <a:r>
              <a:rPr b="0" lang="en-AU" sz="3200" spc="-1" strike="noStrike">
                <a:solidFill>
                  <a:srgbClr val="000000"/>
                </a:solidFill>
                <a:latin typeface="Arial Black"/>
              </a:rPr>
              <a:t>s vision, mission and values statements.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Review the organisation</a:t>
            </a:r>
            <a:r>
              <a:rPr b="0" lang="en-AU" sz="3200" spc="-1" strike="noStrike">
                <a:solidFill>
                  <a:srgbClr val="000000"/>
                </a:solidFill>
                <a:latin typeface="Times New Roman"/>
              </a:rPr>
              <a:t>’</a:t>
            </a:r>
            <a:r>
              <a:rPr b="0" lang="en-AU" sz="3200" spc="-1" strike="noStrike">
                <a:solidFill>
                  <a:srgbClr val="000000"/>
                </a:solidFill>
                <a:latin typeface="Arial Black"/>
              </a:rPr>
              <a:t>s strategic plan and the critical success factors that are contained in the strategic plan.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Establish priorit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03DE-C6CF-414D-8F59-C1435C5A09D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2 Understand the critical success fac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Understand the CSF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Identify why they are important and how they fit into the strategic and operational plans of the organisation.</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248B-D790-4F3C-AC4C-F7E1666E690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3 Draft the key performance indica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Draft between 5-7 KPIs for your area of responsibility that can be directly linked to the CSF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Involve staff.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91DF-F3B5-42B8-9735-F4D9465B5EA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appraisal </a:t>
            </a: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ossibly piecemeal formal or informal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ay be unfair depending on how conducted</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ay link to remuneration</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Feedback</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ool for training and development and improvemen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1 review per year- often separate from operational plan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AD5E-162D-4253-A96F-B89EAD545D4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82400"/>
                </a:solidFill>
                <a:latin typeface="Arial Black"/>
              </a:rPr>
              <a:t>Step 4 Check that the KPIs fit with the organisational objectives</a:t>
            </a:r>
            <a:br>
              <a:rPr sz="2800"/>
            </a:br>
            <a:endParaRPr b="0" lang="en-US" sz="2800" spc="-1" strike="noStrike">
              <a:solidFill>
                <a:srgbClr val="482400"/>
              </a:solidFill>
              <a:latin typeface="Times New Roman"/>
            </a:endParaRPr>
          </a:p>
        </p:txBody>
      </p:sp>
      <p:sp>
        <p:nvSpPr>
          <p:cNvPr id="15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Check that KPIs fit with the strategic and operational objectives of the organisation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Are they are clear enough for staff to develop team or work group KPIs for their are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884B-4F61-41A6-9E68-1D51F9F733E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5 Adopt the key performance indica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Adopt them.</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Disseminate them and expose widely to staff.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7998-B997-4ED6-9937-6B36537EEEC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Black"/>
              </a:rPr>
              <a:t>We also need to look at the Critical success factors (CSFs) for the planning cycle.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Black"/>
              </a:rPr>
              <a:t>CSFs indicate the factors that must go well for its success i.e. areas that must do well or have special attention.</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CB2E-A826-40F7-A460-E6904D3C858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82400"/>
                </a:solidFill>
                <a:latin typeface="Arial Black"/>
              </a:rPr>
              <a:t>A key performance indicator is usually written from the point of view of the means or actions having been completed</a:t>
            </a:r>
            <a:endParaRPr b="0" lang="en-US" sz="2400" spc="-1" strike="noStrike">
              <a:solidFill>
                <a:srgbClr val="482400"/>
              </a:solidFill>
              <a:latin typeface="Times New Roman"/>
            </a:endParaRPr>
          </a:p>
        </p:txBody>
      </p:sp>
      <p:sp>
        <p:nvSpPr>
          <p:cNvPr id="16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Black"/>
                <a:ea typeface="Arial"/>
              </a:rPr>
              <a:t>An organizational plan focuses on the mea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Means (how do you get to the end result?) eg Developing new PR materials for distribu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Ends (the end result) e.g.% increase of public awareness of the Org</a:t>
            </a:r>
            <a:r>
              <a:rPr b="1" lang="en-AU" sz="2800" spc="-1" strike="noStrike">
                <a:solidFill>
                  <a:srgbClr val="000000"/>
                </a:solidFill>
                <a:latin typeface="Times New Roman"/>
                <a:ea typeface="Arial"/>
              </a:rPr>
              <a:t>’</a:t>
            </a:r>
            <a:r>
              <a:rPr b="1" lang="en-AU" sz="2800" spc="-1" strike="noStrike">
                <a:solidFill>
                  <a:srgbClr val="000000"/>
                </a:solidFill>
                <a:latin typeface="Arial Black"/>
                <a:ea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Rectangle 4"/>
          <p:cNvSpPr/>
          <p:nvPr/>
        </p:nvSpPr>
        <p:spPr>
          <a:xfrm>
            <a:off x="685800" y="2057400"/>
            <a:ext cx="7315200" cy="411120"/>
          </a:xfrm>
          <a:prstGeom prst="rect">
            <a:avLst/>
          </a:prstGeom>
          <a:noFill/>
          <a:ln w="0">
            <a:noFill/>
          </a:ln>
        </p:spPr>
        <p:style>
          <a:lnRef idx="0"/>
          <a:fillRef idx="0"/>
          <a:effectRef idx="0"/>
          <a:fontRef idx="minor"/>
        </p:style>
        <p:txBody>
          <a:bodyPr lIns="90000" rIns="-57132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4F02-9D97-4251-B7FE-5D7D34FC4CC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at is performance ?</a:t>
            </a: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lates to carrying out a work task, duty or objective.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re is an implication that it is carried out to a satisfactory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3185-A00A-441F-8735-900DB3B0DF5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482400"/>
              </a:solidFill>
              <a:latin typeface="Times New Roman"/>
            </a:endParaRPr>
          </a:p>
        </p:txBody>
      </p:sp>
      <p:sp>
        <p:nvSpPr>
          <p:cNvPr id="17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puts  -skills, knowledge and expertise which individuals have and which they apply to their work processes- behaviours that individuals exhibit while doing their job</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utputs- specific, measurable results that the individuals achiev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ctions are the means through which individuals perfor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includ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765C-D357-4118-9F08-951DA4D92DD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482400"/>
                </a:solidFill>
                <a:latin typeface="Times New Roman"/>
              </a:rPr>
              <a:t>Performance standards written to reflect</a:t>
            </a:r>
            <a:r>
              <a:rPr b="0" lang="en-AU" sz="4400" spc="-1" strike="noStrike">
                <a:solidFill>
                  <a:srgbClr val="482400"/>
                </a:solidFill>
                <a:latin typeface="Times New Roman"/>
              </a:rPr>
              <a:t> </a:t>
            </a:r>
            <a:br>
              <a:rPr sz="4400"/>
            </a:b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hy does the job exis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hat does the org'n require of me in the next peri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04C62-C12B-4134-AE87-AC24B329132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Advantages</a:t>
            </a:r>
            <a:br>
              <a:rPr sz="4400"/>
            </a:br>
            <a:endParaRPr b="0" lang="en-US" sz="4400" spc="-1" strike="noStrike">
              <a:solidFill>
                <a:srgbClr val="482400"/>
              </a:solidFill>
              <a:latin typeface="Times New Roman"/>
            </a:endParaRPr>
          </a:p>
        </p:txBody>
      </p:sp>
      <p:sp>
        <p:nvSpPr>
          <p:cNvPr id="17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tivating</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nfidence to do job</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mprove in the job</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atisfaction from a job well don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irects energy</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elf motivat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5C9A-0885-4D9B-BBD3-7D31970C282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ithout  </a:t>
            </a:r>
            <a:br>
              <a:rPr sz="4400"/>
            </a:br>
            <a:endParaRPr b="0" lang="en-US" sz="4400" spc="-1" strike="noStrike">
              <a:solidFill>
                <a:srgbClr val="482400"/>
              </a:solidFill>
              <a:latin typeface="Times New Roman"/>
            </a:endParaRPr>
          </a:p>
        </p:txBody>
      </p:sp>
      <p:sp>
        <p:nvSpPr>
          <p:cNvPr id="18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isdirected</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No effort</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Uncaring about wor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oss of interest</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ack of autonomy</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d job satisfaction perhaps safe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B99C-F599-48EB-A2AF-F830FBD50BA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Definition of performance standards </a:t>
            </a: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 standard should be measurable, which means it can be seen, heard and or counted. </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 performance standard is a specific statement of result with a measure of that result </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g </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no errors in wages        </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rough put of work from 15-18 files per da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E670-2984-441B-8BCE-FB5DD78020A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482400"/>
                </a:solidFill>
                <a:latin typeface="Times New Roman"/>
              </a:rPr>
              <a:t>Performance management</a:t>
            </a:r>
            <a:br>
              <a:rPr sz="4400"/>
            </a:br>
            <a:endParaRPr b="0" lang="en-US" sz="4400" spc="-1" strike="noStrike">
              <a:solidFill>
                <a:srgbClr val="482400"/>
              </a:solidFill>
              <a:latin typeface="Times New Roman"/>
            </a:endParaRPr>
          </a:p>
        </p:txBody>
      </p:sp>
      <p:sp>
        <p:nvSpPr>
          <p:cNvPr id="10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Benefits of performance managemen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lationship between Strategic and operational plans and individual performance pla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CE61-E50D-475E-AB3E-CA5AABCEE19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Standard formula    </a:t>
            </a:r>
            <a:br>
              <a:rPr sz="4400"/>
            </a:br>
            <a:endParaRPr b="0" lang="en-US" sz="4400" spc="-1" strike="noStrike">
              <a:solidFill>
                <a:srgbClr val="482400"/>
              </a:solidFill>
              <a:latin typeface="Times New Roman"/>
            </a:endParaRPr>
          </a:p>
        </p:txBody>
      </p:sp>
      <p:sp>
        <p:nvSpPr>
          <p:cNvPr id="18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S =R+M   Result + Measur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 the number of errors in daily processing from the current level of 54 daily average to 20 daily a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 the number of telephone calls relating to processing from 15% to 7% of total cal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BEC4-266F-4B2C-99B4-00721CD4A77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rinciples of setting standards </a:t>
            </a:r>
            <a:endParaRPr b="0" lang="en-US" sz="4400" spc="-1" strike="noStrike">
              <a:solidFill>
                <a:srgbClr val="482400"/>
              </a:solidFill>
              <a:latin typeface="Times New Roman"/>
            </a:endParaRPr>
          </a:p>
        </p:txBody>
      </p:sp>
      <p:sp>
        <p:nvSpPr>
          <p:cNvPr id="190" name="PlaceHolder 2"/>
          <p:cNvSpPr>
            <a:spLocks noGrp="1"/>
          </p:cNvSpPr>
          <p:nvPr>
            <p:ph/>
          </p:nvPr>
        </p:nvSpPr>
        <p:spPr>
          <a:xfrm>
            <a:off x="1061640" y="1766880"/>
            <a:ext cx="7769160" cy="4113360"/>
          </a:xfrm>
          <a:prstGeom prst="rect">
            <a:avLst/>
          </a:prstGeom>
          <a:noFill/>
          <a:ln w="0">
            <a:noFill/>
          </a:ln>
        </p:spPr>
        <p:txBody>
          <a:bodyPr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Validity</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greement</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alism</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tretching</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lear definition</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easurability</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mitation</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nkages</a:t>
            </a:r>
            <a:endParaRPr b="0" lang="en-US" sz="2800" spc="-1" strike="noStrike">
              <a:solidFill>
                <a:srgbClr val="000000"/>
              </a:solidFill>
              <a:latin typeface="Times New Roman"/>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69D3-28C9-4469-B3E2-7C82BE564A4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82400"/>
                </a:solidFill>
                <a:latin typeface="Times New Roman"/>
              </a:rPr>
              <a:t>What skill does the manager need?</a:t>
            </a:r>
            <a:r>
              <a:rPr b="0" lang="en-AU" sz="4400" spc="-1" strike="noStrike">
                <a:solidFill>
                  <a:srgbClr val="482400"/>
                </a:solidFill>
                <a:latin typeface="Times New Roman"/>
              </a:rPr>
              <a:t> </a:t>
            </a:r>
            <a:br>
              <a:rPr sz="4400"/>
            </a:br>
            <a:endParaRPr b="0" lang="en-US" sz="4400" spc="-1" strike="noStrike">
              <a:solidFill>
                <a:srgbClr val="482400"/>
              </a:solidFill>
              <a:latin typeface="Times New Roman"/>
            </a:endParaRPr>
          </a:p>
        </p:txBody>
      </p:sp>
      <p:sp>
        <p:nvSpPr>
          <p:cNvPr id="193" name="PlaceHolder 2"/>
          <p:cNvSpPr>
            <a:spLocks noGrp="1"/>
          </p:cNvSpPr>
          <p:nvPr>
            <p:ph/>
          </p:nvPr>
        </p:nvSpPr>
        <p:spPr>
          <a:xfrm>
            <a:off x="1061640" y="1766880"/>
            <a:ext cx="7769160" cy="411336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unication and supervisory</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unication skills written and oral</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eedback</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stening, counselling, coaching, paraphrasing, reflecting, problem solving</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nflict resolution, mediation, interpersonal skill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n the job training</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    Developmental opportunities, deleg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14B9-5A94-463F-9859-54A86E1DE85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2 main purposes of operational plans</a:t>
            </a:r>
            <a:br>
              <a:rPr sz="2400"/>
            </a:br>
            <a:endParaRPr b="0" lang="en-US" sz="2800" spc="-1" strike="noStrike">
              <a:solidFill>
                <a:srgbClr val="482400"/>
              </a:solidFill>
              <a:latin typeface="Times New Roman"/>
            </a:endParaRPr>
          </a:p>
        </p:txBody>
      </p:sp>
      <p:sp>
        <p:nvSpPr>
          <p:cNvPr id="10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et out how strategic objectives will be achieved</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rovide a starting point if strategy needs to change/ respond quickly to various changes which affect the business from time to ti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7C0C-CEE0-4F97-95D5-8902F9C4AF4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Role of operational plans in performance management</a:t>
            </a:r>
            <a:br>
              <a:rPr sz="2800"/>
            </a:br>
            <a:endParaRPr b="0" lang="en-US" sz="2800" spc="-1" strike="noStrike">
              <a:solidFill>
                <a:srgbClr val="482400"/>
              </a:solidFill>
              <a:latin typeface="Times New Roman"/>
            </a:endParaRPr>
          </a:p>
        </p:txBody>
      </p:sp>
      <p:sp>
        <p:nvSpPr>
          <p:cNvPr id="10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trategic plans are implemented through operational plans which are implemented through performance objectives or standards of staff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Rectangle 4"/>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2876-E438-4405-B84F-26864F26D49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History of performance management</a:t>
            </a:r>
            <a:br>
              <a:rPr sz="2800"/>
            </a:br>
            <a:endParaRPr b="0" lang="en-US" sz="2800" spc="-1" strike="noStrike">
              <a:solidFill>
                <a:srgbClr val="482400"/>
              </a:solidFill>
              <a:latin typeface="Times New Roman"/>
            </a:endParaRPr>
          </a:p>
        </p:txBody>
      </p:sp>
      <p:sp>
        <p:nvSpPr>
          <p:cNvPr id="11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BO-Management by objectives- takes advantage of theory Y- people’s willingness to work.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99E8-9191-49BC-A30E-9E691EB5B1E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trategic plans are implemented through operational plans which are implemented through performance objectives or standards of staff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C1B8-A6D8-47D7-A18A-19962BD201E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Early Performance Management was known as Management by objectives</a:t>
            </a:r>
            <a:endParaRPr b="0" lang="en-US" sz="4000" spc="-1" strike="noStrike">
              <a:solidFill>
                <a:srgbClr val="482400"/>
              </a:solidFill>
              <a:latin typeface="Times New Roman"/>
            </a:endParaRPr>
          </a:p>
        </p:txBody>
      </p:sp>
      <p:sp>
        <p:nvSpPr>
          <p:cNvPr id="11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BO is a total management system in which superiors and subordinates set and agree upon specific objectives to be accomplished within a set time frame for which  the subordinates are directly accountab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D63E-2595-4BA2-8F1C-D2BD38A870A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MBO systems have the following</a:t>
            </a:r>
            <a:br>
              <a:rPr sz="4400"/>
            </a:br>
            <a:endParaRPr b="0" lang="en-US" sz="4400" spc="-1" strike="noStrike">
              <a:solidFill>
                <a:srgbClr val="482400"/>
              </a:solidFill>
              <a:latin typeface="Times New Roman"/>
            </a:endParaRPr>
          </a:p>
        </p:txBody>
      </p:sp>
      <p:sp>
        <p:nvSpPr>
          <p:cNvPr id="12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itment to the program</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op level goal setting</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 goals which are realistic</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articipation and mutual goal setting</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are autonomous in implementing their plan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view of performance (periodic review with concrete measurement of goals and resolution of problem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22:03:50Z</dcterms:created>
  <dc:creator>Stephen Ford</dc:creator>
  <dc:description/>
  <dc:language>en-US</dc:language>
  <cp:lastModifiedBy>Steve Ford</cp:lastModifiedBy>
  <dcterms:modified xsi:type="dcterms:W3CDTF">2010-02-08T20:53:35Z</dcterms:modified>
  <cp:revision>4</cp:revision>
  <dc:subject/>
  <dc:title>What is performance management? </dc:title>
</cp:coreProperties>
</file>